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C54-07E4-458B-AE46-3A9A7980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746-79D5-45E3-8063-EC1FA09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441-9689-429F-A5FD-E4214E6F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51A-14DD-4943-8D43-733E1C4C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20A-1F5A-4911-9E42-FB9597CD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DE9-CC1C-4265-924D-01436AF2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58B-74B2-4A5E-9C61-1E9EBACF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544-F377-4F65-B172-AC0B1FC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79F-A6FD-450D-97EE-CBB035E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C56-7412-45F4-BDFC-F7BB346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D3F-7B10-4CBD-A20F-7BFCC83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FD1-67B3-4152-B58E-5CCA0B3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</a:pPr>
            <a:fld id="{A949D3A5-C715-4D15-94AF-78C0DED23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2:09:12Z</dcterms:created>
  <dc:creator>www.eeppt.com; An</dc:creator>
  <dc:description>ppt模板下载网站 http://www.eeppt.com</dc:description>
  <dc:language>en-US</dc:language>
  <cp:lastModifiedBy/>
  <dcterms:modified xsi:type="dcterms:W3CDTF">2015-05-27T15:20:49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