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5.jpeg" ContentType="image/jpeg"/>
  <Override PartName="/ppt/media/image14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2.jpeg" ContentType="image/jpeg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77B-D964-41BD-A4D7-588125D9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80A-E9DE-4ED4-A0A7-AC2B1DB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657-B15A-4667-8357-53A2A8DF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812-FC66-4DBD-90A6-7F41DA2F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912-BDBB-437B-8A00-FEC8796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0FE-A724-4074-B98D-69BA30A4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538-C866-42F6-B860-2447894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CEE-255F-44B5-91A2-608696A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065-BE18-41EB-9CF9-58DED93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FBD-D194-4615-B614-3EA3456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DC0-5E6C-46BB-B413-318E26B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226-3561-4C86-BB5E-D5BC4E9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DC2-A10F-47AA-A4D7-05DA601E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u=2013697164,2697249968&amp;gp=0"/>
          <p:cNvPicPr/>
          <p:nvPr/>
        </p:nvPicPr>
        <p:blipFill>
          <a:blip r:embed="rId1"/>
          <a:stretch/>
        </p:blipFill>
        <p:spPr>
          <a:xfrm>
            <a:off x="0" y="2685960"/>
            <a:ext cx="6588000" cy="4172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0" y="333360"/>
            <a:ext cx="64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00"/>
                </a:solidFill>
                <a:latin typeface="Arial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华文行楷"/>
              </a:rPr>
              <a:t>皇帝的新装</a:t>
            </a:r>
            <a:r>
              <a:rPr b="1" lang="en-US" sz="4800" spc="-1" strike="noStrike">
                <a:solidFill>
                  <a:srgbClr val="e40000"/>
                </a:solidFill>
                <a:latin typeface="Arial"/>
                <a:ea typeface="华文行楷"/>
              </a:rPr>
              <a:t>》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（ 丹麦）     安徒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gif002"/>
          <p:cNvPicPr/>
          <p:nvPr/>
        </p:nvPicPr>
        <p:blipFill>
          <a:blip r:embed="rId2"/>
          <a:stretch/>
        </p:blipFill>
        <p:spPr>
          <a:xfrm>
            <a:off x="6948360" y="4005360"/>
            <a:ext cx="18352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0041289545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619280" y="765000"/>
            <a:ext cx="43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  <a:ea typeface="华文彩云"/>
              </a:rPr>
              <a:t>合作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049720" y="259092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24000" y="20606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皇帝的新装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一文中，是谁在钓鱼？他想钓哪条鱼？他用的的鱼饵又是什么？最后又是谁把丝线剪断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95280" y="50846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请大家扛着这根钓鱼杆，默读课文，寻找答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gif031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6108480" y="333360"/>
            <a:ext cx="91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请皇帝、骗子、小孩上台准备接受大家的评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20041289432244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3675240" y="1189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彩云"/>
              </a:rPr>
              <a:t>续写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843280" y="3284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隶书"/>
              </a:rPr>
              <a:t>游行大典结束了，可这个故事并没有结束，猜一猜，后来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太阳花"/>
          <p:cNvPicPr/>
          <p:nvPr/>
        </p:nvPicPr>
        <p:blipFill>
          <a:blip r:embed="rId1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1403280" y="765000"/>
            <a:ext cx="63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  <a:ea typeface="方正舒体"/>
              </a:rPr>
              <a:t>    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方正舒体"/>
              </a:rPr>
              <a:t>你知道“指鹿为马”这个成语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boy2-3"/>
          <p:cNvPicPr/>
          <p:nvPr/>
        </p:nvPicPr>
        <p:blipFill>
          <a:blip r:embed="rId2"/>
          <a:stretch/>
        </p:blipFill>
        <p:spPr>
          <a:xfrm>
            <a:off x="0" y="0"/>
            <a:ext cx="16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tdex8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2133720" y="1828800"/>
            <a:ext cx="496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你学到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什么？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gif073"/>
          <p:cNvPicPr/>
          <p:nvPr/>
        </p:nvPicPr>
        <p:blipFill>
          <a:blip r:embed="rId2"/>
          <a:stretch/>
        </p:blipFill>
        <p:spPr>
          <a:xfrm>
            <a:off x="468360" y="260280"/>
            <a:ext cx="2592360" cy="2497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71640" y="6165720"/>
            <a:ext cx="562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2484360" cy="2166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3203640" y="76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ff"/>
                </a:solidFill>
                <a:latin typeface="Arial"/>
                <a:ea typeface="隶书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124000" y="2637000"/>
            <a:ext cx="60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完成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每课一练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第二部分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探究与体验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的阅读部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预习新课文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天上的街市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中秋5"/>
          <p:cNvPicPr/>
          <p:nvPr/>
        </p:nvPicPr>
        <p:blipFill>
          <a:blip r:embed="rId1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3718080" y="16286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Arial"/>
                <a:ea typeface="方正舒体"/>
              </a:rPr>
              <a:t>谢谢各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959760" y="4149720"/>
            <a:ext cx="42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Monotype Corsiva"/>
              </a:rPr>
              <a:t>BYE   BYE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图片3"/>
          <p:cNvPicPr/>
          <p:nvPr/>
        </p:nvPicPr>
        <p:blipFill>
          <a:blip r:embed="rId5"/>
          <a:stretch/>
        </p:blipFill>
        <p:spPr>
          <a:xfrm>
            <a:off x="6443640" y="3933720"/>
            <a:ext cx="2495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08443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2:12:29Z</dcterms:created>
  <dc:creator>www.eeppt.com; An</dc:creator>
  <dc:description>ppt模板下载网站 http://www.eeppt.com</dc:description>
  <dc:language>en-US</dc:language>
  <cp:lastModifiedBy/>
  <dcterms:modified xsi:type="dcterms:W3CDTF">2015-05-27T15:34:1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