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075-5C94-4D53-995A-B145F869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B9E9-7B35-45A9-A63D-C3686909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03B2-2442-48D3-AF88-2B5CB882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002-F986-4FED-93BF-4394D89B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2D7-403A-4DD5-BB00-E6AF5584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8E0-BE3D-433E-85BE-19BA2805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B668-C8D3-4D4D-857C-4520F10D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B92-6C64-4B45-A3C8-B7AD4CC8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E434-7993-4CAA-9005-E8CDEA90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36A-3015-439D-A069-A1333BAB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F6F-740D-4A95-9B2C-599E6A8B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C4A1-39D7-4AE7-A226-E33CC67E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E12-CC3F-4262-B94B-9A2C092A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1.jpe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25360" y="4508640"/>
            <a:ext cx="208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ZG329-01"/>
          <p:cNvPicPr/>
          <p:nvPr/>
        </p:nvPicPr>
        <p:blipFill>
          <a:blip r:embed="rId14"/>
          <a:stretch/>
        </p:blipFill>
        <p:spPr>
          <a:xfrm>
            <a:off x="-533520" y="-1219320"/>
            <a:ext cx="10515600" cy="9579240"/>
          </a:xfrm>
          <a:prstGeom prst="rect">
            <a:avLst/>
          </a:prstGeom>
          <a:ln w="0">
            <a:noFill/>
          </a:ln>
        </p:spPr>
      </p:pic>
      <p:pic>
        <p:nvPicPr>
          <p:cNvPr id="43" name="WordArt 3" descr=""/>
          <p:cNvPicPr/>
          <p:nvPr/>
        </p:nvPicPr>
        <p:blipFill>
          <a:blip r:embed="rId15"/>
          <a:stretch/>
        </p:blipFill>
        <p:spPr>
          <a:xfrm>
            <a:off x="1763640" y="1270080"/>
            <a:ext cx="5254560" cy="1670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2400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200-a"/>
          <p:cNvPicPr/>
          <p:nvPr/>
        </p:nvPicPr>
        <p:blipFill>
          <a:blip r:embed="rId1"/>
          <a:stretch/>
        </p:blipFill>
        <p:spPr>
          <a:xfrm>
            <a:off x="0" y="120600"/>
            <a:ext cx="9144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ic090边框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2590920" y="251460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再  见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shengri[1].mp3" descr=""/>
          <p:cNvPicPr/>
          <p:nvPr/>
        </p:nvPicPr>
        <p:blipFill>
          <a:blip r:embed="rId1"/>
          <a:stretch/>
        </p:blipFill>
        <p:spPr>
          <a:xfrm>
            <a:off x="533520" y="5638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183-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6"/>
          <p:cNvSpPr txBox="1"/>
          <p:nvPr/>
        </p:nvSpPr>
        <p:spPr>
          <a:xfrm>
            <a:off x="3200400" y="380880"/>
            <a:ext cx="32767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07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生日歌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桃花"/>
          <p:cNvPicPr/>
          <p:nvPr/>
        </p:nvPicPr>
        <p:blipFill>
          <a:blip r:embed="rId1"/>
          <a:stretch/>
        </p:blipFill>
        <p:spPr>
          <a:xfrm>
            <a:off x="-114300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970920" y="141444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880" y="363600"/>
            <a:ext cx="210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f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3809160" y="457200"/>
            <a:ext cx="4449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ù   xióng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布     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10920" y="3352680"/>
            <a:ext cx="2102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ku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ài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快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3887280" y="3276720"/>
            <a:ext cx="164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Times New Roman"/>
              </a:rPr>
              <a:t>z</a:t>
            </a:r>
            <a:r>
              <a:rPr b="1" lang="en-US" sz="8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ĕ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3103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</a:rPr>
              <a:t>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114800" y="5943600"/>
            <a:ext cx="21337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6"/>
          <p:cNvSpPr/>
          <p:nvPr/>
        </p:nvSpPr>
        <p:spPr>
          <a:xfrm>
            <a:off x="4191120" y="3048120"/>
            <a:ext cx="304776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2333160" y="44956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cc"/>
                </a:solidFill>
                <a:latin typeface="Times New Roman"/>
              </a:rPr>
              <a:t>乐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066680" y="6019920"/>
            <a:ext cx="1981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2" descr="Idioms7"/>
          <p:cNvPicPr/>
          <p:nvPr/>
        </p:nvPicPr>
        <p:blipFill>
          <a:blip r:embed="rId1"/>
          <a:stretch/>
        </p:blipFill>
        <p:spPr>
          <a:xfrm>
            <a:off x="0" y="-23976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"/>
          <p:cNvSpPr/>
          <p:nvPr/>
        </p:nvSpPr>
        <p:spPr>
          <a:xfrm>
            <a:off x="0" y="38088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  ché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 xi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ăo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x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ĭng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l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 y</a:t>
            </a:r>
            <a:r>
              <a:rPr b="0" lang="en-US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早   晨，小  云  醒   来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 zhĕn  tou biān  fàng  zhe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ì</a:t>
            </a:r>
            <a:r>
              <a:rPr b="0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看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,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枕     头   边    放     着  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hī kĕ  ài  de  bù  xió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只  可 爱 的  布    熊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dioms7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53352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 ma zŏu guò lái zhù xiá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走   过  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祝   小   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ku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i 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  xiăo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ún</a:t>
            </a:r>
            <a:r>
              <a:rPr b="0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èn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生  日 快    乐。小   云  问  妈  妈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ín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ĕn me cóng l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 bù guò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h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ēng r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您  怎  么    从   来  不 过    生   日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ā ma  xi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o zhe shuō  w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ŏ w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àng 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妈  妈    笑   着   说：“我   忘   了 。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153280" y="4114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6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"/>
          <p:cNvSpPr/>
          <p:nvPr/>
        </p:nvSpPr>
        <p:spPr>
          <a:xfrm>
            <a:off x="5334120" y="6324480"/>
            <a:ext cx="259056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1203_a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14-a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771-a"/>
          <p:cNvPicPr/>
          <p:nvPr/>
        </p:nvPicPr>
        <p:blipFill>
          <a:blip r:embed="rId1"/>
          <a:stretch/>
        </p:blipFill>
        <p:spPr>
          <a:xfrm>
            <a:off x="-685800" y="57240"/>
            <a:ext cx="1028700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95-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2286000" y="2835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9T03:59:24Z</dcterms:created>
  <dc:creator>www.eeppt.com; An</dc:creator>
  <dc:description>ppt模板下载网站 http://www.eeppt.com</dc:description>
  <dc:language>en-US</dc:language>
  <cp:lastModifiedBy/>
  <dcterms:modified xsi:type="dcterms:W3CDTF">2015-05-27T15:43:39Z</dcterms:modified>
  <cp:revision>7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