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2994-00F0-43DB-9457-662E5FA60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3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3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B2C9-82AB-4028-A948-31A54588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432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B0C3-777C-457D-9301-CEF26DD82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60020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60020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432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432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E92C-FF95-4CD9-87BE-4F65EA05E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38C9-9114-44B5-BC25-497A56753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3F87-B906-4247-8E64-198BE49B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0EF8-D7E1-43DE-9A47-C0E4BDFC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3A19-5223-4974-A308-8F9141CE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81B1-4D5A-48FD-BF16-71304908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304C-9B7B-4A89-A8DC-8691888D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E186-2577-489E-AFF4-B37E5113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1407-2718-42A2-A9EC-2EF2AAE0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960" y="396432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4785-3E56-4DB6-9FD9-7F40AD0E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3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401A-E695-47C2-9E1E-77C903AC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3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3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F71C-4308-47CE-9CCD-80C5FB25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960" y="396432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8E60-E4D7-4134-A691-D1B283167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0360" y="160020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3520" y="160020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0360" y="396432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3520" y="396432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6F33-D9F5-41CF-BB0E-12A86361F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2DAB-5EC9-4629-A7A7-5E4F9294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6DE7-FFF9-4EEA-B4B7-67D1E310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2B0B-F5D4-4008-9918-0F5DCB86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1F35-651E-4C53-AE15-0EE1623D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D4C3-50C9-4112-8409-96EF6586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432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0D59-7725-46FE-90A4-4619A16E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3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04A5-CAFA-44FF-9922-5430FD7C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3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87200" indent="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56232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74952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74952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74952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3459-B83B-4D8B-935E-570CE309466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7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页脚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#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6DAD-12CE-4254-AD82-582EE4C88DF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7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页脚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#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21"/>
          <p:cNvSpPr/>
          <p:nvPr/>
        </p:nvSpPr>
        <p:spPr>
          <a:xfrm>
            <a:off x="2340000" y="28116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405080" y="5373720"/>
            <a:ext cx="6561000" cy="576360"/>
            <a:chOff x="1405080" y="5373720"/>
            <a:chExt cx="6561000" cy="576360"/>
          </a:xfrm>
        </p:grpSpPr>
        <p:sp>
          <p:nvSpPr>
            <p:cNvPr id="84" name=""/>
            <p:cNvSpPr/>
            <p:nvPr/>
          </p:nvSpPr>
          <p:spPr>
            <a:xfrm>
              <a:off x="7302240" y="5373720"/>
              <a:ext cx="663840" cy="576360"/>
            </a:xfrm>
            <a:prstGeom prst="flowChartDelay">
              <a:avLst/>
            </a:prstGeom>
            <a:solidFill>
              <a:srgbClr val="bfbfbf"/>
            </a:solidFill>
            <a:ln w="3816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&gt;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1405080" y="5373720"/>
              <a:ext cx="663840" cy="576360"/>
            </a:xfrm>
            <a:prstGeom prst="flowChartDelay">
              <a:avLst/>
            </a:prstGeom>
            <a:solidFill>
              <a:srgbClr val="bfbfbf"/>
            </a:solidFill>
            <a:ln w="3816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&lt;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900000" y="6165720"/>
            <a:ext cx="7407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方正粗宋_GBK"/>
                <a:ea typeface="方正粗宋_GBK"/>
              </a:rPr>
              <a:t>Quotes from Lei Feng in Chinese and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图片 1" descr=""/>
          <p:cNvPicPr/>
          <p:nvPr/>
        </p:nvPicPr>
        <p:blipFill>
          <a:blip r:embed="rId1"/>
          <a:stretch/>
        </p:blipFill>
        <p:spPr>
          <a:xfrm>
            <a:off x="-6480" y="0"/>
            <a:ext cx="9044280" cy="51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直接连接符 4"/>
          <p:cNvSpPr/>
          <p:nvPr/>
        </p:nvSpPr>
        <p:spPr>
          <a:xfrm>
            <a:off x="600120" y="5384880"/>
            <a:ext cx="8005680" cy="0"/>
          </a:xfrm>
          <a:prstGeom prst="line">
            <a:avLst/>
          </a:prstGeom>
          <a:ln w="5724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组合 1"/>
          <p:cNvGrpSpPr/>
          <p:nvPr/>
        </p:nvGrpSpPr>
        <p:grpSpPr>
          <a:xfrm>
            <a:off x="844560" y="216000"/>
            <a:ext cx="4462560" cy="5816520"/>
            <a:chOff x="844560" y="216000"/>
            <a:chExt cx="4462560" cy="581652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978480" y="518760"/>
              <a:ext cx="4137840" cy="463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2"/>
            <a:srcRect l="0" t="0" r="-4935" b="0"/>
            <a:stretch/>
          </p:blipFill>
          <p:spPr>
            <a:xfrm rot="5400000">
              <a:off x="-1928880" y="2989440"/>
              <a:ext cx="5816520" cy="2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3"/>
            <a:srcRect l="0" t="0" r="-4935" b="0"/>
            <a:stretch/>
          </p:blipFill>
          <p:spPr>
            <a:xfrm rot="5400000">
              <a:off x="2264040" y="2989440"/>
              <a:ext cx="5816520" cy="26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"/>
          <p:cNvSpPr/>
          <p:nvPr/>
        </p:nvSpPr>
        <p:spPr>
          <a:xfrm rot="19730400">
            <a:off x="117360" y="179280"/>
            <a:ext cx="962640" cy="509400"/>
          </a:xfrm>
          <a:prstGeom prst="roundRect">
            <a:avLst>
              <a:gd name="adj" fmla="val 16662"/>
            </a:avLst>
          </a:prstGeom>
          <a:solidFill>
            <a:srgbClr val="4472c4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北魏楷书简体"/>
                <a:ea typeface="方正北魏楷书简体"/>
              </a:rPr>
              <a:t>雷锋语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5653080" y="101268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f81bd"/>
                </a:solidFill>
                <a:latin typeface="方正北魏楷书简体"/>
                <a:ea typeface="方正北魏楷书简体"/>
              </a:rPr>
              <a:t>当祖国和人民处在最危急的关头，我就挺身而出，不怕牺牲。生为人民生，死为人民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600120" y="5381640"/>
            <a:ext cx="8221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方正北魏楷书简体"/>
                <a:ea typeface="方正北魏楷书简体"/>
              </a:rPr>
              <a:t>When my motherland and her people are at the critical moment, I won’t hesitate to step forward and sacrifice my life. I was born and will die for the people fearless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 rot="19730400">
            <a:off x="117360" y="179280"/>
            <a:ext cx="962640" cy="509400"/>
          </a:xfrm>
          <a:prstGeom prst="roundRect">
            <a:avLst>
              <a:gd name="adj" fmla="val 16662"/>
            </a:avLst>
          </a:prstGeom>
          <a:solidFill>
            <a:srgbClr val="4472c4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北魏楷书简体"/>
                <a:ea typeface="方正北魏楷书简体"/>
              </a:rPr>
              <a:t>雷锋语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组合 1"/>
          <p:cNvGrpSpPr/>
          <p:nvPr/>
        </p:nvGrpSpPr>
        <p:grpSpPr>
          <a:xfrm>
            <a:off x="900000" y="189000"/>
            <a:ext cx="4468680" cy="6335640"/>
            <a:chOff x="900000" y="189000"/>
            <a:chExt cx="4468680" cy="633564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900000" y="621000"/>
              <a:ext cx="4406400" cy="467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2"/>
            <a:srcRect l="0" t="0" r="-4935" b="0"/>
            <a:stretch/>
          </p:blipFill>
          <p:spPr>
            <a:xfrm rot="5400000">
              <a:off x="-2049120" y="3285360"/>
              <a:ext cx="6191640" cy="2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3"/>
            <a:srcRect l="0" t="0" r="-4935" b="0"/>
            <a:stretch/>
          </p:blipFill>
          <p:spPr>
            <a:xfrm rot="5400000">
              <a:off x="2237040" y="3033360"/>
              <a:ext cx="5976000" cy="28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直接连接符 6"/>
          <p:cNvSpPr/>
          <p:nvPr/>
        </p:nvSpPr>
        <p:spPr>
          <a:xfrm>
            <a:off x="722160" y="5384880"/>
            <a:ext cx="7883640" cy="0"/>
          </a:xfrm>
          <a:prstGeom prst="line">
            <a:avLst/>
          </a:prstGeom>
          <a:ln w="5724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5365800" y="77328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f81bd"/>
                </a:solidFill>
                <a:latin typeface="方正北魏楷书简体"/>
                <a:ea typeface="方正北魏楷书简体"/>
              </a:rPr>
              <a:t>人的生命是有限的，可是，为人民服务是无限的，我要把有限的生命，投入到无限的“为人民服务”之中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600120" y="5381640"/>
            <a:ext cx="822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方正北魏楷书简体"/>
                <a:ea typeface="方正北魏楷书简体"/>
              </a:rPr>
              <a:t>There is a limit to one's life, but no limit to serving the people. I would devote my short life to the lifelong career of serving the peo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 rot="19730400">
            <a:off x="117360" y="179280"/>
            <a:ext cx="962640" cy="509400"/>
          </a:xfrm>
          <a:prstGeom prst="roundRect">
            <a:avLst>
              <a:gd name="adj" fmla="val 16662"/>
            </a:avLst>
          </a:prstGeom>
          <a:solidFill>
            <a:srgbClr val="4472c4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北魏楷书简体"/>
                <a:ea typeface="方正北魏楷书简体"/>
              </a:rPr>
              <a:t>雷锋语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组合 1"/>
          <p:cNvGrpSpPr/>
          <p:nvPr/>
        </p:nvGrpSpPr>
        <p:grpSpPr>
          <a:xfrm>
            <a:off x="828720" y="333360"/>
            <a:ext cx="4336920" cy="6191280"/>
            <a:chOff x="828720" y="333360"/>
            <a:chExt cx="4336920" cy="619128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828720" y="621360"/>
              <a:ext cx="4266360" cy="483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2"/>
            <a:srcRect l="0" t="0" r="-4935" b="0"/>
            <a:stretch/>
          </p:blipFill>
          <p:spPr>
            <a:xfrm rot="5400000">
              <a:off x="-2104200" y="3285720"/>
              <a:ext cx="6191280" cy="28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3"/>
            <a:srcRect l="0" t="0" r="-4935" b="0"/>
            <a:stretch/>
          </p:blipFill>
          <p:spPr>
            <a:xfrm rot="5400000">
              <a:off x="1926360" y="3285720"/>
              <a:ext cx="619128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直接连接符 6"/>
          <p:cNvSpPr/>
          <p:nvPr/>
        </p:nvSpPr>
        <p:spPr>
          <a:xfrm>
            <a:off x="722160" y="5384880"/>
            <a:ext cx="7883640" cy="0"/>
          </a:xfrm>
          <a:prstGeom prst="line">
            <a:avLst/>
          </a:prstGeom>
          <a:ln w="5724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5365800" y="132876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f81bd"/>
                </a:solidFill>
                <a:latin typeface="方正北魏楷书简体"/>
                <a:ea typeface="方正北魏楷书简体"/>
              </a:rPr>
              <a:t>在工作上，要向积极性最高的同志看齐；在生活上，要向水平最低的同志看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8"/>
          <p:cNvSpPr/>
          <p:nvPr/>
        </p:nvSpPr>
        <p:spPr>
          <a:xfrm>
            <a:off x="600120" y="5381640"/>
            <a:ext cx="8221680" cy="13737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方正北魏楷书简体"/>
                <a:ea typeface="方正北魏楷书简体"/>
              </a:rPr>
              <a:t>We should model ourselves after comrades with the most ambition in work while keep up with those who has the lowest living standar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 rot="19730400">
            <a:off x="117360" y="179280"/>
            <a:ext cx="962640" cy="509400"/>
          </a:xfrm>
          <a:prstGeom prst="roundRect">
            <a:avLst>
              <a:gd name="adj" fmla="val 16662"/>
            </a:avLst>
          </a:prstGeom>
          <a:solidFill>
            <a:srgbClr val="4472c4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北魏楷书简体"/>
                <a:ea typeface="方正北魏楷书简体"/>
              </a:rPr>
              <a:t>雷锋语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组合 1"/>
          <p:cNvGrpSpPr/>
          <p:nvPr/>
        </p:nvGrpSpPr>
        <p:grpSpPr>
          <a:xfrm>
            <a:off x="826920" y="365040"/>
            <a:ext cx="4554720" cy="6145200"/>
            <a:chOff x="826920" y="365040"/>
            <a:chExt cx="4554720" cy="614520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826920" y="556560"/>
              <a:ext cx="4503600" cy="512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2"/>
            <a:srcRect l="0" t="0" r="-4935" b="0"/>
            <a:stretch/>
          </p:blipFill>
          <p:spPr>
            <a:xfrm rot="5400000">
              <a:off x="-2004480" y="3403440"/>
              <a:ext cx="5938200" cy="27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3"/>
            <a:srcRect l="0" t="0" r="-4935" b="0"/>
            <a:stretch/>
          </p:blipFill>
          <p:spPr>
            <a:xfrm rot="5400000">
              <a:off x="2274840" y="3196440"/>
              <a:ext cx="5938200" cy="27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直接连接符 6"/>
          <p:cNvSpPr/>
          <p:nvPr/>
        </p:nvSpPr>
        <p:spPr>
          <a:xfrm>
            <a:off x="722160" y="5384880"/>
            <a:ext cx="7883640" cy="0"/>
          </a:xfrm>
          <a:prstGeom prst="line">
            <a:avLst/>
          </a:prstGeom>
          <a:ln w="5724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5365800" y="14112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f81bd"/>
                </a:solidFill>
                <a:latin typeface="方正北魏楷书简体"/>
                <a:ea typeface="方正北魏楷书简体"/>
              </a:rPr>
              <a:t>钉子有两个长处：一个是挤劲，一个是钻劲，我们在学习上也要提倡钉子精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600120" y="5381640"/>
            <a:ext cx="8221680" cy="13737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方正北魏楷书简体"/>
                <a:ea typeface="方正北魏楷书简体"/>
              </a:rPr>
              <a:t>The nail has two advantages: one is squeezing and the other is drilling , which should be advocated in our stu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 rot="19730400">
            <a:off x="117360" y="179280"/>
            <a:ext cx="962640" cy="509400"/>
          </a:xfrm>
          <a:prstGeom prst="roundRect">
            <a:avLst>
              <a:gd name="adj" fmla="val 16662"/>
            </a:avLst>
          </a:prstGeom>
          <a:solidFill>
            <a:srgbClr val="4472c4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北魏楷书简体"/>
                <a:ea typeface="方正北魏楷书简体"/>
              </a:rPr>
              <a:t>雷锋语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组合 1"/>
          <p:cNvGrpSpPr/>
          <p:nvPr/>
        </p:nvGrpSpPr>
        <p:grpSpPr>
          <a:xfrm>
            <a:off x="873000" y="333360"/>
            <a:ext cx="4464000" cy="6191280"/>
            <a:chOff x="873000" y="333360"/>
            <a:chExt cx="4464000" cy="619128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873000" y="520200"/>
              <a:ext cx="4377960" cy="48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2"/>
            <a:srcRect l="0" t="0" r="-4935" b="0"/>
            <a:stretch/>
          </p:blipFill>
          <p:spPr>
            <a:xfrm rot="5400000">
              <a:off x="-2078280" y="3285720"/>
              <a:ext cx="6191280" cy="28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3"/>
            <a:srcRect l="0" t="0" r="-4935" b="0"/>
            <a:stretch/>
          </p:blipFill>
          <p:spPr>
            <a:xfrm rot="5400000">
              <a:off x="2097720" y="3285720"/>
              <a:ext cx="619128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直接连接符 6"/>
          <p:cNvSpPr/>
          <p:nvPr/>
        </p:nvSpPr>
        <p:spPr>
          <a:xfrm>
            <a:off x="722160" y="5384880"/>
            <a:ext cx="7883640" cy="0"/>
          </a:xfrm>
          <a:prstGeom prst="line">
            <a:avLst/>
          </a:prstGeom>
          <a:ln w="5724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5365800" y="216072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f81bd"/>
                </a:solidFill>
                <a:latin typeface="方正北魏楷书简体"/>
                <a:ea typeface="方正北魏楷书简体"/>
              </a:rPr>
              <a:t>自己活着，就是为了使别人过得更美好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600120" y="5381640"/>
            <a:ext cx="822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81bd"/>
                </a:solidFill>
                <a:latin typeface="方正北魏楷书简体"/>
                <a:ea typeface="方正北魏楷书简体"/>
              </a:rPr>
              <a:t>We live to better others li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090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7640" y="1269720"/>
            <a:ext cx="89298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8200" y="333360"/>
            <a:ext cx="138924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F525-8020-4292-8108-0F6AE40A8C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05:45:00Z</dcterms:created>
  <dc:creator>www.eeppt.com</dc:creator>
  <dc:description>ppt模板下载网站 http://www.eeppt.com</dc:description>
  <dc:language>en-US</dc:language>
  <cp:lastModifiedBy/>
  <dcterms:modified xsi:type="dcterms:W3CDTF">2015-05-22T15:20:36Z</dcterms:modified>
  <cp:revision>3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