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C24-825D-45C3-A9AB-C0A6C40A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0D0-2C77-4FF5-A039-4E15294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C9B-0E99-4887-B876-C338331D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3AA-6C40-441A-BA84-9B7B4C9F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B5A-8218-44B3-8160-6ED5874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62F-B4ED-47EC-BB27-D7B3187F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8BB-2C14-4E2F-ABF7-E79360A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EA3-C818-4A83-AB25-E74CDC8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E9C-2B67-4474-BA45-7DC9DFA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391-B313-4368-B9E1-E1E56B57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41C-C373-4683-937D-56D8710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8D7-62E8-4846-BC09-06A23EC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B89-F732-4473-8060-DE0A31CE41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198400" y="245124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论文答辩</a:t>
            </a: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4"/>
          <a:stretch/>
        </p:blipFill>
        <p:spPr>
          <a:xfrm>
            <a:off x="6084720" y="4022640"/>
            <a:ext cx="2273400" cy="1098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4" descr="07.png"/>
          <p:cNvPicPr/>
          <p:nvPr/>
        </p:nvPicPr>
        <p:blipFill>
          <a:blip r:embed="rId5"/>
          <a:stretch/>
        </p:blipFill>
        <p:spPr>
          <a:xfrm>
            <a:off x="2147760" y="-7632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9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88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9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20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20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20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228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3" descr=""/>
          <p:cNvPicPr/>
          <p:nvPr/>
        </p:nvPicPr>
        <p:blipFill>
          <a:blip r:embed="rId4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www.eeppt.com; An</dc:creator>
  <dc:description>ppt模板下载网站 http://www.eeppt.com</dc:description>
  <dc:language>en-US</dc:language>
  <cp:lastModifiedBy/>
  <dcterms:modified xsi:type="dcterms:W3CDTF">2015-05-27T16:02:34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