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8B9-3BF1-4962-86F4-B7A14319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F52-C126-4181-B0EF-0BDC2209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3CE-BA5E-434E-9105-864ACFFF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A73-5D86-434C-842B-8AC44939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F9F-F45A-4CB4-BAD0-62621D98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05B-3840-4431-A1E2-3780F023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A38-F2C4-4A45-ADFB-5A4914F6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EDF-CA62-41F9-AEB0-B7FFD9FA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013-D9B8-46C0-A9D1-53A7D45E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7C2-672C-4E47-8A87-07B2BCC6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998-078A-4940-893F-886B8E62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42A-85DF-44F0-BED2-D8B0E067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14440" indent="399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371600" indent="-457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28800" indent="-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28800" indent="-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28800" indent="-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5bb9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278C-0814-4789-B37F-3B45AE9382A3}" type="datetime">
              <a:rPr b="0" lang="en-US" sz="1100" spc="-1" strike="noStrike">
                <a:solidFill>
                  <a:srgbClr val="c5bb9b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5bb9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D4D7-8AB7-4D00-9846-4EA42E250A4E}" type="slidenum">
              <a:rPr b="1" lang="en-US" sz="1200" spc="-1" strike="noStrike">
                <a:solidFill>
                  <a:srgbClr val="c5bb9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flourish2.png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0" y="280044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汉仪大宋简"/>
                <a:ea typeface="汉仪大宋简"/>
              </a:rPr>
              <a:t>欧美花边幻灯片背景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0" y="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aramond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Garamond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aramond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637-0790-422F-88FE-D8D8049F1D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3:58:00Z</dcterms:created>
  <dc:creator>www.eeppt.com; An</dc:creator>
  <dc:description>ppt模板下载网站 http://www.eeppt.com</dc:description>
  <dc:language>en-US</dc:language>
  <cp:lastModifiedBy/>
  <dcterms:modified xsi:type="dcterms:W3CDTF">2015-05-27T12:15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