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B1F0-AB0A-4681-8858-E73C39F29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68B4-215A-4B0E-B81E-212BAF5DD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AF6A-46DD-46CC-8732-C6FAEC74E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E194-0D3F-4658-83D4-624DF3AF1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9556-825D-4396-823E-C5F46E7B0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08A2-CCB3-4FCB-921C-E0E1202BC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72C6-0A58-4329-ADC4-7094B2E70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6D2F-88DB-42B3-903D-D6623FFBA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8D54-886E-480F-A3CF-CA35CD311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2352-BA86-4945-9B78-FBF9E563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9BBA-47EE-47D4-90B5-5DE421ED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63B9-9822-451F-A40F-7BD7830D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E1D6E-4345-45FC-ABD6-BAD7D0ACF01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ED831-EC01-41DF-8EFB-B0651A015C7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D908-E84C-4088-9307-60C82FB1FAD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3T05:22:00Z</dcterms:created>
  <dc:creator>www.eeppt.com; An</dc:creator>
  <dc:description>ppt模板下载网站 http://www.eeppt.com</dc:description>
  <dc:language>en-US</dc:language>
  <cp:lastModifiedBy/>
  <dcterms:modified xsi:type="dcterms:W3CDTF">2015-05-27T12:03:45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