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531-ECB6-46E0-94CB-18EFC672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786-CA07-42A2-867A-A4B45203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9F0-03FF-4920-89B5-77904F7D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3E8-9A0B-415E-B242-56BB70E2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B27-E4F4-4D50-971B-826D3E7C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2A8-720A-4EE4-A52B-A1BC1B2F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B68-CCD4-463C-BC43-C8357940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986-3A37-4854-B398-072C977D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CE7-9B04-4E51-9744-22087EBC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E9F-CBAF-4D06-AF81-B6D224D0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548-FEDF-40C9-A2E2-518A98B2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68E-3068-42AC-87E1-C89A5652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5893-4223-426C-A5F4-EE9C92FE93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42Z</dcterms:created>
  <dc:creator>www.eeppt.com; An</dc:creator>
  <dc:description>ppt模板下载网站 http://www.eeppt.com</dc:description>
  <dc:language>en-US</dc:language>
  <cp:lastModifiedBy/>
  <dcterms:modified xsi:type="dcterms:W3CDTF">2015-05-27T12:59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