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5D4-961F-4887-8B92-C3FED07E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966-1E91-455E-B0D7-600D8D9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65D-B1DB-4B7D-AD2C-DD770EEC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D58-662C-4C09-8FC6-1F92CE9A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868E-0B29-4A08-B641-1EF7FE76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8B8E-956A-4BB2-A3CD-5E7D487F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7646-AE21-4600-9767-7FB3258C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A4CA-C500-4EF0-A21C-7C227CF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5509-142A-4BBF-A82D-9F32535E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FD8B-FA1B-468E-8CC8-21E26432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6BDE-0607-4462-9EDC-9BE758E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14E-D572-483D-912C-FA1B25E8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55E3-4E4F-4AC6-A76B-51F722D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0ED0-0C90-47EE-A445-B126E36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16BE-45BD-4528-B7AC-EC3DB72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E987-287C-4B73-BD5C-FC010F58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BDDD-60F5-4F80-9CD0-310E3451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DD9-082A-48AC-9F6E-C19F82BC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54D-9815-47C4-9C15-6D9C20EB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7CF-BBCC-4F63-BC24-CC0E4A0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D24-0119-4504-A765-982D4EA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7EC-B170-441A-8438-8AFEB19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B47-F3E6-40C4-8006-C3E1AD8A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43E-99CF-45EB-8434-2A22640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AE58-C4B8-416A-B945-FD38780DE7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1AC-F861-4C21-A3A5-ACB84484BF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2709360"/>
            <a:ext cx="60721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自然风光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PPT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图片大全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1908000" y="587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2:10:39Z</dcterms:created>
  <dc:creator>www.eeppt.com; An</dc:creator>
  <dc:description>ppt模板下载网站 http://www.eeppt.com</dc:description>
  <dc:language>en-US</dc:language>
  <cp:lastModifiedBy/>
  <dcterms:modified xsi:type="dcterms:W3CDTF">2015-05-27T14:19:55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