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6F7-6483-4555-A6C2-01933856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839-E52C-418A-BAA3-93838E4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835-5D61-4A61-A07D-D948D11D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306-C299-48D9-B172-74A0EC79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8BF-72CD-4005-B918-FC62054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5D3-6747-4732-A6F9-EEC88D9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7BB-AE88-4B62-AFEE-1D853F5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C0A-5AE4-4234-A35D-8528B58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856-50B0-43C9-8AF4-E799F16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D83-9C8B-42D3-97C5-BCF554A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163-7B44-4323-9FD3-ACB8F97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D80-9308-4CE8-A4BC-552939CF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81E-7D80-4E98-93AD-8E0323D9C7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023A-011B-490B-A5CC-84AD0A2EB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718400" y="117360"/>
            <a:ext cx="1401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rcRect l="0" t="91256" r="0" b="0"/>
          <a:stretch/>
        </p:blipFill>
        <p:spPr>
          <a:xfrm>
            <a:off x="-20520" y="0"/>
            <a:ext cx="9164520" cy="600120"/>
          </a:xfrm>
          <a:prstGeom prst="rect">
            <a:avLst/>
          </a:prstGeom>
          <a:ln w="0">
            <a:noFill/>
          </a:ln>
        </p:spPr>
      </p:pic>
      <p:pic>
        <p:nvPicPr>
          <p:cNvPr id="46" name="内容占位符 3" descr=""/>
          <p:cNvPicPr/>
          <p:nvPr/>
        </p:nvPicPr>
        <p:blipFill>
          <a:blip r:embed="rId2"/>
          <a:stretch/>
        </p:blipFill>
        <p:spPr>
          <a:xfrm>
            <a:off x="0" y="1123920"/>
            <a:ext cx="9139320" cy="573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7742160" y="5157720"/>
            <a:ext cx="1401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内容占位符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-252360" y="3718080"/>
            <a:ext cx="14018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39E-E625-4376-AAF2-EBF1B1A75F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00Z</dcterms:created>
  <dc:creator>www.eeppt.com</dc:creator>
  <dc:description>ppt模板下载网站 http://www.eeppt.com</dc:description>
  <dc:language>en-US</dc:language>
  <cp:lastModifiedBy/>
  <dcterms:modified xsi:type="dcterms:W3CDTF">2015-05-22T16:19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