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9C0-6AE7-4531-96A8-709EE53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39E-9C91-4C55-8419-7A4EA95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160-3FF5-4192-B4CA-6C73E0E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0CC-B697-4C92-97BF-6E38C7DE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EFFD-10BE-4926-A591-7026D2D1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599-1D5F-470B-ACB6-3C804C82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68D1-4A6F-45EE-BAF3-EF4DC7C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C4F-B2B4-43AB-A86D-496AF4C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3BA-4449-48A7-B135-AD1AA89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DA8-7BFD-4FAC-8DAB-CD44182A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C3FD-22DB-4473-862C-0D111B9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02E-2F6B-4C3B-98A7-B2D5580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EB10-D176-461E-8F28-33FF6167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563-0307-4B66-85C1-D60413F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6B2E-A5FB-4C8E-921E-E1D9CF9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3FE-E666-4892-9F0F-18D074D9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51C-4861-4D66-9C91-F910017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EA6-EF69-4BDB-B09E-CD073CA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5E2-C990-4D71-9711-49F766A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07D-7247-4777-BD1B-4134009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EF4-3E77-4078-80C2-64BC5523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A50-55D2-4F9F-91DC-38083EE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684-2620-486E-992B-51AFF0B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910-AE94-4A7F-9D67-B0D9A802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D9F3-1C55-44C4-A0D6-800FB5D9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AE2-A95A-42BD-9B2C-5455D9E84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qq_xiao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qq_kwzs.exe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qq_pyxx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4099320" y="60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4" descr="牛郎织女"/>
          <p:cNvPicPr/>
          <p:nvPr/>
        </p:nvPicPr>
        <p:blipFill>
          <a:blip r:embed="rId3"/>
          <a:stretch/>
        </p:blipFill>
        <p:spPr>
          <a:xfrm>
            <a:off x="1905120" y="15238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23880" y="16765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放声朗读课文，想一想古代人是怎样过乞巧节的。结合拼音认读生字，同学间可互相交流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743200" y="1371600"/>
            <a:ext cx="380988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　巧</a:t>
            </a:r>
            <a:br>
              <a:rPr sz="28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林 杰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七 夕 今 宵 看 碧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楷体_GB2312"/>
                <a:hlinkClick r:id="rId3"/>
              </a:rPr>
              <a:t>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牵 牛 织 女渡 河 桥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家 家乞巧 望 秋 月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穿 尽 红 丝 几 万 条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038480" y="2666880"/>
            <a:ext cx="2133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xiāo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　　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小学语文(古诗词)02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sn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657440"/>
            <a:ext cx="6019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(古诗词)03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752480" y="1447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反复朗诵，体会诗歌的感情。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1" name="Picture 4" descr="snap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038320"/>
            <a:ext cx="5715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371600" y="2241720"/>
            <a:ext cx="7086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背诵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乞巧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阅读牛郎织女的故事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371600" y="3187800"/>
            <a:ext cx="693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课后搜集一些民间故事，开个故事会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402300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Picture 4" descr="牛郎织女"/>
          <p:cNvPicPr/>
          <p:nvPr/>
        </p:nvPicPr>
        <p:blipFill>
          <a:blip r:embed="rId3"/>
          <a:stretch/>
        </p:blipFill>
        <p:spPr>
          <a:xfrm>
            <a:off x="1143000" y="1589040"/>
            <a:ext cx="6972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143000" y="1752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七月七鹊桥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七夕乞巧女儿节。“乞巧节”，源于我国四大民间爱情传说之一的牛郎织女的故事。相传在七月初七，也就是七夕这天，牛郎和织女要在银河鹊桥相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219320" y="1523880"/>
            <a:ext cx="7315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汉代时，民间便开始向织女乞巧了，不但祈求心灵手巧，还祈求得到财富、早日有美满甜蜜的婚姻和早得子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七夕节最普遍的习俗，就是妇女们在七月初七的夜晚进行的各种乞巧活动。乞巧的方式大多是姑娘们穿针引线验巧，做些小物品赛巧，摆上些瓜果乞巧，各个地区的乞巧的方式不尽相同，各有趣味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8"/>
          <p:cNvSpPr/>
          <p:nvPr/>
        </p:nvSpPr>
        <p:spPr>
          <a:xfrm>
            <a:off x="241128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2" descr="背景0084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1143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   巧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7920" y="2514240"/>
            <a:ext cx="504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夕 今宵 看碧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牛 织女 渡河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 乞巧 望秋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尽 红丝 几万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3505320" y="259092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4800240" y="259092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3505320" y="3352680"/>
            <a:ext cx="30456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4723920" y="3352680"/>
            <a:ext cx="30492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3505320" y="41148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4800240" y="41148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3505320" y="48006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Picture 13" descr="花边01"/>
          <p:cNvPicPr/>
          <p:nvPr/>
        </p:nvPicPr>
        <p:blipFill>
          <a:blip r:embed="rId2"/>
          <a:stretch/>
        </p:blipFill>
        <p:spPr>
          <a:xfrm>
            <a:off x="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花边01"/>
          <p:cNvPicPr/>
          <p:nvPr/>
        </p:nvPicPr>
        <p:blipFill>
          <a:blip r:embed="rId3"/>
          <a:stretch/>
        </p:blipFill>
        <p:spPr>
          <a:xfrm>
            <a:off x="434340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5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41626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16" descr=""/>
          <p:cNvPicPr/>
          <p:nvPr/>
        </p:nvPicPr>
        <p:blipFill>
          <a:blip r:embed="rId5"/>
          <a:stretch/>
        </p:blipFill>
        <p:spPr>
          <a:xfrm>
            <a:off x="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17" descr=""/>
          <p:cNvPicPr/>
          <p:nvPr/>
        </p:nvPicPr>
        <p:blipFill>
          <a:blip r:embed="rId6"/>
          <a:stretch/>
        </p:blipFill>
        <p:spPr>
          <a:xfrm>
            <a:off x="8839080" y="380880"/>
            <a:ext cx="304920" cy="370548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18" descr=""/>
          <p:cNvPicPr/>
          <p:nvPr/>
        </p:nvPicPr>
        <p:blipFill>
          <a:blip r:embed="rId7"/>
          <a:stretch/>
        </p:blipFill>
        <p:spPr>
          <a:xfrm>
            <a:off x="883908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花边01"/>
          <p:cNvPicPr/>
          <p:nvPr/>
        </p:nvPicPr>
        <p:blipFill>
          <a:blip r:embed="rId8"/>
          <a:stretch/>
        </p:blipFill>
        <p:spPr>
          <a:xfrm>
            <a:off x="476712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花边01"/>
          <p:cNvPicPr/>
          <p:nvPr/>
        </p:nvPicPr>
        <p:blipFill>
          <a:blip r:embed="rId9"/>
          <a:stretch/>
        </p:blipFill>
        <p:spPr>
          <a:xfrm>
            <a:off x="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花边01"/>
          <p:cNvPicPr/>
          <p:nvPr/>
        </p:nvPicPr>
        <p:blipFill>
          <a:blip r:embed="rId10"/>
          <a:stretch/>
        </p:blipFill>
        <p:spPr>
          <a:xfrm>
            <a:off x="426708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花边01"/>
          <p:cNvPicPr/>
          <p:nvPr/>
        </p:nvPicPr>
        <p:blipFill>
          <a:blip r:embed="rId11"/>
          <a:stretch/>
        </p:blipFill>
        <p:spPr>
          <a:xfrm>
            <a:off x="4767120" y="6477120"/>
            <a:ext cx="43768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594360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ǐ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41911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133720" y="32004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巧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Picture 4" descr="乞巧"/>
          <p:cNvPicPr/>
          <p:nvPr/>
        </p:nvPicPr>
        <p:blipFill>
          <a:blip r:embed="rId3"/>
          <a:stretch/>
        </p:blipFill>
        <p:spPr>
          <a:xfrm>
            <a:off x="2948040" y="1219320"/>
            <a:ext cx="4672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99348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 巧 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4" descr="乞巧节"/>
          <p:cNvPicPr/>
          <p:nvPr/>
        </p:nvPicPr>
        <p:blipFill>
          <a:blip r:embed="rId3"/>
          <a:stretch/>
        </p:blipFill>
        <p:spPr>
          <a:xfrm>
            <a:off x="1600200" y="1600200"/>
            <a:ext cx="6095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099320" y="588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巧供桌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1" name="Picture 4" descr="乞巧供桌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902760" y="5904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 巧 馍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4" name="Picture 4" descr="乞巧馍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956400" y="588168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巧　芽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Picture 4" descr="巧芽"/>
          <p:cNvPicPr/>
          <p:nvPr/>
        </p:nvPicPr>
        <p:blipFill>
          <a:blip r:embed="rId3"/>
          <a:stretch/>
        </p:blipFill>
        <p:spPr>
          <a:xfrm>
            <a:off x="1447920" y="1523880"/>
            <a:ext cx="6045120" cy="4284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8720" y="1235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47Z</dcterms:created>
  <dc:creator>www.eeppt.com; An</dc:creator>
  <dc:description>ppt模板下载网站 http://www.eeppt.com</dc:description>
  <dc:language>en-US</dc:language>
  <cp:lastModifiedBy/>
  <dcterms:modified xsi:type="dcterms:W3CDTF">2015-05-27T16:07:3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