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786-444A-4CDF-8B8B-4BD81E7F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3D5-C9C7-4424-B1F0-181682E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368-B9A3-4512-A3BA-623FD95B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87F-0747-45F2-BF39-628DA7FE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27A-D17B-4CC6-8C86-4380D3A2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6BE-A077-4ACE-818E-2556AC75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D4C-5C09-4527-8EF9-BE12DA2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3E1-6796-410C-BC32-43E42153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952-35E0-4FF8-A488-C704D8DD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A5D-4B05-46CF-9686-2CDFD4B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4F3-F183-41B9-B52E-4AB69A23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B21-372B-485B-A5DB-AB0F3C6A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F784-C683-41A1-B886-4F860BB332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/moban/jieri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847000">
            <a:off x="2165400" y="4808160"/>
            <a:ext cx="4857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情人节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 rot="20869200">
            <a:off x="-44640" y="255744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1856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927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6213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4"/>
          <p:cNvSpPr/>
          <p:nvPr/>
        </p:nvSpPr>
        <p:spPr>
          <a:xfrm>
            <a:off x="39294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428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3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9"/>
          <p:cNvSpPr/>
          <p:nvPr/>
        </p:nvSpPr>
        <p:spPr>
          <a:xfrm>
            <a:off x="2211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0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310440"/>
            <a:ext cx="5923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7"/>
          <p:cNvSpPr/>
          <p:nvPr/>
        </p:nvSpPr>
        <p:spPr>
          <a:xfrm>
            <a:off x="2283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568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4" descr="2.png"/>
          <p:cNvPicPr/>
          <p:nvPr/>
        </p:nvPicPr>
        <p:blipFill>
          <a:blip r:embed="rId2"/>
          <a:stretch/>
        </p:blipFill>
        <p:spPr>
          <a:xfrm>
            <a:off x="235728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6" descr="1.png"/>
          <p:cNvPicPr/>
          <p:nvPr/>
        </p:nvPicPr>
        <p:blipFill>
          <a:blip r:embed="rId3"/>
          <a:stretch/>
        </p:blipFill>
        <p:spPr>
          <a:xfrm>
            <a:off x="2143080" y="3699000"/>
            <a:ext cx="232416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8" descr="2.png"/>
          <p:cNvPicPr/>
          <p:nvPr/>
        </p:nvPicPr>
        <p:blipFill>
          <a:blip r:embed="rId4"/>
          <a:stretch/>
        </p:blipFill>
        <p:spPr>
          <a:xfrm>
            <a:off x="428616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3" descr="1.png"/>
          <p:cNvPicPr/>
          <p:nvPr/>
        </p:nvPicPr>
        <p:blipFill>
          <a:blip r:embed="rId5"/>
          <a:stretch/>
        </p:blipFill>
        <p:spPr>
          <a:xfrm>
            <a:off x="4357800" y="3699000"/>
            <a:ext cx="2324160" cy="2158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1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711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212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10:46Z</dcterms:modified>
  <cp:revision>2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