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E207-E621-4CEB-A793-474A17F01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3E3F-51C1-426A-8EE7-AD92926B4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1AF75-F650-44AB-BED7-16019F6B6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1D6B-D48C-4883-9C50-3C126BEE5B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9180-B701-443E-9F91-9E0C3DF8E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94B8-585A-4A00-A673-56DF5C01F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BA26-CDAF-49C5-B2DD-80FEA61B7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A52C-FB68-4473-B82E-3EAAD2ACC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E836-2168-4008-8B11-1F8130893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5F4E-6523-4603-B954-12421DAAD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56B-14F5-4C31-AA36-B82FD3FC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0B719-5399-496D-B091-6AB788A81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7282D-AE2C-405C-AAE6-BCD9AF0C2379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4D48-8203-4FB6-8AED-72E3B36AE30D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jianjie/" TargetMode="External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286240" y="4143240"/>
            <a:ext cx="52866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643720" y="4656240"/>
            <a:ext cx="41432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54400" y="3706920"/>
            <a:ext cx="4307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唯美简洁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72680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3583800" y="2000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308376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1940760" y="31431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23691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465516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69160" y="42148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472680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5"/>
          <p:cNvSpPr/>
          <p:nvPr/>
        </p:nvSpPr>
        <p:spPr>
          <a:xfrm>
            <a:off x="551268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08376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8"/>
          <p:cNvSpPr/>
          <p:nvPr/>
        </p:nvSpPr>
        <p:spPr>
          <a:xfrm>
            <a:off x="2012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115488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329796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298120" y="2928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9640" y="6165720"/>
            <a:ext cx="60436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简洁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jianji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6"/>
          <p:cNvSpPr/>
          <p:nvPr/>
        </p:nvSpPr>
        <p:spPr>
          <a:xfrm>
            <a:off x="5726880" y="2786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3726720" y="1571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201204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5"/>
          <p:cNvSpPr/>
          <p:nvPr/>
        </p:nvSpPr>
        <p:spPr>
          <a:xfrm>
            <a:off x="1154880" y="2857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298120" y="4786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9"/>
          <p:cNvSpPr/>
          <p:nvPr/>
        </p:nvSpPr>
        <p:spPr>
          <a:xfrm>
            <a:off x="1869120" y="4071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5"/>
          <p:cNvSpPr/>
          <p:nvPr/>
        </p:nvSpPr>
        <p:spPr>
          <a:xfrm>
            <a:off x="186912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4512600" y="2500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5"/>
          <p:cNvSpPr/>
          <p:nvPr/>
        </p:nvSpPr>
        <p:spPr>
          <a:xfrm>
            <a:off x="472680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FC92-5697-471D-BBA4-CEC8DEBD649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www.eeppt.com; An</dc:creator>
  <dc:description>ppt模板下载网站 http://www.eeppt.com</dc:description>
  <dc:language>en-US</dc:language>
  <cp:lastModifiedBy/>
  <dcterms:modified xsi:type="dcterms:W3CDTF">2015-05-27T12:18:52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