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0C3-C5D4-4FDD-9846-CD1DD13C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83E-24D0-4BBF-A293-C75F8D97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81F-2FE2-4A51-B228-6DB6F07B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3F2-D875-4705-87DE-28226B4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B7E-AC88-47DD-8078-882B6F9D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EB1C-0BAE-4D46-9DF0-E7456FD8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165A-C3CD-4818-BB6C-C0A3D1F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24AD-D578-4CEF-AE18-7CE4ED3E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6985-9888-4721-89CB-015D626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A13-0199-43E8-B2AB-64D6D6C0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B4DB-5085-4268-8A7A-2C021A3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226-0F98-47B3-B1E8-A20B2F3E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9C02-B089-468A-A996-45979BC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DEFF-C184-41EC-BA5E-C0081C2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982B-0C2E-44C9-883A-6055C55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C1ED-542D-4BF6-A2E3-D47A76A0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F9A3-3A51-4CB8-AA0D-A2637F05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B06-7927-4AF3-A0F3-E7EDA564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B27-EDE3-448A-813B-3BC46EBC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4CE-AE79-44E8-94B2-875FA28B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41F-85CE-47D6-A26F-0BE26A8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136-7191-4036-8CB6-2B161D1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BEC-4192-492A-A7B6-5A4315A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4B6-B2F8-4A61-96C4-D85F6A3D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A05-3CE3-402F-BBC3-4853DF7E4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F0A-89BA-4EC4-AFEE-F70A959C23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892760" y="992160"/>
            <a:ext cx="39272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00"/>
                </a:solidFill>
                <a:latin typeface="华文琥珀"/>
                <a:ea typeface="华文琥珀"/>
              </a:rPr>
              <a:t>乌塔</a:t>
            </a:r>
            <a:endParaRPr b="0" lang="en-US" sz="1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1066680" y="6094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下列词语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029"/>
          <p:cNvSpPr/>
          <p:nvPr/>
        </p:nvSpPr>
        <p:spPr>
          <a:xfrm>
            <a:off x="1066680" y="1386000"/>
            <a:ext cx="7682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洗漱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)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享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受          一册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逻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u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辑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书籍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j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反驳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b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            语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惬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i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意             解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惠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hu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033"/>
          <p:cNvSpPr/>
          <p:nvPr/>
        </p:nvSpPr>
        <p:spPr>
          <a:xfrm>
            <a:off x="1066680" y="464832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47920" y="1143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梵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f2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蒂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d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冈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g1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欧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#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47920" y="3060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恤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x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447920" y="4006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冰淇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q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724280" y="3048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瑞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ru@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447920" y="210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佛罗伦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*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萨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s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724280" y="4006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希腊（</a:t>
            </a:r>
            <a:r>
              <a:rPr b="1" lang="en-US" sz="3600" spc="-1" strike="noStrike">
                <a:solidFill>
                  <a:srgbClr val="ffffff"/>
                </a:solidFill>
                <a:latin typeface="zypyyb"/>
                <a:ea typeface="zypyyb"/>
              </a:rPr>
              <a:t>l4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762120" y="172404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读读课文，想一想课文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了一些什么事，对这些事你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什么看法和见解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乌塔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905120" y="9907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设计好旅行路线和日程</a:t>
            </a:r>
            <a:endParaRPr b="1" lang="en-US" sz="2400" spc="1" strike="noStrike">
              <a:ln w="19080">
                <a:solidFill>
                  <a:srgbClr val="ff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905120" y="228600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查警察局的电话号码</a:t>
            </a:r>
            <a:endParaRPr b="1" lang="en-US" sz="2400" spc="1" strike="noStrike">
              <a:ln w="19080">
                <a:solidFill>
                  <a:srgbClr val="969696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1905120" y="3505320"/>
            <a:ext cx="5410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给家里打电话或寄明信片</a:t>
            </a:r>
            <a:endParaRPr b="1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9" name="WordArt 7" descr=""/>
          <p:cNvPicPr/>
          <p:nvPr/>
        </p:nvPicPr>
        <p:blipFill>
          <a:blip r:embed="rId2"/>
          <a:stretch/>
        </p:blipFill>
        <p:spPr>
          <a:xfrm>
            <a:off x="1895400" y="4791240"/>
            <a:ext cx="5456160" cy="11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5:03:45Z</dcterms:created>
  <dc:creator>www.eeppt.com; An</dc:creator>
  <dc:description>ppt模板下载网站 http://www.eeppt.com</dc:description>
  <dc:language>en-US</dc:language>
  <cp:lastModifiedBy/>
  <dcterms:modified xsi:type="dcterms:W3CDTF">2015-05-27T16:22:27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