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F97-380D-45A3-BF66-BFA4E4FF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F9C1-28B7-49AF-880E-0D9A4393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4DE-FEAE-4866-9DC8-B8746905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B2C-244D-48B1-B73C-CAA78862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F41-40A6-4824-B5B6-FE948BEB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577-7D4B-4325-B59C-30840A89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203-D593-4DDE-A551-F56B73B4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380-7208-42BC-AC70-CF2E8C8A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B96-5E89-489F-A469-4E807A39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FF0-2C6E-46EF-82C9-EDA827D7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64B-9D90-4493-90B7-68823765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3AF-0E05-4789-ACD4-64A384E8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41D4-01CD-4424-9BE5-9EC34B8F38D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5737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矩形 4" descr=""/>
          <p:cNvPicPr/>
          <p:nvPr/>
        </p:nvPicPr>
        <p:blipFill>
          <a:blip r:embed="rId1"/>
          <a:stretch/>
        </p:blipFill>
        <p:spPr>
          <a:xfrm>
            <a:off x="828720" y="1395360"/>
            <a:ext cx="34686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4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内容占位符 3" descr=""/>
          <p:cNvPicPr/>
          <p:nvPr/>
        </p:nvPicPr>
        <p:blipFill>
          <a:blip r:embed="rId1"/>
          <a:stretch/>
        </p:blipFill>
        <p:spPr>
          <a:xfrm>
            <a:off x="-36360" y="-22320"/>
            <a:ext cx="91803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8:16:41Z</dcterms:created>
  <dc:creator>www.eeppt.com; An</dc:creator>
  <dc:description>ppt模板下载网站 http://www.eeppt.com</dc:description>
  <dc:language>en-US</dc:language>
  <cp:lastModifiedBy/>
  <dcterms:modified xsi:type="dcterms:W3CDTF">2015-05-27T16:42:1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