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68B9-8AA9-439A-9E97-D772FFAD6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27C7-9E03-4228-964A-5E7E7B45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CA96-1E1A-46C7-904E-7DA82D1A8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7D93-A1F7-4851-A76C-72E6FE726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54BF5-CDE4-4BDF-A365-6F6AEA354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B126E-A3D3-4343-9FBD-7570145A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956C-FDC5-482D-8130-A35FD365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DEB06-BEB5-4663-9ACA-F5B34591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D705-47E2-49C9-9C35-D7E1A4E2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C681-DD0C-4074-8404-6DC76AFC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617F-1453-4F0F-BF4C-6B45A216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F1E3-29FD-4614-95D1-5526C413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90FF-CFB6-445A-875E-54CE3D9B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76A2-454A-4E6A-B4D8-A3ED533D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D3D2-FD3A-480D-B995-1A074B2E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0B81-6496-4903-8FF9-FA67C2CF5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32EA-73B8-4ECD-8DD3-178AD1D8D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58E5C-0DC5-45B0-8889-EA53AFE68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00550-7705-4908-8D9F-833852C8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AD7B3-28B3-4D51-B888-08FD2A79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08C00-09B7-4CE0-AD0E-0D2BA393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B3E8F-2B52-41A0-AC3E-F992F57E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BE26-A3C3-4622-AAD3-6CA8EF8D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50E99-2ADF-4436-843F-D563F8A3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6F9EA-51F0-466F-92A4-F0F291FD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9972E-AA02-47FA-B581-D776B2A4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DD125-3038-4D0D-BA9C-0872BDBF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11E5E-D0FD-4D95-A12D-4A31C7F8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8CF83-9D63-455C-9BD8-098EE330B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131DE-BF37-435A-9C1A-5842ECC0C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3206-CE6C-463F-9E2D-5EDEAC1E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3A59-58D4-458A-A1BA-1B35D864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0C55-58B8-42F9-AF1D-6FCF881C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85B7-E2E8-4A6F-9B71-F8509ED6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2820-4214-4AAB-9571-AEEFFD24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4D6A-21A4-4C46-8C36-55BDF24C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4747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ABBB-5EFE-4C66-B777-F71E63A3984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15D0-6A39-41AE-95C5-94893B8626A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6F2E-058A-4643-908A-3F193EFECB1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D101-C53C-45D2-A88B-C5C392241D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小学家长会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家长提一些建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c0039"/>
                </a:solidFill>
                <a:latin typeface="Arial"/>
              </a:rPr>
              <a:t>孩子的学习习惯有差异</a:t>
            </a:r>
            <a:br>
              <a:rPr sz="3600"/>
            </a:br>
            <a:r>
              <a:rPr b="0" lang="zh-CN" sz="3600" spc="-1" strike="noStrike">
                <a:solidFill>
                  <a:srgbClr val="8c0039"/>
                </a:solidFill>
                <a:latin typeface="Arial"/>
              </a:rPr>
              <a:t>如何减少差异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是重视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听讲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理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二是抓作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是抓阅读重方法（答案就在原文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四是抓写字、及时改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5"/>
          <p:cNvSpPr/>
          <p:nvPr/>
        </p:nvSpPr>
        <p:spPr>
          <a:xfrm>
            <a:off x="250920" y="260280"/>
            <a:ext cx="108108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ziliao/       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fanwen/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认真倾听的好习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无论会否都听，一是修养的体现，二能取长补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培养学生认真审题的习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画出关键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培养学生认真独立的完成作业和自觉检查的习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c0039"/>
                </a:solidFill>
                <a:latin typeface="Arial"/>
              </a:rPr>
              <a:t>对家长提一些建议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还是要正确看待分数，我们需要培养的是一个身心健康全面发展的孩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联系老师：了解孩子情况、了解对学生的基本要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创建良好的家庭环境，多与孩子交流，多鼓励，让他们自信，有良好的人生态度（认真、耐性、执着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经常带孩子外出，了解社会、生活（体育锻炼、手抄报、交友、编作文集、小发明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c0039"/>
                </a:solidFill>
                <a:latin typeface="Arial"/>
              </a:rPr>
              <a:t>在平日的学习中，我希望家长配合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督促孩子及时完成作业，态度认真一看便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督促孩子完成口头作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发现问题及时联系老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督促孩子认真阅读课外书，最好与孩子一起读，一起成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引导孩子形成积极健康的观念，安全时刻在心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c0039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e4005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e4005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4005c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e4005c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e4005c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4005c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e4005c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e4005c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4005c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e4005c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e4005c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4005c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e4005c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4005c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4005c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13:14:30Z</dcterms:created>
  <dc:creator>www.eeppt.com; An</dc:creator>
  <dc:description>ppt模板下载网站 http://www.eeppt.com</dc:description>
  <dc:language>en-US</dc:language>
  <cp:lastModifiedBy/>
  <dcterms:modified xsi:type="dcterms:W3CDTF">2015-05-27T16:25:11Z</dcterms:modified>
  <cp:revision>8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