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3E07-C024-4AC1-939D-0CF6BB84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C056-D252-484E-B106-252863D1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AAEF-FAB6-4756-A26D-5E61E33B1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DC63-28A9-48A4-9F29-F6E69C0F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5008-E8FE-4214-91DE-1FE04753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A1FF-1329-44F7-855D-00AB00F8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A4C0-0AB6-4ED4-A611-B340FFF7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0498-8C67-4B94-930C-5110619B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CDD5-946D-4B7B-B95F-47B23929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DD49-ABC0-48A8-8C4E-6A0EB440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8589-F802-4D3E-9A3B-B5657426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A4D3-0E62-4507-88D3-62E6FC18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edd4"/>
            </a:gs>
            <a:gs pos="100000">
              <a:srgbClr val="2cd9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B299-C643-4AB7-B074-4D1BCB1B7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image" Target="../media/image2.jpe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edd4"/>
            </a:gs>
            <a:gs pos="100000">
              <a:srgbClr val="2cd9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图片5"/>
          <p:cNvPicPr/>
          <p:nvPr/>
        </p:nvPicPr>
        <p:blipFill>
          <a:blip r:embed="rId1"/>
          <a:stretch/>
        </p:blipFill>
        <p:spPr>
          <a:xfrm>
            <a:off x="-1189080" y="-603360"/>
            <a:ext cx="11430000" cy="81583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826920" y="620640"/>
            <a:ext cx="691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一次比一次有进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edd4"/>
            </a:gs>
            <a:gs pos="100000">
              <a:srgbClr val="2cd9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867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菜园里</a:t>
            </a: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豆角青青细又长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黄瓜身穿绿衣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茄子高高打灯笼，萝卜地下捉迷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辣椒长个尖尖嘴，南瓜越老皮越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红绿黄紫真好看，菜园一片好风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0"/>
            <a:ext cx="326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读一读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edd4"/>
            </a:gs>
            <a:gs pos="100000">
              <a:srgbClr val="2cd9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74872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次        瓜      燕     什    么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样        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再         可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细        兴       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95280" y="0"/>
            <a:ext cx="390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认一认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611280" y="119700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C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042920" y="549360"/>
            <a:ext cx="64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627280" y="105264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gu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3276720" y="90792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572000" y="105264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y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4859280" y="620640"/>
            <a:ext cx="84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5867280" y="105264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Shen   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6588000" y="981000"/>
            <a:ext cx="4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95280" y="270828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ya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684360" y="256536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2843280" y="2781360"/>
            <a:ext cx="13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4859280" y="278136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za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5356440" y="2232000"/>
            <a:ext cx="52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</a:rPr>
              <a:t>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7093080" y="2708280"/>
            <a:ext cx="205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k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539640" y="450864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z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3203640" y="450864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xì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5076720" y="458136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xià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edd4"/>
            </a:gs>
            <a:gs pos="100000">
              <a:srgbClr val="2cd9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4264200" y="1562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03120" y="33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0" y="0"/>
            <a:ext cx="37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想一想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0" y="836640"/>
            <a:ext cx="919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小燕子去菜园看了几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2067120" y="1758960"/>
            <a:ext cx="16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每次看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0" y="2781360"/>
            <a:ext cx="945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燕子妈妈为什么夸它一次比一次有进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8720" y="6381720"/>
            <a:ext cx="5624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说课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edd4"/>
            </a:gs>
            <a:gs pos="100000">
              <a:srgbClr val="2cd9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9"/>
          <p:cNvSpPr/>
          <p:nvPr/>
        </p:nvSpPr>
        <p:spPr>
          <a:xfrm>
            <a:off x="901800" y="957240"/>
            <a:ext cx="208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素材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背景图片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图表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excel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课件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113280" y="29113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1095480" y="122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0" y="206064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燕子第（   ）次到菜园去，看见冬瓜（     ），茄子（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4"/>
          <p:cNvSpPr/>
          <p:nvPr/>
        </p:nvSpPr>
        <p:spPr>
          <a:xfrm>
            <a:off x="0" y="3429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燕子第（     ）次到菜园去，看见冬瓜是（         ），茄子是（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5"/>
          <p:cNvSpPr/>
          <p:nvPr/>
        </p:nvSpPr>
        <p:spPr>
          <a:xfrm>
            <a:off x="0" y="479736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燕子第（     ）次到菜园去，发现冬瓜的（                   ），茄子的（   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3564000" y="2133720"/>
            <a:ext cx="59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2124000" y="270828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5364000" y="270828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3492360" y="3429000"/>
            <a:ext cx="6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0"/>
          <p:cNvSpPr/>
          <p:nvPr/>
        </p:nvSpPr>
        <p:spPr>
          <a:xfrm>
            <a:off x="2124000" y="40766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绿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6567480" y="40053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紫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3687840" y="4653000"/>
            <a:ext cx="73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4"/>
          <p:cNvSpPr/>
          <p:nvPr/>
        </p:nvSpPr>
        <p:spPr>
          <a:xfrm>
            <a:off x="2484360" y="537372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皮上有细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5"/>
          <p:cNvSpPr/>
          <p:nvPr/>
        </p:nvSpPr>
        <p:spPr>
          <a:xfrm>
            <a:off x="468360" y="5950080"/>
            <a:ext cx="338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柄上有小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6" descr="2005751539302569"/>
          <p:cNvPicPr/>
          <p:nvPr/>
        </p:nvPicPr>
        <p:blipFill>
          <a:blip r:embed="rId14"/>
          <a:stretch/>
        </p:blipFill>
        <p:spPr>
          <a:xfrm>
            <a:off x="5651640" y="0"/>
            <a:ext cx="3122640" cy="1916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7" descr=""/>
          <p:cNvPicPr/>
          <p:nvPr/>
        </p:nvPicPr>
        <p:blipFill>
          <a:blip r:embed="rId15"/>
          <a:stretch/>
        </p:blipFill>
        <p:spPr>
          <a:xfrm>
            <a:off x="250920" y="0"/>
            <a:ext cx="53290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edd4"/>
            </a:gs>
            <a:gs pos="100000">
              <a:srgbClr val="2cd9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0" y="155736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除了小燕子的发现，你还发现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24000" y="620640"/>
            <a:ext cx="467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</a:rPr>
              <a:t>说一说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0" y="4797360"/>
            <a:ext cx="1048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还发现冬瓜是（ 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茄子是（ 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edd4"/>
            </a:gs>
            <a:gs pos="100000">
              <a:srgbClr val="2cd9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0" y="333360"/>
            <a:ext cx="55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照样子写几个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-468360" y="1557360"/>
            <a:ext cx="993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看看（          ）说说（ 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0" y="3068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比比（         ） 读读（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0" y="43657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听听（         ）数数（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692360" y="1557360"/>
            <a:ext cx="21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看一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5435640" y="1557360"/>
            <a:ext cx="30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说一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1619280" y="30686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比一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5508720" y="299736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692360" y="4437000"/>
            <a:ext cx="194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听一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5508720" y="43657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数一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edd4"/>
            </a:gs>
            <a:gs pos="100000">
              <a:srgbClr val="2cd9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99"/>
          <p:cNvSpPr/>
          <p:nvPr/>
        </p:nvSpPr>
        <p:spPr>
          <a:xfrm>
            <a:off x="0" y="1557360"/>
            <a:ext cx="285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41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37"/>
          <p:cNvSpPr/>
          <p:nvPr/>
        </p:nvSpPr>
        <p:spPr>
          <a:xfrm>
            <a:off x="0" y="1557360"/>
            <a:ext cx="285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2492280"/>
          <a:ext cx="9144000" cy="2160720"/>
        </p:xfrm>
        <a:graphic>
          <a:graphicData uri="http://schemas.openxmlformats.org/drawingml/2006/table">
            <a:tbl>
              <a:tblPr/>
              <a:tblGrid>
                <a:gridCol w="512640"/>
                <a:gridCol w="630360"/>
                <a:gridCol w="568440"/>
                <a:gridCol w="576000"/>
                <a:gridCol w="527040"/>
                <a:gridCol w="613080"/>
                <a:gridCol w="571320"/>
                <a:gridCol w="574560"/>
                <a:gridCol w="611280"/>
                <a:gridCol w="531720"/>
                <a:gridCol w="578160"/>
                <a:gridCol w="564840"/>
                <a:gridCol w="570240"/>
                <a:gridCol w="571320"/>
                <a:gridCol w="587520"/>
                <a:gridCol w="55548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Rectangle 1279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668"/>
          <p:cNvSpPr/>
          <p:nvPr/>
        </p:nvSpPr>
        <p:spPr>
          <a:xfrm>
            <a:off x="0" y="2492280"/>
            <a:ext cx="111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回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669"/>
          <p:cNvSpPr/>
          <p:nvPr/>
        </p:nvSpPr>
        <p:spPr>
          <a:xfrm>
            <a:off x="0" y="3500280"/>
            <a:ext cx="1346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70"/>
          <p:cNvSpPr/>
          <p:nvPr/>
        </p:nvSpPr>
        <p:spPr>
          <a:xfrm>
            <a:off x="0" y="404640"/>
            <a:ext cx="57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ff"/>
                </a:solidFill>
                <a:latin typeface="Arial"/>
              </a:rPr>
              <a:t>写一写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71"/>
          <p:cNvSpPr/>
          <p:nvPr/>
        </p:nvSpPr>
        <p:spPr>
          <a:xfrm>
            <a:off x="131112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2T08:07:52Z</dcterms:created>
  <dc:creator>www.eeppt.com; An</dc:creator>
  <dc:description>ppt模板下载网站 http://www.eeppt.com</dc:description>
  <dc:language>en-US</dc:language>
  <cp:lastModifiedBy/>
  <dcterms:modified xsi:type="dcterms:W3CDTF">2015-05-27T16:30:13Z</dcterms:modified>
  <cp:revision>4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