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DBE-A2EF-482E-8427-C8FEE2CA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BD6-4FA5-447F-B5BC-0D902CA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E0C-AFE6-4B06-A742-C4A61F57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B1E-BBD7-4014-BB54-0345005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EC0-FAB8-4CA1-8108-49A2994B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72E-111A-45ED-96B2-1A44BC41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868-3C97-452E-B1CC-0AE32A3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56A-7E15-41BB-8C16-4700962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FF8-747C-4774-8509-A4DA447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118-ECC4-4A07-AFBD-F2C911A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1C7-3653-43E6-A3EE-59A380C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6CF-E4F5-4374-8214-0E57A015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F9C2-EC59-475A-9AFE-D876E6EB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04400" y="1773360"/>
            <a:ext cx="53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隶书"/>
              </a:rPr>
              <a:t>亿以内数的写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31560" y="244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七册第一单元第四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7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6"/>
          <p:cNvSpPr/>
          <p:nvPr/>
        </p:nvSpPr>
        <p:spPr>
          <a:xfrm>
            <a:off x="1958040" y="273528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零三万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1546920" y="4467240"/>
            <a:ext cx="47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万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十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5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733760" y="0"/>
            <a:ext cx="2863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出下列各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百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千六百零一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千零九万零三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千零二十万三千零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78880" y="1268280"/>
            <a:ext cx="266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90090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02030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50920" y="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小法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四万零八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900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万，中间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万，右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位数一定比六位数大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大的五位数比最小的五位数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99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数字所占的数位不同，它表示的大小也不同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588000" y="5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252560" y="11304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45720" y="3068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148520" y="35002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889720" y="4869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56160" y="6095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亿是（    ）个一千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个数的最高位是十万位，这个数是（ 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4028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）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0686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数中，（       ）位和（       ）位上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千万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万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百组成的数是（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55708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69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896800" y="244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654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94020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51840" y="29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897960" y="429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352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971280" y="602136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050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285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最大的五位数和最小的六位数的和是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460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个（   ）位数，最左边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）位上，表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，另一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 ）位上，它们的值相差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三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四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组成的最大七位数是（                   ），读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七位数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191240" y="62064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66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55640" y="184464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06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6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190880" y="342900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7380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80540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84576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010320" y="530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14880" y="5950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799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48680" y="1546560"/>
            <a:ext cx="6834600" cy="1865880"/>
            <a:chOff x="1048680" y="1546560"/>
            <a:chExt cx="6834600" cy="1865880"/>
          </a:xfrm>
        </p:grpSpPr>
        <p:sp>
          <p:nvSpPr>
            <p:cNvPr id="44" name="Text Box 3"/>
            <p:cNvSpPr/>
            <p:nvPr/>
          </p:nvSpPr>
          <p:spPr>
            <a:xfrm>
              <a:off x="7215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4"/>
            <p:cNvSpPr/>
            <p:nvPr/>
          </p:nvSpPr>
          <p:spPr>
            <a:xfrm>
              <a:off x="6496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5"/>
            <p:cNvSpPr/>
            <p:nvPr/>
          </p:nvSpPr>
          <p:spPr>
            <a:xfrm>
              <a:off x="5848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5199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4575600" y="1641240"/>
              <a:ext cx="667800" cy="172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万 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"/>
            <p:cNvSpPr/>
            <p:nvPr/>
          </p:nvSpPr>
          <p:spPr>
            <a:xfrm>
              <a:off x="3904200" y="154656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325656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260712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1983240" y="170892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1048680" y="2060640"/>
              <a:ext cx="9946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5219640" y="836640"/>
            <a:ext cx="1716120" cy="4753080"/>
            <a:chOff x="5219640" y="836640"/>
            <a:chExt cx="1716120" cy="4753080"/>
          </a:xfrm>
        </p:grpSpPr>
        <p:sp>
          <p:nvSpPr>
            <p:cNvPr id="55" name="Line 14"/>
            <p:cNvSpPr/>
            <p:nvPr/>
          </p:nvSpPr>
          <p:spPr>
            <a:xfrm>
              <a:off x="5219640" y="836640"/>
              <a:ext cx="0" cy="475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5849640" y="9079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个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2556000" y="765000"/>
            <a:ext cx="1573200" cy="4824360"/>
            <a:chOff x="2556000" y="765000"/>
            <a:chExt cx="1573200" cy="4824360"/>
          </a:xfrm>
        </p:grpSpPr>
        <p:sp>
          <p:nvSpPr>
            <p:cNvPr id="58" name="Line 17"/>
            <p:cNvSpPr/>
            <p:nvPr/>
          </p:nvSpPr>
          <p:spPr>
            <a:xfrm>
              <a:off x="2556000" y="765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3043080" y="836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万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029240" y="83664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亿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1"/>
          <p:cNvGrpSpPr/>
          <p:nvPr/>
        </p:nvGrpSpPr>
        <p:grpSpPr>
          <a:xfrm>
            <a:off x="468360" y="907920"/>
            <a:ext cx="8496360" cy="649440"/>
            <a:chOff x="468360" y="907920"/>
            <a:chExt cx="8496360" cy="649440"/>
          </a:xfrm>
        </p:grpSpPr>
        <p:sp>
          <p:nvSpPr>
            <p:cNvPr id="63" name="Line 22"/>
            <p:cNvSpPr/>
            <p:nvPr/>
          </p:nvSpPr>
          <p:spPr>
            <a:xfrm>
              <a:off x="468360" y="1557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8229960" y="907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数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4"/>
          <p:cNvGrpSpPr/>
          <p:nvPr/>
        </p:nvGrpSpPr>
        <p:grpSpPr>
          <a:xfrm>
            <a:off x="0" y="1557360"/>
            <a:ext cx="9144000" cy="1191240"/>
            <a:chOff x="0" y="1557360"/>
            <a:chExt cx="9144000" cy="1191240"/>
          </a:xfrm>
        </p:grpSpPr>
        <p:sp>
          <p:nvSpPr>
            <p:cNvPr id="66" name="Line 25"/>
            <p:cNvSpPr/>
            <p:nvPr/>
          </p:nvSpPr>
          <p:spPr>
            <a:xfrm>
              <a:off x="0" y="2708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6"/>
            <p:cNvSpPr/>
            <p:nvPr/>
          </p:nvSpPr>
          <p:spPr>
            <a:xfrm>
              <a:off x="8229960" y="15573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计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单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7"/>
          <p:cNvSpPr/>
          <p:nvPr/>
        </p:nvSpPr>
        <p:spPr>
          <a:xfrm>
            <a:off x="183240" y="165888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数  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49656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19948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57560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万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28032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63088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1921320" y="1545120"/>
            <a:ext cx="5900040" cy="1758600"/>
            <a:chOff x="1921320" y="1545120"/>
            <a:chExt cx="5900040" cy="1758600"/>
          </a:xfrm>
        </p:grpSpPr>
        <p:sp>
          <p:nvSpPr>
            <p:cNvPr id="75" name="Text Box 3"/>
            <p:cNvSpPr/>
            <p:nvPr/>
          </p:nvSpPr>
          <p:spPr>
            <a:xfrm>
              <a:off x="7153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578664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866040" y="1545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1921320" y="1704960"/>
              <a:ext cx="66780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395280" y="4365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把上面的数位顺序表补充完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3"/>
          <p:cNvSpPr/>
          <p:nvPr/>
        </p:nvSpPr>
        <p:spPr>
          <a:xfrm>
            <a:off x="4862520" y="495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01000" y="333360"/>
            <a:ext cx="2273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千八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百七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695240" y="1557360"/>
            <a:ext cx="130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8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859280" y="260280"/>
            <a:ext cx="4284720" cy="1873440"/>
          </a:xfrm>
          <a:prstGeom prst="wedgeRoundRectCallout">
            <a:avLst>
              <a:gd name="adj1" fmla="val 61337"/>
              <a:gd name="adj2" fmla="val -7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数位上是几就写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一位上一个也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0" y="4221000"/>
            <a:ext cx="4140360" cy="1729080"/>
          </a:xfrm>
          <a:prstGeom prst="cloudCallout">
            <a:avLst>
              <a:gd name="adj1" fmla="val -63226"/>
              <a:gd name="adj2" fmla="val 92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含有两级的数怎么写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284720" y="4149720"/>
            <a:ext cx="4356000" cy="1584360"/>
          </a:xfrm>
          <a:prstGeom prst="wedgeEllipseCallout">
            <a:avLst>
              <a:gd name="adj1" fmla="val 72083"/>
              <a:gd name="adj2" fmla="val 101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写万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写个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32712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847600" y="148428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89512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560320" y="32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0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92" name="Text Box 2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1"/>
          <p:cNvSpPr/>
          <p:nvPr/>
        </p:nvSpPr>
        <p:spPr>
          <a:xfrm>
            <a:off x="3616920" y="273528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五百六十三万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5  6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815840" y="4467240"/>
            <a:ext cx="428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1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291384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6"/>
          <p:cNvSpPr/>
          <p:nvPr/>
        </p:nvSpPr>
        <p:spPr>
          <a:xfrm>
            <a:off x="1848600" y="273528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千七百二十万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六千七百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2208600" y="321300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7  2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6  7  3  0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2282400" y="4437000"/>
            <a:ext cx="535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百万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五千六百二十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  6  2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30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6"/>
          <p:cNvSpPr/>
          <p:nvPr/>
        </p:nvSpPr>
        <p:spPr>
          <a:xfrm>
            <a:off x="3186720" y="273528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百二十一万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2853360" y="3213000"/>
            <a:ext cx="44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2  1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803600" y="3890880"/>
            <a:ext cx="415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853720" y="486900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4720" y="6165720"/>
            <a:ext cx="56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0"/>
            <a:ext cx="72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二百八十五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百三十八万四千二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千一百二十九万六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三千万二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五千零三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199600" y="1279440"/>
            <a:ext cx="243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5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38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4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29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3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52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6"/>
          <p:cNvSpPr/>
          <p:nvPr/>
        </p:nvSpPr>
        <p:spPr>
          <a:xfrm>
            <a:off x="684360" y="2708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五千零三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755640" y="44672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五千零三万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280600" y="508464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3:38:46Z</dcterms:created>
  <dc:creator>www.eeppt.com; An</dc:creator>
  <dc:description>ppt模板下载网站 http://www.eeppt.com</dc:description>
  <dc:language>en-US</dc:language>
  <cp:lastModifiedBy/>
  <dcterms:modified xsi:type="dcterms:W3CDTF">2015-05-27T16:32:39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