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8F2-F601-4089-A78B-A3E75AA6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2364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BF2-4C85-4E15-A4D5-06D73ADD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844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416-233D-4771-9ED2-AD2BF280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04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656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04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656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C82-55B0-4A1E-A4AE-C65AF405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92D3-2D6C-432A-A93E-AA3237D0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3D06-0EB2-4EC3-9C8F-331C862F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2461-0276-4B52-BCC0-A75FE97E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7C48-3AFD-48B7-AC57-730D6D01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321C-2D99-4D40-9096-F00583BF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3045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4573-EE31-41B6-9A01-F737BB71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BC85-D1A0-4740-A1E0-6BAF5BFC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B63-6513-48D1-AA5C-4E62363F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6465-3814-4B06-9143-797FF0B1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52A7-C80D-41E0-B25F-1E389829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42364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8163-AD0A-4FE1-9B4A-A9696583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436B-8E9F-4BFF-8001-69842E7F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E5EF-7364-4222-B230-071E077F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503-E127-4BBC-A358-DED1E91A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664-EBC9-4D07-A6C0-59047AC0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FB1-4508-4CC5-9CCC-CBB6E76A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3045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ACB-7325-4A52-B501-2E475ACA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3A8-4922-400F-A63C-4707120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844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8E6-7190-4E49-9F43-83CEF9E2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CF0-FC3F-4814-8447-94DA7A98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5F3E-0A4E-4E72-850C-BF806E555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E094-CD98-4DA1-97F9-42C908D1C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23619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perglue"/>
                <a:ea typeface="宋体"/>
              </a:rPr>
              <a:t>YELLOW CH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14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perglue"/>
                <a:ea typeface="宋体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uperglue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upergl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uperglue"/>
                <a:ea typeface="宋体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perglue"/>
                <a:ea typeface="宋体"/>
              </a:rPr>
              <a:t>PRINT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upergl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uperglue"/>
                <a:ea typeface="宋体"/>
              </a:rPr>
              <a:t>Add Text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yelllow_chrome_qx"/>
          <p:cNvPicPr/>
          <p:nvPr/>
        </p:nvPicPr>
        <p:blipFill>
          <a:blip r:embed="rId1"/>
          <a:stretch/>
        </p:blipFill>
        <p:spPr>
          <a:xfrm>
            <a:off x="2666880" y="16765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yelllow_chrome_sld"/>
          <p:cNvPicPr/>
          <p:nvPr/>
        </p:nvPicPr>
        <p:blipFill>
          <a:blip r:embed="rId2"/>
          <a:stretch/>
        </p:blipFill>
        <p:spPr>
          <a:xfrm>
            <a:off x="5943600" y="16765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yelllow_chrome_prt"/>
          <p:cNvPicPr/>
          <p:nvPr/>
        </p:nvPicPr>
        <p:blipFill>
          <a:blip r:embed="rId3"/>
          <a:stretch/>
        </p:blipFill>
        <p:spPr>
          <a:xfrm>
            <a:off x="2666880" y="41148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yelllow_chrome_trs"/>
          <p:cNvPicPr/>
          <p:nvPr/>
        </p:nvPicPr>
        <p:blipFill>
          <a:blip r:embed="rId4"/>
          <a:stretch/>
        </p:blipFill>
        <p:spPr>
          <a:xfrm>
            <a:off x="5943600" y="41148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20:06:10Z</dcterms:created>
  <dc:creator>www.eeppt.com</dc:creator>
  <dc:description>ppt模板下载网站 http://www.eeppt.com</dc:description>
  <dc:language>en-US</dc:language>
  <cp:lastModifiedBy/>
  <dcterms:modified xsi:type="dcterms:W3CDTF">2015-05-27T16:33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