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8298-A5BC-4B45-BC28-3707B68F8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26D9-7FC7-489B-A9C2-0E0E8FF2B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19FB-3B9F-4411-B436-2F8F42D91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3419-9A90-49C9-AFEB-7539C302B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F98E2-4E32-4135-A4B8-24AA531ED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2DE0F-0B4D-435A-BF3D-34C5DCFB2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25E3C-0CBF-4CD8-B81F-467BA3E66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2639E-3C84-4AEC-B0D0-74FF2BE9D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8944F-3B7D-41DC-971B-E41E254B6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51459-C0B7-49CE-8733-5F1E107AB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75B57-A785-4B87-B664-DE1C570C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CF2D-3D0B-4C0F-8333-CE33E0B63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72B82-CE33-4A5F-86E0-CBE9B9142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D4B90-0C91-426B-A467-A81E0E52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BD366-DEE9-4C61-A811-805FBE89A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0F00D-1393-49DA-B7B0-5C624C220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9BE90-93BD-418E-BF9D-F90897E05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7631-E3EC-4614-AB5A-B6C37590E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F1D0-CD0E-42D5-BE0B-0F4615E1A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24ED-623A-4F2E-A0A0-9CA29C369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3168-E629-426C-A911-56FC80E12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10B8-7513-41FA-B2BD-8F2ADF5A1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22F2-4C1F-4002-B1DA-E639C6A89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6528-39A1-46C3-B4F9-8867DCAB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D1187-265C-410B-8D95-870A5AEE3EAE}" type="slidenum">
              <a:rPr b="1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0D7E5-FD84-40BE-9D52-646A1006F353}" type="slidenum">
              <a:rPr b="0" lang="en-US" sz="800" spc="-1" strike="noStrike">
                <a:solidFill>
                  <a:srgbClr val="ffffff"/>
                </a:solidFill>
                <a:latin typeface="Arial Black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1676520"/>
            <a:ext cx="6858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Impact"/>
                <a:ea typeface="宋体"/>
              </a:rPr>
              <a:t>英语</a:t>
            </a:r>
            <a:r>
              <a:rPr b="1" lang="zh-CN" sz="5400" spc="-1" strike="noStrike">
                <a:solidFill>
                  <a:srgbClr val="ffffff"/>
                </a:solidFill>
                <a:latin typeface="Impact"/>
                <a:ea typeface="宋体"/>
              </a:rPr>
              <a:t>PPT</a:t>
            </a:r>
            <a:r>
              <a:rPr b="1" lang="zh-CN" sz="5400" spc="-1" strike="noStrike">
                <a:solidFill>
                  <a:srgbClr val="ffffff"/>
                </a:solidFill>
                <a:latin typeface="Impact"/>
                <a:ea typeface="宋体"/>
              </a:rPr>
              <a:t>模板</a:t>
            </a:r>
            <a:endParaRPr b="0" lang="en-US" sz="5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437920" y="2666520"/>
            <a:ext cx="38862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Impact"/>
                <a:ea typeface="宋体"/>
              </a:rPr>
              <a:t>Your Subtitle Goes Her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3048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Impact"/>
                <a:ea typeface="宋体"/>
              </a:rPr>
              <a:t>Your Topic Goes Here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761760"/>
            <a:ext cx="79246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  <a:ea typeface="宋体"/>
              </a:rPr>
              <a:t>Your subtopic goes he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28800" y="4572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宋体"/>
              </a:rPr>
              <a:t>Transitional Page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3048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Impact"/>
                <a:ea typeface="宋体"/>
              </a:rPr>
              <a:t>Your Topic Goes Here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761760"/>
            <a:ext cx="79246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  <a:ea typeface="宋体"/>
              </a:rPr>
              <a:t>Your subtopic goes he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Impact"/>
              <a:ea typeface="宋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Tahoma"/>
              <a:ea typeface="宋体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152280" y="944640"/>
            <a:ext cx="2438640" cy="9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宋体"/>
              </a:rPr>
              <a:t>Backdrop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These are full sized backdrops, just double click them and size it up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8"/>
          <p:cNvSpPr/>
          <p:nvPr/>
        </p:nvSpPr>
        <p:spPr>
          <a:xfrm>
            <a:off x="2438280" y="2286000"/>
            <a:ext cx="6477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6"/>
          <p:cNvSpPr/>
          <p:nvPr/>
        </p:nvSpPr>
        <p:spPr>
          <a:xfrm>
            <a:off x="228600" y="2209680"/>
            <a:ext cx="2438280" cy="9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宋体"/>
              </a:rPr>
              <a:t>Imag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Most of these .gifs, .jpgs, and .png images can be scaled up to fit your need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7"/>
          <p:cNvSpPr/>
          <p:nvPr/>
        </p:nvSpPr>
        <p:spPr>
          <a:xfrm>
            <a:off x="2667600" y="63972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itle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8"/>
          <p:cNvSpPr/>
          <p:nvPr/>
        </p:nvSpPr>
        <p:spPr>
          <a:xfrm>
            <a:off x="4269240" y="639720"/>
            <a:ext cx="129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lide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9"/>
          <p:cNvSpPr/>
          <p:nvPr/>
        </p:nvSpPr>
        <p:spPr>
          <a:xfrm>
            <a:off x="5868000" y="639720"/>
            <a:ext cx="127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rint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0"/>
          <p:cNvSpPr/>
          <p:nvPr/>
        </p:nvSpPr>
        <p:spPr>
          <a:xfrm>
            <a:off x="7198200" y="639720"/>
            <a:ext cx="179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ransitional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72" descr="yellow_space_qx"/>
          <p:cNvPicPr/>
          <p:nvPr/>
        </p:nvPicPr>
        <p:blipFill>
          <a:blip r:embed="rId1"/>
          <a:stretch/>
        </p:blipFill>
        <p:spPr>
          <a:xfrm>
            <a:off x="2514600" y="914400"/>
            <a:ext cx="154476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99" name="Picture 173" descr="yellow_space_sld"/>
          <p:cNvPicPr/>
          <p:nvPr/>
        </p:nvPicPr>
        <p:blipFill>
          <a:blip r:embed="rId2"/>
          <a:stretch/>
        </p:blipFill>
        <p:spPr>
          <a:xfrm>
            <a:off x="4114800" y="914400"/>
            <a:ext cx="154476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00" name="Picture 174" descr="yellow_space_prt"/>
          <p:cNvPicPr/>
          <p:nvPr/>
        </p:nvPicPr>
        <p:blipFill>
          <a:blip r:embed="rId3"/>
          <a:stretch/>
        </p:blipFill>
        <p:spPr>
          <a:xfrm>
            <a:off x="5715000" y="914400"/>
            <a:ext cx="154476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01" name="Picture 175" descr="yellow_space_trs"/>
          <p:cNvPicPr/>
          <p:nvPr/>
        </p:nvPicPr>
        <p:blipFill>
          <a:blip r:embed="rId4"/>
          <a:stretch/>
        </p:blipFill>
        <p:spPr>
          <a:xfrm>
            <a:off x="7315200" y="914400"/>
            <a:ext cx="154476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Impact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ahoma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Tahoma"/>
              </a:rPr>
              <a:t>：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en-US" sz="16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Tahoma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助</a:t>
            </a:r>
            <a:r>
              <a:rPr b="1" lang="en-US" sz="1600" spc="-1" strike="noStrike">
                <a:solidFill>
                  <a:srgbClr val="e8eff7"/>
                </a:solidFill>
                <a:latin typeface="Tahoma"/>
              </a:rPr>
              <a:t>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 </a:t>
            </a:r>
            <a:r>
              <a:rPr b="1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仅供学习与参考，请勿用于商业用途。否则产生的一切后果将由您自己承担！如有侵犯您的版权，请及时与我们联系。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ahoma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Tahoma"/>
              </a:rPr>
              <a:t>：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1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5:54:50Z</dcterms:created>
  <dc:creator>www.eeppt.com</dc:creator>
  <dc:description>ppt模板下载网站 http://www.eeppt.com</dc:description>
  <dc:language>en-US</dc:language>
  <cp:lastModifiedBy/>
  <dcterms:modified xsi:type="dcterms:W3CDTF">2015-05-27T16:33:38Z</dcterms:modified>
  <cp:revision>8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