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8EA6-0754-4D0F-BD8A-612BBFFC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FEFA-0721-4EA6-9F75-9159D1358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84A5-CB2D-4C09-9670-B35E168A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8610-860A-4203-8196-BCC1C2CFD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2145-98A4-4D9B-BD1E-18F59A31E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E35C-6CD8-483B-8E8B-B8FCD2CC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9489-00A1-446B-9DC0-AE3863C3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C486-FCFA-4114-9DDC-D36C30EE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5D58-4326-4FAE-A5BB-2C179A59A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311A-A554-420C-A26E-98F1E90A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95F4-D179-435C-AE3C-31254773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56AB-3AD2-4190-9456-43FA9B7A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2141-7C46-4110-B236-F1BAB85D4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beijing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4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280" y="6324480"/>
            <a:ext cx="5445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好看的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rcRect l="3618" t="4099" r="412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8440" y="76320"/>
            <a:ext cx="91044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6"/>
          <p:cNvSpPr/>
          <p:nvPr/>
        </p:nvSpPr>
        <p:spPr>
          <a:xfrm>
            <a:off x="250920" y="1413000"/>
            <a:ext cx="6490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6"/>
          <a:srcRect l="2668" t="3813" r="4892" b="16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652_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1"/>
          <a:srcRect l="0" t="148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3146234_145812048_2"/>
          <p:cNvPicPr/>
          <p:nvPr/>
        </p:nvPicPr>
        <p:blipFill>
          <a:blip r:embed="rId1"/>
          <a:stretch/>
        </p:blipFill>
        <p:spPr>
          <a:xfrm>
            <a:off x="0" y="0"/>
            <a:ext cx="9455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040280" y="6400800"/>
            <a:ext cx="4875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背景图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2T16:42:48Z</dcterms:created>
  <dc:creator>www.eeppt.com</dc:creator>
  <dc:description>ppt模板下载网站 http://www.eeppt.com</dc:description>
  <dc:language>en-US</dc:language>
  <cp:lastModifiedBy/>
  <dcterms:modified xsi:type="dcterms:W3CDTF">2015-05-27T16:46:59Z</dcterms:modified>
  <cp:revision>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