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4A4-2305-4909-95BA-417722C6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3E1-B0EF-4EAF-9725-483AC165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73E-14BF-4579-B7CD-5E367510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EB2-7DA4-41F5-9CF4-373C4E1D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C37-BA2B-4691-AF22-E96BF4BE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9E1-0C14-475A-AF08-BD1BE6A5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882-EBA7-4020-8EA3-171EB979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16A-C0D9-4524-AB03-8AA9A322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10C-DC1A-4D81-A9D4-E5673F6D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6BE-64B4-4843-9359-70ED401C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3A6-2183-4602-B30C-62256FB1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F62-9442-40AE-B0E3-1152079C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DA5A-5DD5-4659-BEDE-25FFBE4900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BF8E-C687-4ADF-9164-46F79BE1D2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pn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1835280" y="347184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5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5083200" y="1222200"/>
            <a:ext cx="25210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名字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Shane Steven Filan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生日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1979.7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月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5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星座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巨蟹座 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身高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175cm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爱好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音乐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职业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音乐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联系地址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爱尔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4" descr=""/>
          <p:cNvPicPr/>
          <p:nvPr/>
        </p:nvPicPr>
        <p:blipFill>
          <a:blip r:embed="rId16"/>
          <a:stretch/>
        </p:blipFill>
        <p:spPr>
          <a:xfrm rot="20852400">
            <a:off x="1785600" y="1222200"/>
            <a:ext cx="2376360" cy="1336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2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"/>
          <p:cNvPicPr/>
          <p:nvPr/>
        </p:nvPicPr>
        <p:blipFill>
          <a:blip r:embed="rId3"/>
          <a:stretch/>
        </p:blipFill>
        <p:spPr>
          <a:xfrm>
            <a:off x="1692360" y="1254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7" name="矩形 5"/>
          <p:cNvSpPr/>
          <p:nvPr/>
        </p:nvSpPr>
        <p:spPr>
          <a:xfrm>
            <a:off x="2989440" y="1131840"/>
            <a:ext cx="16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547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09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2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1793160" y="2419200"/>
            <a:ext cx="104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Wos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方正舒体"/>
                <a:ea typeface="方正舒体"/>
              </a:rPr>
              <a:t>水大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6281640" y="1133640"/>
            <a:ext cx="16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902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817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4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8" descr=""/>
          <p:cNvPicPr/>
          <p:nvPr/>
        </p:nvPicPr>
        <p:blipFill>
          <a:blip r:embed="rId4"/>
          <a:stretch/>
        </p:blipFill>
        <p:spPr>
          <a:xfrm>
            <a:off x="5230800" y="1222200"/>
            <a:ext cx="100980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矩形 9"/>
          <p:cNvSpPr/>
          <p:nvPr/>
        </p:nvSpPr>
        <p:spPr>
          <a:xfrm>
            <a:off x="5275440" y="23385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sun_zh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2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"/>
          <p:cNvPicPr/>
          <p:nvPr/>
        </p:nvPicPr>
        <p:blipFill>
          <a:blip r:embed="rId3"/>
          <a:stretch/>
        </p:blipFill>
        <p:spPr>
          <a:xfrm>
            <a:off x="1746360" y="1251000"/>
            <a:ext cx="1143000" cy="1114200"/>
          </a:xfrm>
          <a:prstGeom prst="rect">
            <a:avLst/>
          </a:prstGeom>
          <a:ln w="0">
            <a:noFill/>
          </a:ln>
        </p:spPr>
      </p:pic>
      <p:sp>
        <p:nvSpPr>
          <p:cNvPr id="54" name="矩形 6"/>
          <p:cNvSpPr/>
          <p:nvPr/>
        </p:nvSpPr>
        <p:spPr>
          <a:xfrm>
            <a:off x="1817640" y="24192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本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8" descr=""/>
          <p:cNvPicPr/>
          <p:nvPr/>
        </p:nvPicPr>
        <p:blipFill>
          <a:blip r:embed="rId4"/>
          <a:stretch/>
        </p:blipFill>
        <p:spPr>
          <a:xfrm>
            <a:off x="5230800" y="1289160"/>
            <a:ext cx="1009800" cy="1009440"/>
          </a:xfrm>
          <a:prstGeom prst="rect">
            <a:avLst/>
          </a:prstGeom>
          <a:ln w="0">
            <a:noFill/>
          </a:ln>
        </p:spPr>
      </p:pic>
      <p:sp>
        <p:nvSpPr>
          <p:cNvPr id="56" name="矩形 9"/>
          <p:cNvSpPr/>
          <p:nvPr/>
        </p:nvSpPr>
        <p:spPr>
          <a:xfrm>
            <a:off x="5021280" y="233856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yonneyc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2941560" y="1131840"/>
            <a:ext cx="168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88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4827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639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6281640" y="113184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752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64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8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5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" descr=""/>
          <p:cNvPicPr/>
          <p:nvPr/>
        </p:nvPicPr>
        <p:blipFill>
          <a:blip r:embed="rId3"/>
          <a:stretch/>
        </p:blipFill>
        <p:spPr>
          <a:xfrm>
            <a:off x="1746360" y="1266840"/>
            <a:ext cx="114300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6"/>
          <p:cNvSpPr/>
          <p:nvPr/>
        </p:nvSpPr>
        <p:spPr>
          <a:xfrm>
            <a:off x="1817640" y="2292480"/>
            <a:ext cx="107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Yz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方正舒体"/>
                <a:ea typeface="方正舒体"/>
              </a:rPr>
              <a:t>灰师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8" descr=""/>
          <p:cNvPicPr/>
          <p:nvPr/>
        </p:nvPicPr>
        <p:blipFill>
          <a:blip r:embed="rId4"/>
          <a:stretch/>
        </p:blipFill>
        <p:spPr>
          <a:xfrm>
            <a:off x="5230800" y="1266840"/>
            <a:ext cx="1009800" cy="930240"/>
          </a:xfrm>
          <a:prstGeom prst="rect">
            <a:avLst/>
          </a:prstGeom>
          <a:ln w="0">
            <a:noFill/>
          </a:ln>
        </p:spPr>
      </p:pic>
      <p:sp>
        <p:nvSpPr>
          <p:cNvPr id="63" name="矩形 9"/>
          <p:cNvSpPr/>
          <p:nvPr/>
        </p:nvSpPr>
        <p:spPr>
          <a:xfrm>
            <a:off x="5021280" y="22003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debug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89360" y="1131840"/>
            <a:ext cx="168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690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5668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915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240600" y="1147680"/>
            <a:ext cx="169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68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78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0:02:00Z</dcterms:created>
  <dc:creator>An</dc:creator>
  <dc:description/>
  <dc:language>en-US</dc:language>
  <cp:lastModifiedBy/>
  <dcterms:modified xsi:type="dcterms:W3CDTF">2015-05-27T16:59:08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