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7E12CEE-EE94-42BB-8FBB-C602AD69843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0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yi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9440" y="4651200"/>
            <a:ext cx="82076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9440" y="3359160"/>
            <a:ext cx="82076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26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30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34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6454800"/>
            <a:ext cx="58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公益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i="1" lang="en-US" sz="1800" spc="-1" strike="noStrike" u="sng">
                <a:solidFill>
                  <a:srgbClr val="463900"/>
                </a:solidFill>
                <a:uFillTx/>
                <a:latin typeface="Arial"/>
                <a:hlinkClick r:id="rId1"/>
              </a:rPr>
              <a:t>http://www.eeppt.com/moban/gongyi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479600" y="407664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</cp:lastModifiedBy>
  <dcterms:modified xsi:type="dcterms:W3CDTF">2015-06-13T11:57:00Z</dcterms:modified>
  <cp:revision>2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