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D86-7BB2-440B-8FEC-5ADF61E2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9C2-8B24-4407-B25D-FE02BC2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EE5-A6F7-47A9-8FF0-1AA21F86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DCA-D321-4479-9227-E19995D9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10C-75C3-466C-B65F-A9826AB0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18D-2C2C-4626-B7BB-A302D97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203-636C-4FCB-B5D8-94A9640C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19B-D666-4E0E-9820-2D42924B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6C8-55D3-49AE-AF50-5C86C599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4EB-23F4-4301-B407-3BFF3773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D48-BE88-4BE5-A643-0A71F06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663-8819-4643-A67A-F74B6B7A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FEF0-8C63-46E5-993A-15C4D81F32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F365-7AEE-4298-AC76-F87A3AA632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4938-1310300F954100.jpg"/>
          <p:cNvPicPr/>
          <p:nvPr/>
        </p:nvPicPr>
        <p:blipFill>
          <a:blip r:embed="rId1"/>
          <a:stretch/>
        </p:blipFill>
        <p:spPr>
          <a:xfrm>
            <a:off x="0" y="871560"/>
            <a:ext cx="6332400" cy="569916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234938-1310300P63489.jpg"/>
          <p:cNvPicPr/>
          <p:nvPr/>
        </p:nvPicPr>
        <p:blipFill>
          <a:blip r:embed="rId1"/>
          <a:stretch/>
        </p:blipFill>
        <p:spPr>
          <a:xfrm>
            <a:off x="36360" y="10843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234938-1310300H95420.jpg"/>
          <p:cNvPicPr/>
          <p:nvPr/>
        </p:nvPicPr>
        <p:blipFill>
          <a:blip r:embed="rId1"/>
          <a:stretch/>
        </p:blipFill>
        <p:spPr>
          <a:xfrm>
            <a:off x="576360" y="0"/>
            <a:ext cx="8567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234809-1209231U61651.jpg"/>
          <p:cNvPicPr/>
          <p:nvPr/>
        </p:nvPicPr>
        <p:blipFill>
          <a:blip r:embed="rId1"/>
          <a:stretch/>
        </p:blipFill>
        <p:spPr>
          <a:xfrm>
            <a:off x="324000" y="297000"/>
            <a:ext cx="7084800" cy="601164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3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