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574-AFC3-470A-A2F7-80191B2B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DAFF-A44E-4C67-A9E6-BFF618F7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563-8F23-4090-A93E-602DF5E1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01DB-2B86-43DD-8DCB-6DFB58DB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4C8-F657-41D5-B747-4B5D12A0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1E0-E173-4BD9-878C-5AADD3DD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B76-DA33-4CB0-9860-1FFFAA31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37A-77BA-444A-8216-0FA00C87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7CA-5198-41A0-897E-BFF03014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0F9-35E2-49FD-8A77-8D08D18A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AF4-C73F-4057-927A-4C9924B9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35E-6BBF-4F28-8465-CED60256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45AF-A4A3-439B-9786-044D3B0B6E4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031C-05E2-4274-B090-4DA5F636F8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240439-130P40U21595.jpg"/>
          <p:cNvPicPr/>
          <p:nvPr/>
        </p:nvPicPr>
        <p:blipFill>
          <a:blip r:embed="rId1"/>
          <a:stretch/>
        </p:blipFill>
        <p:spPr>
          <a:xfrm>
            <a:off x="2995560" y="971640"/>
            <a:ext cx="6148440" cy="59022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Redocn_2011011409544072.jpg"/>
          <p:cNvPicPr/>
          <p:nvPr/>
        </p:nvPicPr>
        <p:blipFill>
          <a:blip r:embed="rId1"/>
          <a:srcRect l="0" t="8040" r="0" b="15033"/>
          <a:stretch/>
        </p:blipFill>
        <p:spPr>
          <a:xfrm>
            <a:off x="119160" y="297000"/>
            <a:ext cx="9024840" cy="6561000"/>
          </a:xfrm>
          <a:prstGeom prst="rect">
            <a:avLst/>
          </a:prstGeom>
          <a:ln w="0">
            <a:noFill/>
          </a:ln>
        </p:spPr>
      </p:pic>
      <p:sp>
        <p:nvSpPr>
          <p:cNvPr id="49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8:3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