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919-A0AE-435F-BB00-002EAC42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E45-1BE7-4693-AF33-6EFF6950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2C3-E285-45BA-911D-1D3DBB47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DAC4-D087-417B-8159-3F582F0E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C41-06DD-4A66-81C2-D2294C65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0CA6-6AEA-44C9-BAAA-0D154DBD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9920-E6A2-461D-A45C-D1CE39AD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88F7-3695-480F-BE5E-8B2C7F29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095-7F91-4377-BE6C-9E25B483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75C1-2901-4443-B474-0771C077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B07-4B8D-41EC-B633-98FF892F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C78-72C0-452C-AC34-CC5C7933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977C-5D88-4191-A381-AC3E8701117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3314-346C-4D30-8B01-184151179D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34809-1209231Z61611.jpg"/>
          <p:cNvPicPr/>
          <p:nvPr/>
        </p:nvPicPr>
        <p:blipFill>
          <a:blip r:embed="rId1"/>
          <a:stretch/>
        </p:blipFill>
        <p:spPr>
          <a:xfrm>
            <a:off x="2073240" y="571680"/>
            <a:ext cx="7070760" cy="599904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234809-12092319525692.jpg"/>
          <p:cNvPicPr/>
          <p:nvPr/>
        </p:nvPicPr>
        <p:blipFill>
          <a:blip r:embed="rId1"/>
          <a:stretch/>
        </p:blipFill>
        <p:spPr>
          <a:xfrm>
            <a:off x="4803840" y="0"/>
            <a:ext cx="40402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154507-12050516161040.jpg"/>
          <p:cNvPicPr/>
          <p:nvPr/>
        </p:nvPicPr>
        <p:blipFill>
          <a:blip r:embed="rId1"/>
          <a:stretch/>
        </p:blipFill>
        <p:spPr>
          <a:xfrm>
            <a:off x="2612880" y="0"/>
            <a:ext cx="6531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188976-120606102H737.jpg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188976-12060610304711.jpg"/>
          <p:cNvPicPr/>
          <p:nvPr/>
        </p:nvPicPr>
        <p:blipFill>
          <a:blip r:embed="rId1"/>
          <a:stretch/>
        </p:blipFill>
        <p:spPr>
          <a:xfrm>
            <a:off x="4014720" y="596880"/>
            <a:ext cx="5129280" cy="6154920"/>
          </a:xfrm>
          <a:prstGeom prst="rect">
            <a:avLst/>
          </a:prstGeom>
          <a:ln w="0">
            <a:noFill/>
          </a:ln>
        </p:spPr>
      </p:pic>
      <p:sp>
        <p:nvSpPr>
          <p:cNvPr id="54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201979-120H012033248.jpg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" descr="219049-1209291Q64260.jpg"/>
          <p:cNvPicPr/>
          <p:nvPr/>
        </p:nvPicPr>
        <p:blipFill>
          <a:blip r:embed="rId1"/>
          <a:stretch/>
        </p:blipFill>
        <p:spPr>
          <a:xfrm>
            <a:off x="5280120" y="274680"/>
            <a:ext cx="386388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234666-1310240I91617.jpg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234809-1209231Z93648.jpg"/>
          <p:cNvPicPr/>
          <p:nvPr/>
        </p:nvPicPr>
        <p:blipFill>
          <a:blip r:embed="rId1"/>
          <a:stretch/>
        </p:blipFill>
        <p:spPr>
          <a:xfrm>
            <a:off x="1060560" y="0"/>
            <a:ext cx="80834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8:3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