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75B-34D0-4E3E-86FE-54C558B3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C52-DDDA-4C46-A12B-15DDABB9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63E-8140-45D5-AC06-23DC3168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DBD-7F6B-4513-9146-0C52FD85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3B91-A414-4D1C-86FA-4E4E396F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E9E-7349-49EC-830D-1F3C1E03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AEEC-510D-4586-8E02-21D8477F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68C-6BA5-4AA4-BF49-9953407B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175F-96A5-4133-85BD-0FD90187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BFD9-7C01-4E0B-BCDA-32EF3FC3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CA8-274C-46E9-AEF5-6BF7EF4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190-5BAF-4BBE-A830-7F12AB9A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FA23-3D8E-4387-AC37-92A3C37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548C-F108-4110-B632-A0412910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8C1-ABCE-491B-A3B5-6A104F9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631E-4831-46DC-B53B-7EE07F83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650-D035-4C65-8C21-371BF9F2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D57-DA80-4C5F-A398-CBFA698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62A-1E12-4799-B3A3-BA194A84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EA4-BD85-4721-9EA2-D03E73F8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7BB-58E3-4F81-A9EE-8650AFB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1A6-8680-4DAB-845D-1848051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163-7C90-4920-B72D-86494B30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E64-9A2C-400C-B238-B30D838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7AB-5C1E-4C99-B2CB-CA419292EB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4D4-18A6-4174-A77E-416A5DAD4A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92C-D203-40EB-BAC1-4499654E1B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1B8E-D53B-4B1D-B8C2-0B5466A7C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澳洲板块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46160" y="1762200"/>
            <a:ext cx="5113080" cy="4755600"/>
            <a:chOff x="1946160" y="1762200"/>
            <a:chExt cx="5113080" cy="4755600"/>
          </a:xfrm>
        </p:grpSpPr>
        <p:sp>
          <p:nvSpPr>
            <p:cNvPr id="84" name="Freeform 45"/>
            <p:cNvSpPr/>
            <p:nvPr/>
          </p:nvSpPr>
          <p:spPr>
            <a:xfrm>
              <a:off x="1946160" y="2183400"/>
              <a:ext cx="2062080" cy="3127320"/>
            </a:xfrm>
            <a:custGeom>
              <a:avLst/>
              <a:gdLst/>
              <a:ahLst/>
              <a:rect l="l" t="t" r="r" b="b"/>
              <a:pathLst>
                <a:path w="2057" h="3118">
                  <a:moveTo>
                    <a:pt x="1971" y="144"/>
                  </a:moveTo>
                  <a:lnTo>
                    <a:pt x="1902" y="126"/>
                  </a:lnTo>
                  <a:lnTo>
                    <a:pt x="1848" y="186"/>
                  </a:lnTo>
                  <a:lnTo>
                    <a:pt x="1854" y="120"/>
                  </a:lnTo>
                  <a:lnTo>
                    <a:pt x="1800" y="78"/>
                  </a:lnTo>
                  <a:lnTo>
                    <a:pt x="1740" y="18"/>
                  </a:lnTo>
                  <a:lnTo>
                    <a:pt x="1674" y="0"/>
                  </a:lnTo>
                  <a:lnTo>
                    <a:pt x="1538" y="87"/>
                  </a:lnTo>
                  <a:lnTo>
                    <a:pt x="1529" y="129"/>
                  </a:lnTo>
                  <a:lnTo>
                    <a:pt x="1487" y="102"/>
                  </a:lnTo>
                  <a:lnTo>
                    <a:pt x="1424" y="153"/>
                  </a:lnTo>
                  <a:lnTo>
                    <a:pt x="1454" y="202"/>
                  </a:lnTo>
                  <a:lnTo>
                    <a:pt x="1409" y="199"/>
                  </a:lnTo>
                  <a:lnTo>
                    <a:pt x="1328" y="283"/>
                  </a:lnTo>
                  <a:lnTo>
                    <a:pt x="1343" y="331"/>
                  </a:lnTo>
                  <a:lnTo>
                    <a:pt x="1313" y="394"/>
                  </a:lnTo>
                  <a:lnTo>
                    <a:pt x="1241" y="373"/>
                  </a:lnTo>
                  <a:lnTo>
                    <a:pt x="1217" y="436"/>
                  </a:lnTo>
                  <a:lnTo>
                    <a:pt x="1268" y="481"/>
                  </a:lnTo>
                  <a:lnTo>
                    <a:pt x="1229" y="544"/>
                  </a:lnTo>
                  <a:lnTo>
                    <a:pt x="1139" y="427"/>
                  </a:lnTo>
                  <a:lnTo>
                    <a:pt x="1056" y="517"/>
                  </a:lnTo>
                  <a:lnTo>
                    <a:pt x="1041" y="604"/>
                  </a:lnTo>
                  <a:lnTo>
                    <a:pt x="1083" y="657"/>
                  </a:lnTo>
                  <a:lnTo>
                    <a:pt x="1002" y="729"/>
                  </a:lnTo>
                  <a:lnTo>
                    <a:pt x="936" y="867"/>
                  </a:lnTo>
                  <a:lnTo>
                    <a:pt x="783" y="957"/>
                  </a:lnTo>
                  <a:lnTo>
                    <a:pt x="681" y="972"/>
                  </a:lnTo>
                  <a:lnTo>
                    <a:pt x="629" y="1020"/>
                  </a:lnTo>
                  <a:lnTo>
                    <a:pt x="542" y="1047"/>
                  </a:lnTo>
                  <a:lnTo>
                    <a:pt x="539" y="1048"/>
                  </a:lnTo>
                  <a:lnTo>
                    <a:pt x="533" y="1056"/>
                  </a:lnTo>
                  <a:lnTo>
                    <a:pt x="522" y="1066"/>
                  </a:lnTo>
                  <a:lnTo>
                    <a:pt x="509" y="1078"/>
                  </a:lnTo>
                  <a:lnTo>
                    <a:pt x="491" y="1089"/>
                  </a:lnTo>
                  <a:lnTo>
                    <a:pt x="470" y="1099"/>
                  </a:lnTo>
                  <a:lnTo>
                    <a:pt x="446" y="1107"/>
                  </a:lnTo>
                  <a:lnTo>
                    <a:pt x="419" y="1108"/>
                  </a:lnTo>
                  <a:lnTo>
                    <a:pt x="383" y="1113"/>
                  </a:lnTo>
                  <a:lnTo>
                    <a:pt x="348" y="1123"/>
                  </a:lnTo>
                  <a:lnTo>
                    <a:pt x="317" y="1140"/>
                  </a:lnTo>
                  <a:lnTo>
                    <a:pt x="288" y="1161"/>
                  </a:lnTo>
                  <a:lnTo>
                    <a:pt x="263" y="1183"/>
                  </a:lnTo>
                  <a:lnTo>
                    <a:pt x="239" y="1207"/>
                  </a:lnTo>
                  <a:lnTo>
                    <a:pt x="219" y="1228"/>
                  </a:lnTo>
                  <a:lnTo>
                    <a:pt x="197" y="1246"/>
                  </a:lnTo>
                  <a:lnTo>
                    <a:pt x="174" y="1264"/>
                  </a:lnTo>
                  <a:lnTo>
                    <a:pt x="152" y="1281"/>
                  </a:lnTo>
                  <a:lnTo>
                    <a:pt x="132" y="1296"/>
                  </a:lnTo>
                  <a:lnTo>
                    <a:pt x="117" y="1309"/>
                  </a:lnTo>
                  <a:lnTo>
                    <a:pt x="108" y="1321"/>
                  </a:lnTo>
                  <a:lnTo>
                    <a:pt x="102" y="1335"/>
                  </a:lnTo>
                  <a:lnTo>
                    <a:pt x="98" y="1351"/>
                  </a:lnTo>
                  <a:lnTo>
                    <a:pt x="93" y="1371"/>
                  </a:lnTo>
                  <a:lnTo>
                    <a:pt x="90" y="1387"/>
                  </a:lnTo>
                  <a:lnTo>
                    <a:pt x="87" y="1402"/>
                  </a:lnTo>
                  <a:lnTo>
                    <a:pt x="84" y="1413"/>
                  </a:lnTo>
                  <a:lnTo>
                    <a:pt x="84" y="1417"/>
                  </a:lnTo>
                  <a:lnTo>
                    <a:pt x="57" y="1414"/>
                  </a:lnTo>
                  <a:lnTo>
                    <a:pt x="27" y="1366"/>
                  </a:lnTo>
                  <a:lnTo>
                    <a:pt x="0" y="1456"/>
                  </a:lnTo>
                  <a:lnTo>
                    <a:pt x="2" y="1459"/>
                  </a:lnTo>
                  <a:lnTo>
                    <a:pt x="8" y="1465"/>
                  </a:lnTo>
                  <a:lnTo>
                    <a:pt x="14" y="1477"/>
                  </a:lnTo>
                  <a:lnTo>
                    <a:pt x="21" y="1491"/>
                  </a:lnTo>
                  <a:lnTo>
                    <a:pt x="29" y="1506"/>
                  </a:lnTo>
                  <a:lnTo>
                    <a:pt x="35" y="1521"/>
                  </a:lnTo>
                  <a:lnTo>
                    <a:pt x="38" y="1534"/>
                  </a:lnTo>
                  <a:lnTo>
                    <a:pt x="36" y="1545"/>
                  </a:lnTo>
                  <a:lnTo>
                    <a:pt x="32" y="1558"/>
                  </a:lnTo>
                  <a:lnTo>
                    <a:pt x="27" y="1578"/>
                  </a:lnTo>
                  <a:lnTo>
                    <a:pt x="21" y="1600"/>
                  </a:lnTo>
                  <a:lnTo>
                    <a:pt x="17" y="1626"/>
                  </a:lnTo>
                  <a:lnTo>
                    <a:pt x="14" y="1651"/>
                  </a:lnTo>
                  <a:lnTo>
                    <a:pt x="12" y="1677"/>
                  </a:lnTo>
                  <a:lnTo>
                    <a:pt x="14" y="1698"/>
                  </a:lnTo>
                  <a:lnTo>
                    <a:pt x="18" y="1716"/>
                  </a:lnTo>
                  <a:lnTo>
                    <a:pt x="24" y="1728"/>
                  </a:lnTo>
                  <a:lnTo>
                    <a:pt x="33" y="1744"/>
                  </a:lnTo>
                  <a:lnTo>
                    <a:pt x="45" y="1762"/>
                  </a:lnTo>
                  <a:lnTo>
                    <a:pt x="59" y="1783"/>
                  </a:lnTo>
                  <a:lnTo>
                    <a:pt x="74" y="1804"/>
                  </a:lnTo>
                  <a:lnTo>
                    <a:pt x="89" y="1827"/>
                  </a:lnTo>
                  <a:lnTo>
                    <a:pt x="104" y="1848"/>
                  </a:lnTo>
                  <a:lnTo>
                    <a:pt x="117" y="1866"/>
                  </a:lnTo>
                  <a:lnTo>
                    <a:pt x="129" y="1882"/>
                  </a:lnTo>
                  <a:lnTo>
                    <a:pt x="138" y="1896"/>
                  </a:lnTo>
                  <a:lnTo>
                    <a:pt x="144" y="1905"/>
                  </a:lnTo>
                  <a:lnTo>
                    <a:pt x="147" y="1908"/>
                  </a:lnTo>
                  <a:lnTo>
                    <a:pt x="129" y="1956"/>
                  </a:lnTo>
                  <a:lnTo>
                    <a:pt x="87" y="2023"/>
                  </a:lnTo>
                  <a:lnTo>
                    <a:pt x="90" y="2026"/>
                  </a:lnTo>
                  <a:lnTo>
                    <a:pt x="98" y="2034"/>
                  </a:lnTo>
                  <a:lnTo>
                    <a:pt x="110" y="2044"/>
                  </a:lnTo>
                  <a:lnTo>
                    <a:pt x="123" y="2059"/>
                  </a:lnTo>
                  <a:lnTo>
                    <a:pt x="138" y="2074"/>
                  </a:lnTo>
                  <a:lnTo>
                    <a:pt x="153" y="2092"/>
                  </a:lnTo>
                  <a:lnTo>
                    <a:pt x="165" y="2109"/>
                  </a:lnTo>
                  <a:lnTo>
                    <a:pt x="174" y="2125"/>
                  </a:lnTo>
                  <a:lnTo>
                    <a:pt x="180" y="2140"/>
                  </a:lnTo>
                  <a:lnTo>
                    <a:pt x="185" y="2155"/>
                  </a:lnTo>
                  <a:lnTo>
                    <a:pt x="194" y="2173"/>
                  </a:lnTo>
                  <a:lnTo>
                    <a:pt x="209" y="2196"/>
                  </a:lnTo>
                  <a:lnTo>
                    <a:pt x="225" y="2220"/>
                  </a:lnTo>
                  <a:lnTo>
                    <a:pt x="243" y="2244"/>
                  </a:lnTo>
                  <a:lnTo>
                    <a:pt x="261" y="2269"/>
                  </a:lnTo>
                  <a:lnTo>
                    <a:pt x="279" y="2295"/>
                  </a:lnTo>
                  <a:lnTo>
                    <a:pt x="294" y="2319"/>
                  </a:lnTo>
                  <a:lnTo>
                    <a:pt x="305" y="2340"/>
                  </a:lnTo>
                  <a:lnTo>
                    <a:pt x="311" y="2359"/>
                  </a:lnTo>
                  <a:lnTo>
                    <a:pt x="317" y="2389"/>
                  </a:lnTo>
                  <a:lnTo>
                    <a:pt x="323" y="2424"/>
                  </a:lnTo>
                  <a:lnTo>
                    <a:pt x="330" y="2458"/>
                  </a:lnTo>
                  <a:lnTo>
                    <a:pt x="338" y="2493"/>
                  </a:lnTo>
                  <a:lnTo>
                    <a:pt x="347" y="2523"/>
                  </a:lnTo>
                  <a:lnTo>
                    <a:pt x="359" y="2547"/>
                  </a:lnTo>
                  <a:lnTo>
                    <a:pt x="377" y="2572"/>
                  </a:lnTo>
                  <a:lnTo>
                    <a:pt x="398" y="2596"/>
                  </a:lnTo>
                  <a:lnTo>
                    <a:pt x="419" y="2620"/>
                  </a:lnTo>
                  <a:lnTo>
                    <a:pt x="440" y="2647"/>
                  </a:lnTo>
                  <a:lnTo>
                    <a:pt x="458" y="2676"/>
                  </a:lnTo>
                  <a:lnTo>
                    <a:pt x="465" y="2695"/>
                  </a:lnTo>
                  <a:lnTo>
                    <a:pt x="470" y="2719"/>
                  </a:lnTo>
                  <a:lnTo>
                    <a:pt x="471" y="2745"/>
                  </a:lnTo>
                  <a:lnTo>
                    <a:pt x="473" y="2773"/>
                  </a:lnTo>
                  <a:lnTo>
                    <a:pt x="473" y="2800"/>
                  </a:lnTo>
                  <a:lnTo>
                    <a:pt x="471" y="2826"/>
                  </a:lnTo>
                  <a:lnTo>
                    <a:pt x="471" y="2848"/>
                  </a:lnTo>
                  <a:lnTo>
                    <a:pt x="473" y="2866"/>
                  </a:lnTo>
                  <a:lnTo>
                    <a:pt x="476" y="2878"/>
                  </a:lnTo>
                  <a:lnTo>
                    <a:pt x="476" y="2890"/>
                  </a:lnTo>
                  <a:lnTo>
                    <a:pt x="470" y="2904"/>
                  </a:lnTo>
                  <a:lnTo>
                    <a:pt x="459" y="2916"/>
                  </a:lnTo>
                  <a:lnTo>
                    <a:pt x="446" y="2929"/>
                  </a:lnTo>
                  <a:lnTo>
                    <a:pt x="434" y="2944"/>
                  </a:lnTo>
                  <a:lnTo>
                    <a:pt x="423" y="2958"/>
                  </a:lnTo>
                  <a:lnTo>
                    <a:pt x="419" y="2971"/>
                  </a:lnTo>
                  <a:lnTo>
                    <a:pt x="419" y="2991"/>
                  </a:lnTo>
                  <a:lnTo>
                    <a:pt x="425" y="3010"/>
                  </a:lnTo>
                  <a:lnTo>
                    <a:pt x="435" y="3027"/>
                  </a:lnTo>
                  <a:lnTo>
                    <a:pt x="450" y="3042"/>
                  </a:lnTo>
                  <a:lnTo>
                    <a:pt x="473" y="3052"/>
                  </a:lnTo>
                  <a:lnTo>
                    <a:pt x="486" y="3060"/>
                  </a:lnTo>
                  <a:lnTo>
                    <a:pt x="501" y="3069"/>
                  </a:lnTo>
                  <a:lnTo>
                    <a:pt x="518" y="3079"/>
                  </a:lnTo>
                  <a:lnTo>
                    <a:pt x="534" y="3091"/>
                  </a:lnTo>
                  <a:lnTo>
                    <a:pt x="554" y="3102"/>
                  </a:lnTo>
                  <a:lnTo>
                    <a:pt x="573" y="3111"/>
                  </a:lnTo>
                  <a:lnTo>
                    <a:pt x="597" y="3117"/>
                  </a:lnTo>
                  <a:lnTo>
                    <a:pt x="623" y="3118"/>
                  </a:lnTo>
                  <a:lnTo>
                    <a:pt x="653" y="3115"/>
                  </a:lnTo>
                  <a:lnTo>
                    <a:pt x="705" y="3102"/>
                  </a:lnTo>
                  <a:lnTo>
                    <a:pt x="753" y="3084"/>
                  </a:lnTo>
                  <a:lnTo>
                    <a:pt x="798" y="3064"/>
                  </a:lnTo>
                  <a:lnTo>
                    <a:pt x="840" y="3046"/>
                  </a:lnTo>
                  <a:lnTo>
                    <a:pt x="879" y="3031"/>
                  </a:lnTo>
                  <a:lnTo>
                    <a:pt x="905" y="3021"/>
                  </a:lnTo>
                  <a:lnTo>
                    <a:pt x="932" y="3003"/>
                  </a:lnTo>
                  <a:lnTo>
                    <a:pt x="962" y="2982"/>
                  </a:lnTo>
                  <a:lnTo>
                    <a:pt x="995" y="2961"/>
                  </a:lnTo>
                  <a:lnTo>
                    <a:pt x="1029" y="2940"/>
                  </a:lnTo>
                  <a:lnTo>
                    <a:pt x="1065" y="2922"/>
                  </a:lnTo>
                  <a:lnTo>
                    <a:pt x="1104" y="2908"/>
                  </a:lnTo>
                  <a:lnTo>
                    <a:pt x="1145" y="2902"/>
                  </a:lnTo>
                  <a:lnTo>
                    <a:pt x="1181" y="2902"/>
                  </a:lnTo>
                  <a:lnTo>
                    <a:pt x="1217" y="2902"/>
                  </a:lnTo>
                  <a:lnTo>
                    <a:pt x="1254" y="2901"/>
                  </a:lnTo>
                  <a:lnTo>
                    <a:pt x="1292" y="2899"/>
                  </a:lnTo>
                  <a:lnTo>
                    <a:pt x="1328" y="2896"/>
                  </a:lnTo>
                  <a:lnTo>
                    <a:pt x="1362" y="2892"/>
                  </a:lnTo>
                  <a:lnTo>
                    <a:pt x="1392" y="2886"/>
                  </a:lnTo>
                  <a:lnTo>
                    <a:pt x="1418" y="2878"/>
                  </a:lnTo>
                  <a:lnTo>
                    <a:pt x="1437" y="2866"/>
                  </a:lnTo>
                  <a:lnTo>
                    <a:pt x="1451" y="2853"/>
                  </a:lnTo>
                  <a:lnTo>
                    <a:pt x="1461" y="2829"/>
                  </a:lnTo>
                  <a:lnTo>
                    <a:pt x="1472" y="2808"/>
                  </a:lnTo>
                  <a:lnTo>
                    <a:pt x="1479" y="2787"/>
                  </a:lnTo>
                  <a:lnTo>
                    <a:pt x="1488" y="2769"/>
                  </a:lnTo>
                  <a:lnTo>
                    <a:pt x="1499" y="2754"/>
                  </a:lnTo>
                  <a:lnTo>
                    <a:pt x="1511" y="2740"/>
                  </a:lnTo>
                  <a:lnTo>
                    <a:pt x="1529" y="2733"/>
                  </a:lnTo>
                  <a:lnTo>
                    <a:pt x="1548" y="2722"/>
                  </a:lnTo>
                  <a:lnTo>
                    <a:pt x="1572" y="2709"/>
                  </a:lnTo>
                  <a:lnTo>
                    <a:pt x="1598" y="2691"/>
                  </a:lnTo>
                  <a:lnTo>
                    <a:pt x="1623" y="2673"/>
                  </a:lnTo>
                  <a:lnTo>
                    <a:pt x="1649" y="2656"/>
                  </a:lnTo>
                  <a:lnTo>
                    <a:pt x="1674" y="2643"/>
                  </a:lnTo>
                  <a:lnTo>
                    <a:pt x="1698" y="2634"/>
                  </a:lnTo>
                  <a:lnTo>
                    <a:pt x="1721" y="2631"/>
                  </a:lnTo>
                  <a:lnTo>
                    <a:pt x="1751" y="2626"/>
                  </a:lnTo>
                  <a:lnTo>
                    <a:pt x="1785" y="2623"/>
                  </a:lnTo>
                  <a:lnTo>
                    <a:pt x="1824" y="2617"/>
                  </a:lnTo>
                  <a:lnTo>
                    <a:pt x="1865" y="2611"/>
                  </a:lnTo>
                  <a:lnTo>
                    <a:pt x="1905" y="2604"/>
                  </a:lnTo>
                  <a:lnTo>
                    <a:pt x="1943" y="2595"/>
                  </a:lnTo>
                  <a:lnTo>
                    <a:pt x="1976" y="2581"/>
                  </a:lnTo>
                  <a:lnTo>
                    <a:pt x="2004" y="2565"/>
                  </a:lnTo>
                  <a:lnTo>
                    <a:pt x="2028" y="2550"/>
                  </a:lnTo>
                  <a:lnTo>
                    <a:pt x="2057" y="2538"/>
                  </a:lnTo>
                  <a:lnTo>
                    <a:pt x="1971" y="14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3922200" y="1800360"/>
              <a:ext cx="1259640" cy="2116080"/>
            </a:xfrm>
            <a:custGeom>
              <a:avLst/>
              <a:gdLst/>
              <a:ahLst/>
              <a:rect l="l" t="t" r="r" b="b"/>
              <a:pathLst>
                <a:path w="1256" h="2109">
                  <a:moveTo>
                    <a:pt x="1256" y="772"/>
                  </a:moveTo>
                  <a:lnTo>
                    <a:pt x="1253" y="769"/>
                  </a:lnTo>
                  <a:lnTo>
                    <a:pt x="1245" y="763"/>
                  </a:lnTo>
                  <a:lnTo>
                    <a:pt x="1235" y="753"/>
                  </a:lnTo>
                  <a:lnTo>
                    <a:pt x="1220" y="739"/>
                  </a:lnTo>
                  <a:lnTo>
                    <a:pt x="1203" y="726"/>
                  </a:lnTo>
                  <a:lnTo>
                    <a:pt x="1185" y="711"/>
                  </a:lnTo>
                  <a:lnTo>
                    <a:pt x="1164" y="697"/>
                  </a:lnTo>
                  <a:lnTo>
                    <a:pt x="1145" y="685"/>
                  </a:lnTo>
                  <a:lnTo>
                    <a:pt x="1124" y="676"/>
                  </a:lnTo>
                  <a:lnTo>
                    <a:pt x="1092" y="664"/>
                  </a:lnTo>
                  <a:lnTo>
                    <a:pt x="1064" y="649"/>
                  </a:lnTo>
                  <a:lnTo>
                    <a:pt x="1040" y="631"/>
                  </a:lnTo>
                  <a:lnTo>
                    <a:pt x="1016" y="612"/>
                  </a:lnTo>
                  <a:lnTo>
                    <a:pt x="989" y="586"/>
                  </a:lnTo>
                  <a:lnTo>
                    <a:pt x="966" y="567"/>
                  </a:lnTo>
                  <a:lnTo>
                    <a:pt x="944" y="549"/>
                  </a:lnTo>
                  <a:lnTo>
                    <a:pt x="924" y="532"/>
                  </a:lnTo>
                  <a:lnTo>
                    <a:pt x="909" y="519"/>
                  </a:lnTo>
                  <a:lnTo>
                    <a:pt x="900" y="507"/>
                  </a:lnTo>
                  <a:lnTo>
                    <a:pt x="900" y="495"/>
                  </a:lnTo>
                  <a:lnTo>
                    <a:pt x="905" y="484"/>
                  </a:lnTo>
                  <a:lnTo>
                    <a:pt x="914" y="471"/>
                  </a:lnTo>
                  <a:lnTo>
                    <a:pt x="926" y="456"/>
                  </a:lnTo>
                  <a:lnTo>
                    <a:pt x="941" y="438"/>
                  </a:lnTo>
                  <a:lnTo>
                    <a:pt x="954" y="420"/>
                  </a:lnTo>
                  <a:lnTo>
                    <a:pt x="968" y="403"/>
                  </a:lnTo>
                  <a:lnTo>
                    <a:pt x="977" y="385"/>
                  </a:lnTo>
                  <a:lnTo>
                    <a:pt x="983" y="369"/>
                  </a:lnTo>
                  <a:lnTo>
                    <a:pt x="984" y="352"/>
                  </a:lnTo>
                  <a:lnTo>
                    <a:pt x="983" y="340"/>
                  </a:lnTo>
                  <a:lnTo>
                    <a:pt x="980" y="331"/>
                  </a:lnTo>
                  <a:lnTo>
                    <a:pt x="977" y="322"/>
                  </a:lnTo>
                  <a:lnTo>
                    <a:pt x="977" y="313"/>
                  </a:lnTo>
                  <a:lnTo>
                    <a:pt x="980" y="303"/>
                  </a:lnTo>
                  <a:lnTo>
                    <a:pt x="989" y="291"/>
                  </a:lnTo>
                  <a:lnTo>
                    <a:pt x="1002" y="282"/>
                  </a:lnTo>
                  <a:lnTo>
                    <a:pt x="1016" y="276"/>
                  </a:lnTo>
                  <a:lnTo>
                    <a:pt x="1029" y="271"/>
                  </a:lnTo>
                  <a:lnTo>
                    <a:pt x="1043" y="270"/>
                  </a:lnTo>
                  <a:lnTo>
                    <a:pt x="1056" y="267"/>
                  </a:lnTo>
                  <a:lnTo>
                    <a:pt x="1067" y="264"/>
                  </a:lnTo>
                  <a:lnTo>
                    <a:pt x="1074" y="256"/>
                  </a:lnTo>
                  <a:lnTo>
                    <a:pt x="1079" y="246"/>
                  </a:lnTo>
                  <a:lnTo>
                    <a:pt x="1085" y="231"/>
                  </a:lnTo>
                  <a:lnTo>
                    <a:pt x="1094" y="213"/>
                  </a:lnTo>
                  <a:lnTo>
                    <a:pt x="1106" y="196"/>
                  </a:lnTo>
                  <a:lnTo>
                    <a:pt x="1118" y="180"/>
                  </a:lnTo>
                  <a:lnTo>
                    <a:pt x="1127" y="163"/>
                  </a:lnTo>
                  <a:lnTo>
                    <a:pt x="1130" y="147"/>
                  </a:lnTo>
                  <a:lnTo>
                    <a:pt x="1127" y="132"/>
                  </a:lnTo>
                  <a:lnTo>
                    <a:pt x="1116" y="120"/>
                  </a:lnTo>
                  <a:lnTo>
                    <a:pt x="1101" y="111"/>
                  </a:lnTo>
                  <a:lnTo>
                    <a:pt x="1085" y="103"/>
                  </a:lnTo>
                  <a:lnTo>
                    <a:pt x="1068" y="99"/>
                  </a:lnTo>
                  <a:lnTo>
                    <a:pt x="1055" y="96"/>
                  </a:lnTo>
                  <a:lnTo>
                    <a:pt x="1044" y="94"/>
                  </a:lnTo>
                  <a:lnTo>
                    <a:pt x="1040" y="94"/>
                  </a:lnTo>
                  <a:lnTo>
                    <a:pt x="1040" y="96"/>
                  </a:lnTo>
                  <a:lnTo>
                    <a:pt x="1037" y="103"/>
                  </a:lnTo>
                  <a:lnTo>
                    <a:pt x="1031" y="112"/>
                  </a:lnTo>
                  <a:lnTo>
                    <a:pt x="1025" y="123"/>
                  </a:lnTo>
                  <a:lnTo>
                    <a:pt x="1014" y="133"/>
                  </a:lnTo>
                  <a:lnTo>
                    <a:pt x="1004" y="141"/>
                  </a:lnTo>
                  <a:lnTo>
                    <a:pt x="990" y="144"/>
                  </a:lnTo>
                  <a:lnTo>
                    <a:pt x="974" y="141"/>
                  </a:lnTo>
                  <a:lnTo>
                    <a:pt x="948" y="135"/>
                  </a:lnTo>
                  <a:lnTo>
                    <a:pt x="914" y="127"/>
                  </a:lnTo>
                  <a:lnTo>
                    <a:pt x="876" y="121"/>
                  </a:lnTo>
                  <a:lnTo>
                    <a:pt x="834" y="114"/>
                  </a:lnTo>
                  <a:lnTo>
                    <a:pt x="792" y="105"/>
                  </a:lnTo>
                  <a:lnTo>
                    <a:pt x="750" y="94"/>
                  </a:lnTo>
                  <a:lnTo>
                    <a:pt x="720" y="82"/>
                  </a:lnTo>
                  <a:lnTo>
                    <a:pt x="690" y="70"/>
                  </a:lnTo>
                  <a:lnTo>
                    <a:pt x="663" y="55"/>
                  </a:lnTo>
                  <a:lnTo>
                    <a:pt x="636" y="40"/>
                  </a:lnTo>
                  <a:lnTo>
                    <a:pt x="612" y="27"/>
                  </a:lnTo>
                  <a:lnTo>
                    <a:pt x="591" y="15"/>
                  </a:lnTo>
                  <a:lnTo>
                    <a:pt x="573" y="6"/>
                  </a:lnTo>
                  <a:lnTo>
                    <a:pt x="558" y="1"/>
                  </a:lnTo>
                  <a:lnTo>
                    <a:pt x="545" y="0"/>
                  </a:lnTo>
                  <a:lnTo>
                    <a:pt x="525" y="0"/>
                  </a:lnTo>
                  <a:lnTo>
                    <a:pt x="506" y="0"/>
                  </a:lnTo>
                  <a:lnTo>
                    <a:pt x="485" y="1"/>
                  </a:lnTo>
                  <a:lnTo>
                    <a:pt x="467" y="3"/>
                  </a:lnTo>
                  <a:lnTo>
                    <a:pt x="450" y="6"/>
                  </a:lnTo>
                  <a:lnTo>
                    <a:pt x="440" y="6"/>
                  </a:lnTo>
                  <a:lnTo>
                    <a:pt x="437" y="7"/>
                  </a:lnTo>
                  <a:lnTo>
                    <a:pt x="435" y="9"/>
                  </a:lnTo>
                  <a:lnTo>
                    <a:pt x="434" y="13"/>
                  </a:lnTo>
                  <a:lnTo>
                    <a:pt x="434" y="19"/>
                  </a:lnTo>
                  <a:lnTo>
                    <a:pt x="434" y="25"/>
                  </a:lnTo>
                  <a:lnTo>
                    <a:pt x="437" y="31"/>
                  </a:lnTo>
                  <a:lnTo>
                    <a:pt x="444" y="34"/>
                  </a:lnTo>
                  <a:lnTo>
                    <a:pt x="458" y="34"/>
                  </a:lnTo>
                  <a:lnTo>
                    <a:pt x="471" y="34"/>
                  </a:lnTo>
                  <a:lnTo>
                    <a:pt x="483" y="42"/>
                  </a:lnTo>
                  <a:lnTo>
                    <a:pt x="494" y="52"/>
                  </a:lnTo>
                  <a:lnTo>
                    <a:pt x="501" y="66"/>
                  </a:lnTo>
                  <a:lnTo>
                    <a:pt x="504" y="79"/>
                  </a:lnTo>
                  <a:lnTo>
                    <a:pt x="506" y="91"/>
                  </a:lnTo>
                  <a:lnTo>
                    <a:pt x="501" y="100"/>
                  </a:lnTo>
                  <a:lnTo>
                    <a:pt x="494" y="106"/>
                  </a:lnTo>
                  <a:lnTo>
                    <a:pt x="479" y="115"/>
                  </a:lnTo>
                  <a:lnTo>
                    <a:pt x="458" y="123"/>
                  </a:lnTo>
                  <a:lnTo>
                    <a:pt x="434" y="132"/>
                  </a:lnTo>
                  <a:lnTo>
                    <a:pt x="408" y="138"/>
                  </a:lnTo>
                  <a:lnTo>
                    <a:pt x="383" y="142"/>
                  </a:lnTo>
                  <a:lnTo>
                    <a:pt x="359" y="142"/>
                  </a:lnTo>
                  <a:lnTo>
                    <a:pt x="338" y="138"/>
                  </a:lnTo>
                  <a:lnTo>
                    <a:pt x="311" y="133"/>
                  </a:lnTo>
                  <a:lnTo>
                    <a:pt x="284" y="132"/>
                  </a:lnTo>
                  <a:lnTo>
                    <a:pt x="257" y="138"/>
                  </a:lnTo>
                  <a:lnTo>
                    <a:pt x="234" y="147"/>
                  </a:lnTo>
                  <a:lnTo>
                    <a:pt x="216" y="159"/>
                  </a:lnTo>
                  <a:lnTo>
                    <a:pt x="206" y="174"/>
                  </a:lnTo>
                  <a:lnTo>
                    <a:pt x="198" y="189"/>
                  </a:lnTo>
                  <a:lnTo>
                    <a:pt x="185" y="202"/>
                  </a:lnTo>
                  <a:lnTo>
                    <a:pt x="170" y="217"/>
                  </a:lnTo>
                  <a:lnTo>
                    <a:pt x="155" y="231"/>
                  </a:lnTo>
                  <a:lnTo>
                    <a:pt x="144" y="243"/>
                  </a:lnTo>
                  <a:lnTo>
                    <a:pt x="137" y="255"/>
                  </a:lnTo>
                  <a:lnTo>
                    <a:pt x="137" y="264"/>
                  </a:lnTo>
                  <a:lnTo>
                    <a:pt x="144" y="276"/>
                  </a:lnTo>
                  <a:lnTo>
                    <a:pt x="150" y="288"/>
                  </a:lnTo>
                  <a:lnTo>
                    <a:pt x="156" y="297"/>
                  </a:lnTo>
                  <a:lnTo>
                    <a:pt x="159" y="304"/>
                  </a:lnTo>
                  <a:lnTo>
                    <a:pt x="161" y="306"/>
                  </a:lnTo>
                  <a:lnTo>
                    <a:pt x="158" y="307"/>
                  </a:lnTo>
                  <a:lnTo>
                    <a:pt x="150" y="309"/>
                  </a:lnTo>
                  <a:lnTo>
                    <a:pt x="138" y="313"/>
                  </a:lnTo>
                  <a:lnTo>
                    <a:pt x="126" y="319"/>
                  </a:lnTo>
                  <a:lnTo>
                    <a:pt x="113" y="328"/>
                  </a:lnTo>
                  <a:lnTo>
                    <a:pt x="104" y="340"/>
                  </a:lnTo>
                  <a:lnTo>
                    <a:pt x="98" y="354"/>
                  </a:lnTo>
                  <a:lnTo>
                    <a:pt x="93" y="369"/>
                  </a:lnTo>
                  <a:lnTo>
                    <a:pt x="84" y="385"/>
                  </a:lnTo>
                  <a:lnTo>
                    <a:pt x="72" y="400"/>
                  </a:lnTo>
                  <a:lnTo>
                    <a:pt x="62" y="415"/>
                  </a:lnTo>
                  <a:lnTo>
                    <a:pt x="53" y="429"/>
                  </a:lnTo>
                  <a:lnTo>
                    <a:pt x="48" y="441"/>
                  </a:lnTo>
                  <a:lnTo>
                    <a:pt x="50" y="450"/>
                  </a:lnTo>
                  <a:lnTo>
                    <a:pt x="59" y="459"/>
                  </a:lnTo>
                  <a:lnTo>
                    <a:pt x="68" y="471"/>
                  </a:lnTo>
                  <a:lnTo>
                    <a:pt x="78" y="484"/>
                  </a:lnTo>
                  <a:lnTo>
                    <a:pt x="87" y="496"/>
                  </a:lnTo>
                  <a:lnTo>
                    <a:pt x="96" y="508"/>
                  </a:lnTo>
                  <a:lnTo>
                    <a:pt x="102" y="516"/>
                  </a:lnTo>
                  <a:lnTo>
                    <a:pt x="104" y="519"/>
                  </a:lnTo>
                  <a:lnTo>
                    <a:pt x="102" y="520"/>
                  </a:lnTo>
                  <a:lnTo>
                    <a:pt x="96" y="523"/>
                  </a:lnTo>
                  <a:lnTo>
                    <a:pt x="87" y="526"/>
                  </a:lnTo>
                  <a:lnTo>
                    <a:pt x="74" y="528"/>
                  </a:lnTo>
                  <a:lnTo>
                    <a:pt x="56" y="528"/>
                  </a:lnTo>
                  <a:lnTo>
                    <a:pt x="33" y="525"/>
                  </a:lnTo>
                  <a:lnTo>
                    <a:pt x="15" y="523"/>
                  </a:lnTo>
                  <a:lnTo>
                    <a:pt x="3" y="523"/>
                  </a:lnTo>
                  <a:lnTo>
                    <a:pt x="0" y="525"/>
                  </a:lnTo>
                  <a:lnTo>
                    <a:pt x="56" y="2103"/>
                  </a:lnTo>
                  <a:lnTo>
                    <a:pt x="62" y="2103"/>
                  </a:lnTo>
                  <a:lnTo>
                    <a:pt x="78" y="2103"/>
                  </a:lnTo>
                  <a:lnTo>
                    <a:pt x="102" y="2103"/>
                  </a:lnTo>
                  <a:lnTo>
                    <a:pt x="135" y="2101"/>
                  </a:lnTo>
                  <a:lnTo>
                    <a:pt x="174" y="2101"/>
                  </a:lnTo>
                  <a:lnTo>
                    <a:pt x="219" y="2101"/>
                  </a:lnTo>
                  <a:lnTo>
                    <a:pt x="267" y="2100"/>
                  </a:lnTo>
                  <a:lnTo>
                    <a:pt x="320" y="2100"/>
                  </a:lnTo>
                  <a:lnTo>
                    <a:pt x="372" y="2098"/>
                  </a:lnTo>
                  <a:lnTo>
                    <a:pt x="426" y="2098"/>
                  </a:lnTo>
                  <a:lnTo>
                    <a:pt x="479" y="2098"/>
                  </a:lnTo>
                  <a:lnTo>
                    <a:pt x="530" y="2097"/>
                  </a:lnTo>
                  <a:lnTo>
                    <a:pt x="578" y="2097"/>
                  </a:lnTo>
                  <a:lnTo>
                    <a:pt x="620" y="2097"/>
                  </a:lnTo>
                  <a:lnTo>
                    <a:pt x="657" y="2097"/>
                  </a:lnTo>
                  <a:lnTo>
                    <a:pt x="696" y="2097"/>
                  </a:lnTo>
                  <a:lnTo>
                    <a:pt x="741" y="2098"/>
                  </a:lnTo>
                  <a:lnTo>
                    <a:pt x="789" y="2098"/>
                  </a:lnTo>
                  <a:lnTo>
                    <a:pt x="840" y="2100"/>
                  </a:lnTo>
                  <a:lnTo>
                    <a:pt x="893" y="2100"/>
                  </a:lnTo>
                  <a:lnTo>
                    <a:pt x="944" y="2101"/>
                  </a:lnTo>
                  <a:lnTo>
                    <a:pt x="995" y="2103"/>
                  </a:lnTo>
                  <a:lnTo>
                    <a:pt x="1043" y="2104"/>
                  </a:lnTo>
                  <a:lnTo>
                    <a:pt x="1088" y="2106"/>
                  </a:lnTo>
                  <a:lnTo>
                    <a:pt x="1125" y="2106"/>
                  </a:lnTo>
                  <a:lnTo>
                    <a:pt x="1158" y="2107"/>
                  </a:lnTo>
                  <a:lnTo>
                    <a:pt x="1184" y="2109"/>
                  </a:lnTo>
                  <a:lnTo>
                    <a:pt x="1199" y="2109"/>
                  </a:lnTo>
                  <a:lnTo>
                    <a:pt x="1205" y="2109"/>
                  </a:lnTo>
                  <a:lnTo>
                    <a:pt x="1256" y="772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3978000" y="3902400"/>
              <a:ext cx="1540800" cy="1738800"/>
            </a:xfrm>
            <a:custGeom>
              <a:avLst/>
              <a:gdLst/>
              <a:ahLst/>
              <a:rect l="l" t="t" r="r" b="b"/>
              <a:pathLst>
                <a:path w="1536" h="1734">
                  <a:moveTo>
                    <a:pt x="1426" y="1734"/>
                  </a:moveTo>
                  <a:lnTo>
                    <a:pt x="1536" y="30"/>
                  </a:lnTo>
                  <a:lnTo>
                    <a:pt x="1531" y="30"/>
                  </a:lnTo>
                  <a:lnTo>
                    <a:pt x="1515" y="30"/>
                  </a:lnTo>
                  <a:lnTo>
                    <a:pt x="1489" y="29"/>
                  </a:lnTo>
                  <a:lnTo>
                    <a:pt x="1456" y="27"/>
                  </a:lnTo>
                  <a:lnTo>
                    <a:pt x="1416" y="24"/>
                  </a:lnTo>
                  <a:lnTo>
                    <a:pt x="1369" y="23"/>
                  </a:lnTo>
                  <a:lnTo>
                    <a:pt x="1317" y="20"/>
                  </a:lnTo>
                  <a:lnTo>
                    <a:pt x="1260" y="17"/>
                  </a:lnTo>
                  <a:lnTo>
                    <a:pt x="1200" y="15"/>
                  </a:lnTo>
                  <a:lnTo>
                    <a:pt x="1138" y="12"/>
                  </a:lnTo>
                  <a:lnTo>
                    <a:pt x="1075" y="9"/>
                  </a:lnTo>
                  <a:lnTo>
                    <a:pt x="1012" y="8"/>
                  </a:lnTo>
                  <a:lnTo>
                    <a:pt x="949" y="5"/>
                  </a:lnTo>
                  <a:lnTo>
                    <a:pt x="888" y="3"/>
                  </a:lnTo>
                  <a:lnTo>
                    <a:pt x="831" y="2"/>
                  </a:lnTo>
                  <a:lnTo>
                    <a:pt x="778" y="2"/>
                  </a:lnTo>
                  <a:lnTo>
                    <a:pt x="721" y="2"/>
                  </a:lnTo>
                  <a:lnTo>
                    <a:pt x="661" y="0"/>
                  </a:lnTo>
                  <a:lnTo>
                    <a:pt x="598" y="0"/>
                  </a:lnTo>
                  <a:lnTo>
                    <a:pt x="534" y="2"/>
                  </a:lnTo>
                  <a:lnTo>
                    <a:pt x="469" y="2"/>
                  </a:lnTo>
                  <a:lnTo>
                    <a:pt x="405" y="2"/>
                  </a:lnTo>
                  <a:lnTo>
                    <a:pt x="340" y="3"/>
                  </a:lnTo>
                  <a:lnTo>
                    <a:pt x="280" y="3"/>
                  </a:lnTo>
                  <a:lnTo>
                    <a:pt x="223" y="5"/>
                  </a:lnTo>
                  <a:lnTo>
                    <a:pt x="169" y="5"/>
                  </a:lnTo>
                  <a:lnTo>
                    <a:pt x="123" y="6"/>
                  </a:lnTo>
                  <a:lnTo>
                    <a:pt x="81" y="6"/>
                  </a:lnTo>
                  <a:lnTo>
                    <a:pt x="48" y="8"/>
                  </a:lnTo>
                  <a:lnTo>
                    <a:pt x="22" y="8"/>
                  </a:lnTo>
                  <a:lnTo>
                    <a:pt x="6" y="8"/>
                  </a:lnTo>
                  <a:lnTo>
                    <a:pt x="0" y="8"/>
                  </a:lnTo>
                  <a:lnTo>
                    <a:pt x="30" y="824"/>
                  </a:lnTo>
                  <a:lnTo>
                    <a:pt x="34" y="822"/>
                  </a:lnTo>
                  <a:lnTo>
                    <a:pt x="46" y="821"/>
                  </a:lnTo>
                  <a:lnTo>
                    <a:pt x="63" y="816"/>
                  </a:lnTo>
                  <a:lnTo>
                    <a:pt x="84" y="813"/>
                  </a:lnTo>
                  <a:lnTo>
                    <a:pt x="108" y="809"/>
                  </a:lnTo>
                  <a:lnTo>
                    <a:pt x="133" y="804"/>
                  </a:lnTo>
                  <a:lnTo>
                    <a:pt x="159" y="801"/>
                  </a:lnTo>
                  <a:lnTo>
                    <a:pt x="183" y="798"/>
                  </a:lnTo>
                  <a:lnTo>
                    <a:pt x="204" y="798"/>
                  </a:lnTo>
                  <a:lnTo>
                    <a:pt x="222" y="800"/>
                  </a:lnTo>
                  <a:lnTo>
                    <a:pt x="238" y="800"/>
                  </a:lnTo>
                  <a:lnTo>
                    <a:pt x="253" y="795"/>
                  </a:lnTo>
                  <a:lnTo>
                    <a:pt x="264" y="789"/>
                  </a:lnTo>
                  <a:lnTo>
                    <a:pt x="274" y="782"/>
                  </a:lnTo>
                  <a:lnTo>
                    <a:pt x="283" y="777"/>
                  </a:lnTo>
                  <a:lnTo>
                    <a:pt x="294" y="774"/>
                  </a:lnTo>
                  <a:lnTo>
                    <a:pt x="307" y="779"/>
                  </a:lnTo>
                  <a:lnTo>
                    <a:pt x="322" y="786"/>
                  </a:lnTo>
                  <a:lnTo>
                    <a:pt x="340" y="798"/>
                  </a:lnTo>
                  <a:lnTo>
                    <a:pt x="360" y="810"/>
                  </a:lnTo>
                  <a:lnTo>
                    <a:pt x="382" y="824"/>
                  </a:lnTo>
                  <a:lnTo>
                    <a:pt x="403" y="837"/>
                  </a:lnTo>
                  <a:lnTo>
                    <a:pt x="426" y="846"/>
                  </a:lnTo>
                  <a:lnTo>
                    <a:pt x="444" y="852"/>
                  </a:lnTo>
                  <a:lnTo>
                    <a:pt x="460" y="851"/>
                  </a:lnTo>
                  <a:lnTo>
                    <a:pt x="477" y="849"/>
                  </a:lnTo>
                  <a:lnTo>
                    <a:pt x="490" y="854"/>
                  </a:lnTo>
                  <a:lnTo>
                    <a:pt x="504" y="860"/>
                  </a:lnTo>
                  <a:lnTo>
                    <a:pt x="516" y="867"/>
                  </a:lnTo>
                  <a:lnTo>
                    <a:pt x="526" y="875"/>
                  </a:lnTo>
                  <a:lnTo>
                    <a:pt x="540" y="879"/>
                  </a:lnTo>
                  <a:lnTo>
                    <a:pt x="552" y="879"/>
                  </a:lnTo>
                  <a:lnTo>
                    <a:pt x="570" y="879"/>
                  </a:lnTo>
                  <a:lnTo>
                    <a:pt x="591" y="882"/>
                  </a:lnTo>
                  <a:lnTo>
                    <a:pt x="612" y="890"/>
                  </a:lnTo>
                  <a:lnTo>
                    <a:pt x="633" y="900"/>
                  </a:lnTo>
                  <a:lnTo>
                    <a:pt x="649" y="914"/>
                  </a:lnTo>
                  <a:lnTo>
                    <a:pt x="661" y="932"/>
                  </a:lnTo>
                  <a:lnTo>
                    <a:pt x="664" y="947"/>
                  </a:lnTo>
                  <a:lnTo>
                    <a:pt x="663" y="959"/>
                  </a:lnTo>
                  <a:lnTo>
                    <a:pt x="658" y="969"/>
                  </a:lnTo>
                  <a:lnTo>
                    <a:pt x="652" y="977"/>
                  </a:lnTo>
                  <a:lnTo>
                    <a:pt x="649" y="984"/>
                  </a:lnTo>
                  <a:lnTo>
                    <a:pt x="648" y="993"/>
                  </a:lnTo>
                  <a:lnTo>
                    <a:pt x="654" y="1002"/>
                  </a:lnTo>
                  <a:lnTo>
                    <a:pt x="663" y="1010"/>
                  </a:lnTo>
                  <a:lnTo>
                    <a:pt x="673" y="1013"/>
                  </a:lnTo>
                  <a:lnTo>
                    <a:pt x="685" y="1016"/>
                  </a:lnTo>
                  <a:lnTo>
                    <a:pt x="697" y="1017"/>
                  </a:lnTo>
                  <a:lnTo>
                    <a:pt x="709" y="1020"/>
                  </a:lnTo>
                  <a:lnTo>
                    <a:pt x="720" y="1025"/>
                  </a:lnTo>
                  <a:lnTo>
                    <a:pt x="729" y="1032"/>
                  </a:lnTo>
                  <a:lnTo>
                    <a:pt x="735" y="1044"/>
                  </a:lnTo>
                  <a:lnTo>
                    <a:pt x="745" y="1074"/>
                  </a:lnTo>
                  <a:lnTo>
                    <a:pt x="762" y="1107"/>
                  </a:lnTo>
                  <a:lnTo>
                    <a:pt x="778" y="1143"/>
                  </a:lnTo>
                  <a:lnTo>
                    <a:pt x="792" y="1182"/>
                  </a:lnTo>
                  <a:lnTo>
                    <a:pt x="798" y="1208"/>
                  </a:lnTo>
                  <a:lnTo>
                    <a:pt x="804" y="1229"/>
                  </a:lnTo>
                  <a:lnTo>
                    <a:pt x="810" y="1244"/>
                  </a:lnTo>
                  <a:lnTo>
                    <a:pt x="817" y="1254"/>
                  </a:lnTo>
                  <a:lnTo>
                    <a:pt x="825" y="1259"/>
                  </a:lnTo>
                  <a:lnTo>
                    <a:pt x="835" y="1257"/>
                  </a:lnTo>
                  <a:lnTo>
                    <a:pt x="847" y="1248"/>
                  </a:lnTo>
                  <a:lnTo>
                    <a:pt x="859" y="1232"/>
                  </a:lnTo>
                  <a:lnTo>
                    <a:pt x="873" y="1209"/>
                  </a:lnTo>
                  <a:lnTo>
                    <a:pt x="886" y="1187"/>
                  </a:lnTo>
                  <a:lnTo>
                    <a:pt x="904" y="1163"/>
                  </a:lnTo>
                  <a:lnTo>
                    <a:pt x="924" y="1143"/>
                  </a:lnTo>
                  <a:lnTo>
                    <a:pt x="942" y="1131"/>
                  </a:lnTo>
                  <a:lnTo>
                    <a:pt x="958" y="1125"/>
                  </a:lnTo>
                  <a:lnTo>
                    <a:pt x="972" y="1122"/>
                  </a:lnTo>
                  <a:lnTo>
                    <a:pt x="984" y="1121"/>
                  </a:lnTo>
                  <a:lnTo>
                    <a:pt x="994" y="1119"/>
                  </a:lnTo>
                  <a:lnTo>
                    <a:pt x="1005" y="1113"/>
                  </a:lnTo>
                  <a:lnTo>
                    <a:pt x="1015" y="1101"/>
                  </a:lnTo>
                  <a:lnTo>
                    <a:pt x="1026" y="1082"/>
                  </a:lnTo>
                  <a:lnTo>
                    <a:pt x="1033" y="1064"/>
                  </a:lnTo>
                  <a:lnTo>
                    <a:pt x="1041" y="1046"/>
                  </a:lnTo>
                  <a:lnTo>
                    <a:pt x="1048" y="1031"/>
                  </a:lnTo>
                  <a:lnTo>
                    <a:pt x="1056" y="1017"/>
                  </a:lnTo>
                  <a:lnTo>
                    <a:pt x="1068" y="1010"/>
                  </a:lnTo>
                  <a:lnTo>
                    <a:pt x="1086" y="1005"/>
                  </a:lnTo>
                  <a:lnTo>
                    <a:pt x="1101" y="1004"/>
                  </a:lnTo>
                  <a:lnTo>
                    <a:pt x="1111" y="1004"/>
                  </a:lnTo>
                  <a:lnTo>
                    <a:pt x="1114" y="1005"/>
                  </a:lnTo>
                  <a:lnTo>
                    <a:pt x="1113" y="1007"/>
                  </a:lnTo>
                  <a:lnTo>
                    <a:pt x="1110" y="1014"/>
                  </a:lnTo>
                  <a:lnTo>
                    <a:pt x="1105" y="1025"/>
                  </a:lnTo>
                  <a:lnTo>
                    <a:pt x="1102" y="1038"/>
                  </a:lnTo>
                  <a:lnTo>
                    <a:pt x="1101" y="1052"/>
                  </a:lnTo>
                  <a:lnTo>
                    <a:pt x="1101" y="1065"/>
                  </a:lnTo>
                  <a:lnTo>
                    <a:pt x="1099" y="1076"/>
                  </a:lnTo>
                  <a:lnTo>
                    <a:pt x="1093" y="1089"/>
                  </a:lnTo>
                  <a:lnTo>
                    <a:pt x="1081" y="1104"/>
                  </a:lnTo>
                  <a:lnTo>
                    <a:pt x="1069" y="1119"/>
                  </a:lnTo>
                  <a:lnTo>
                    <a:pt x="1057" y="1139"/>
                  </a:lnTo>
                  <a:lnTo>
                    <a:pt x="1048" y="1158"/>
                  </a:lnTo>
                  <a:lnTo>
                    <a:pt x="1044" y="1182"/>
                  </a:lnTo>
                  <a:lnTo>
                    <a:pt x="1042" y="1214"/>
                  </a:lnTo>
                  <a:lnTo>
                    <a:pt x="1039" y="1241"/>
                  </a:lnTo>
                  <a:lnTo>
                    <a:pt x="1036" y="1260"/>
                  </a:lnTo>
                  <a:lnTo>
                    <a:pt x="1035" y="1274"/>
                  </a:lnTo>
                  <a:lnTo>
                    <a:pt x="1033" y="1278"/>
                  </a:lnTo>
                  <a:lnTo>
                    <a:pt x="1032" y="1278"/>
                  </a:lnTo>
                  <a:lnTo>
                    <a:pt x="1026" y="1277"/>
                  </a:lnTo>
                  <a:lnTo>
                    <a:pt x="1017" y="1275"/>
                  </a:lnTo>
                  <a:lnTo>
                    <a:pt x="1006" y="1275"/>
                  </a:lnTo>
                  <a:lnTo>
                    <a:pt x="997" y="1275"/>
                  </a:lnTo>
                  <a:lnTo>
                    <a:pt x="988" y="1277"/>
                  </a:lnTo>
                  <a:lnTo>
                    <a:pt x="982" y="1280"/>
                  </a:lnTo>
                  <a:lnTo>
                    <a:pt x="979" y="1287"/>
                  </a:lnTo>
                  <a:lnTo>
                    <a:pt x="982" y="1296"/>
                  </a:lnTo>
                  <a:lnTo>
                    <a:pt x="990" y="1308"/>
                  </a:lnTo>
                  <a:lnTo>
                    <a:pt x="1000" y="1314"/>
                  </a:lnTo>
                  <a:lnTo>
                    <a:pt x="1012" y="1316"/>
                  </a:lnTo>
                  <a:lnTo>
                    <a:pt x="1024" y="1316"/>
                  </a:lnTo>
                  <a:lnTo>
                    <a:pt x="1036" y="1314"/>
                  </a:lnTo>
                  <a:lnTo>
                    <a:pt x="1048" y="1314"/>
                  </a:lnTo>
                  <a:lnTo>
                    <a:pt x="1057" y="1314"/>
                  </a:lnTo>
                  <a:lnTo>
                    <a:pt x="1066" y="1313"/>
                  </a:lnTo>
                  <a:lnTo>
                    <a:pt x="1074" y="1305"/>
                  </a:lnTo>
                  <a:lnTo>
                    <a:pt x="1081" y="1290"/>
                  </a:lnTo>
                  <a:lnTo>
                    <a:pt x="1089" y="1272"/>
                  </a:lnTo>
                  <a:lnTo>
                    <a:pt x="1095" y="1251"/>
                  </a:lnTo>
                  <a:lnTo>
                    <a:pt x="1099" y="1229"/>
                  </a:lnTo>
                  <a:lnTo>
                    <a:pt x="1104" y="1208"/>
                  </a:lnTo>
                  <a:lnTo>
                    <a:pt x="1110" y="1193"/>
                  </a:lnTo>
                  <a:lnTo>
                    <a:pt x="1119" y="1181"/>
                  </a:lnTo>
                  <a:lnTo>
                    <a:pt x="1128" y="1176"/>
                  </a:lnTo>
                  <a:lnTo>
                    <a:pt x="1137" y="1179"/>
                  </a:lnTo>
                  <a:lnTo>
                    <a:pt x="1146" y="1190"/>
                  </a:lnTo>
                  <a:lnTo>
                    <a:pt x="1153" y="1206"/>
                  </a:lnTo>
                  <a:lnTo>
                    <a:pt x="1158" y="1229"/>
                  </a:lnTo>
                  <a:lnTo>
                    <a:pt x="1162" y="1253"/>
                  </a:lnTo>
                  <a:lnTo>
                    <a:pt x="1164" y="1278"/>
                  </a:lnTo>
                  <a:lnTo>
                    <a:pt x="1162" y="1302"/>
                  </a:lnTo>
                  <a:lnTo>
                    <a:pt x="1158" y="1322"/>
                  </a:lnTo>
                  <a:lnTo>
                    <a:pt x="1150" y="1335"/>
                  </a:lnTo>
                  <a:lnTo>
                    <a:pt x="1137" y="1349"/>
                  </a:lnTo>
                  <a:lnTo>
                    <a:pt x="1123" y="1359"/>
                  </a:lnTo>
                  <a:lnTo>
                    <a:pt x="1113" y="1368"/>
                  </a:lnTo>
                  <a:lnTo>
                    <a:pt x="1108" y="1377"/>
                  </a:lnTo>
                  <a:lnTo>
                    <a:pt x="1111" y="1385"/>
                  </a:lnTo>
                  <a:lnTo>
                    <a:pt x="1122" y="1389"/>
                  </a:lnTo>
                  <a:lnTo>
                    <a:pt x="1137" y="1391"/>
                  </a:lnTo>
                  <a:lnTo>
                    <a:pt x="1155" y="1388"/>
                  </a:lnTo>
                  <a:lnTo>
                    <a:pt x="1173" y="1385"/>
                  </a:lnTo>
                  <a:lnTo>
                    <a:pt x="1192" y="1379"/>
                  </a:lnTo>
                  <a:lnTo>
                    <a:pt x="1210" y="1371"/>
                  </a:lnTo>
                  <a:lnTo>
                    <a:pt x="1230" y="1367"/>
                  </a:lnTo>
                  <a:lnTo>
                    <a:pt x="1243" y="1367"/>
                  </a:lnTo>
                  <a:lnTo>
                    <a:pt x="1254" y="1370"/>
                  </a:lnTo>
                  <a:lnTo>
                    <a:pt x="1261" y="1373"/>
                  </a:lnTo>
                  <a:lnTo>
                    <a:pt x="1263" y="1374"/>
                  </a:lnTo>
                  <a:lnTo>
                    <a:pt x="1264" y="1377"/>
                  </a:lnTo>
                  <a:lnTo>
                    <a:pt x="1269" y="1385"/>
                  </a:lnTo>
                  <a:lnTo>
                    <a:pt x="1275" y="1398"/>
                  </a:lnTo>
                  <a:lnTo>
                    <a:pt x="1281" y="1415"/>
                  </a:lnTo>
                  <a:lnTo>
                    <a:pt x="1288" y="1434"/>
                  </a:lnTo>
                  <a:lnTo>
                    <a:pt x="1293" y="1457"/>
                  </a:lnTo>
                  <a:lnTo>
                    <a:pt x="1297" y="1481"/>
                  </a:lnTo>
                  <a:lnTo>
                    <a:pt x="1299" y="1508"/>
                  </a:lnTo>
                  <a:lnTo>
                    <a:pt x="1299" y="1529"/>
                  </a:lnTo>
                  <a:lnTo>
                    <a:pt x="1297" y="1545"/>
                  </a:lnTo>
                  <a:lnTo>
                    <a:pt x="1294" y="1560"/>
                  </a:lnTo>
                  <a:lnTo>
                    <a:pt x="1293" y="1572"/>
                  </a:lnTo>
                  <a:lnTo>
                    <a:pt x="1294" y="1584"/>
                  </a:lnTo>
                  <a:lnTo>
                    <a:pt x="1297" y="1598"/>
                  </a:lnTo>
                  <a:lnTo>
                    <a:pt x="1303" y="1614"/>
                  </a:lnTo>
                  <a:lnTo>
                    <a:pt x="1314" y="1632"/>
                  </a:lnTo>
                  <a:lnTo>
                    <a:pt x="1330" y="1656"/>
                  </a:lnTo>
                  <a:lnTo>
                    <a:pt x="1354" y="1685"/>
                  </a:lnTo>
                  <a:lnTo>
                    <a:pt x="1375" y="1706"/>
                  </a:lnTo>
                  <a:lnTo>
                    <a:pt x="1392" y="1719"/>
                  </a:lnTo>
                  <a:lnTo>
                    <a:pt x="1407" y="1728"/>
                  </a:lnTo>
                  <a:lnTo>
                    <a:pt x="1417" y="1733"/>
                  </a:lnTo>
                  <a:lnTo>
                    <a:pt x="1425" y="1734"/>
                  </a:lnTo>
                  <a:lnTo>
                    <a:pt x="1426" y="173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4912920" y="5268240"/>
              <a:ext cx="147960" cy="7812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0" y="44"/>
                  </a:moveTo>
                  <a:lnTo>
                    <a:pt x="0" y="42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16" y="23"/>
                  </a:lnTo>
                  <a:lnTo>
                    <a:pt x="31" y="17"/>
                  </a:lnTo>
                  <a:lnTo>
                    <a:pt x="51" y="12"/>
                  </a:lnTo>
                  <a:lnTo>
                    <a:pt x="75" y="8"/>
                  </a:lnTo>
                  <a:lnTo>
                    <a:pt x="94" y="3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0" y="6"/>
                  </a:lnTo>
                  <a:lnTo>
                    <a:pt x="139" y="18"/>
                  </a:lnTo>
                  <a:lnTo>
                    <a:pt x="145" y="32"/>
                  </a:lnTo>
                  <a:lnTo>
                    <a:pt x="147" y="45"/>
                  </a:lnTo>
                  <a:lnTo>
                    <a:pt x="144" y="57"/>
                  </a:lnTo>
                  <a:lnTo>
                    <a:pt x="138" y="68"/>
                  </a:lnTo>
                  <a:lnTo>
                    <a:pt x="126" y="75"/>
                  </a:lnTo>
                  <a:lnTo>
                    <a:pt x="111" y="78"/>
                  </a:lnTo>
                  <a:lnTo>
                    <a:pt x="90" y="78"/>
                  </a:lnTo>
                  <a:lnTo>
                    <a:pt x="66" y="72"/>
                  </a:lnTo>
                  <a:lnTo>
                    <a:pt x="43" y="65"/>
                  </a:lnTo>
                  <a:lnTo>
                    <a:pt x="25" y="57"/>
                  </a:lnTo>
                  <a:lnTo>
                    <a:pt x="12" y="51"/>
                  </a:lnTo>
                  <a:lnTo>
                    <a:pt x="3" y="45"/>
                  </a:lnTo>
                  <a:lnTo>
                    <a:pt x="0" y="4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5789520" y="6056640"/>
              <a:ext cx="405000" cy="461160"/>
            </a:xfrm>
            <a:custGeom>
              <a:avLst/>
              <a:gdLst/>
              <a:ahLst/>
              <a:rect l="l" t="t" r="r" b="b"/>
              <a:pathLst>
                <a:path w="403" h="459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8"/>
                  </a:lnTo>
                  <a:lnTo>
                    <a:pt x="3" y="21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3" y="102"/>
                  </a:lnTo>
                  <a:lnTo>
                    <a:pt x="10" y="128"/>
                  </a:lnTo>
                  <a:lnTo>
                    <a:pt x="21" y="153"/>
                  </a:lnTo>
                  <a:lnTo>
                    <a:pt x="33" y="176"/>
                  </a:lnTo>
                  <a:lnTo>
                    <a:pt x="43" y="197"/>
                  </a:lnTo>
                  <a:lnTo>
                    <a:pt x="51" y="215"/>
                  </a:lnTo>
                  <a:lnTo>
                    <a:pt x="52" y="230"/>
                  </a:lnTo>
                  <a:lnTo>
                    <a:pt x="49" y="246"/>
                  </a:lnTo>
                  <a:lnTo>
                    <a:pt x="45" y="263"/>
                  </a:lnTo>
                  <a:lnTo>
                    <a:pt x="43" y="279"/>
                  </a:lnTo>
                  <a:lnTo>
                    <a:pt x="48" y="296"/>
                  </a:lnTo>
                  <a:lnTo>
                    <a:pt x="55" y="309"/>
                  </a:lnTo>
                  <a:lnTo>
                    <a:pt x="67" y="327"/>
                  </a:lnTo>
                  <a:lnTo>
                    <a:pt x="81" y="348"/>
                  </a:lnTo>
                  <a:lnTo>
                    <a:pt x="96" y="369"/>
                  </a:lnTo>
                  <a:lnTo>
                    <a:pt x="111" y="390"/>
                  </a:lnTo>
                  <a:lnTo>
                    <a:pt x="124" y="407"/>
                  </a:lnTo>
                  <a:lnTo>
                    <a:pt x="136" y="419"/>
                  </a:lnTo>
                  <a:lnTo>
                    <a:pt x="148" y="429"/>
                  </a:lnTo>
                  <a:lnTo>
                    <a:pt x="159" y="441"/>
                  </a:lnTo>
                  <a:lnTo>
                    <a:pt x="169" y="450"/>
                  </a:lnTo>
                  <a:lnTo>
                    <a:pt x="178" y="458"/>
                  </a:lnTo>
                  <a:lnTo>
                    <a:pt x="187" y="459"/>
                  </a:lnTo>
                  <a:lnTo>
                    <a:pt x="198" y="453"/>
                  </a:lnTo>
                  <a:lnTo>
                    <a:pt x="211" y="438"/>
                  </a:lnTo>
                  <a:lnTo>
                    <a:pt x="223" y="420"/>
                  </a:lnTo>
                  <a:lnTo>
                    <a:pt x="237" y="402"/>
                  </a:lnTo>
                  <a:lnTo>
                    <a:pt x="250" y="387"/>
                  </a:lnTo>
                  <a:lnTo>
                    <a:pt x="265" y="378"/>
                  </a:lnTo>
                  <a:lnTo>
                    <a:pt x="282" y="374"/>
                  </a:lnTo>
                  <a:lnTo>
                    <a:pt x="298" y="368"/>
                  </a:lnTo>
                  <a:lnTo>
                    <a:pt x="312" y="360"/>
                  </a:lnTo>
                  <a:lnTo>
                    <a:pt x="321" y="351"/>
                  </a:lnTo>
                  <a:lnTo>
                    <a:pt x="328" y="336"/>
                  </a:lnTo>
                  <a:lnTo>
                    <a:pt x="331" y="315"/>
                  </a:lnTo>
                  <a:lnTo>
                    <a:pt x="334" y="297"/>
                  </a:lnTo>
                  <a:lnTo>
                    <a:pt x="339" y="279"/>
                  </a:lnTo>
                  <a:lnTo>
                    <a:pt x="346" y="260"/>
                  </a:lnTo>
                  <a:lnTo>
                    <a:pt x="357" y="246"/>
                  </a:lnTo>
                  <a:lnTo>
                    <a:pt x="367" y="236"/>
                  </a:lnTo>
                  <a:lnTo>
                    <a:pt x="376" y="228"/>
                  </a:lnTo>
                  <a:lnTo>
                    <a:pt x="384" y="218"/>
                  </a:lnTo>
                  <a:lnTo>
                    <a:pt x="388" y="206"/>
                  </a:lnTo>
                  <a:lnTo>
                    <a:pt x="391" y="180"/>
                  </a:lnTo>
                  <a:lnTo>
                    <a:pt x="394" y="150"/>
                  </a:lnTo>
                  <a:lnTo>
                    <a:pt x="397" y="123"/>
                  </a:lnTo>
                  <a:lnTo>
                    <a:pt x="399" y="110"/>
                  </a:lnTo>
                  <a:lnTo>
                    <a:pt x="402" y="99"/>
                  </a:lnTo>
                  <a:lnTo>
                    <a:pt x="403" y="89"/>
                  </a:lnTo>
                  <a:lnTo>
                    <a:pt x="402" y="80"/>
                  </a:lnTo>
                  <a:lnTo>
                    <a:pt x="396" y="69"/>
                  </a:lnTo>
                  <a:lnTo>
                    <a:pt x="384" y="59"/>
                  </a:lnTo>
                  <a:lnTo>
                    <a:pt x="370" y="53"/>
                  </a:lnTo>
                  <a:lnTo>
                    <a:pt x="355" y="53"/>
                  </a:lnTo>
                  <a:lnTo>
                    <a:pt x="336" y="57"/>
                  </a:lnTo>
                  <a:lnTo>
                    <a:pt x="319" y="60"/>
                  </a:lnTo>
                  <a:lnTo>
                    <a:pt x="298" y="63"/>
                  </a:lnTo>
                  <a:lnTo>
                    <a:pt x="274" y="66"/>
                  </a:lnTo>
                  <a:lnTo>
                    <a:pt x="253" y="69"/>
                  </a:lnTo>
                  <a:lnTo>
                    <a:pt x="235" y="72"/>
                  </a:lnTo>
                  <a:lnTo>
                    <a:pt x="222" y="77"/>
                  </a:lnTo>
                  <a:lnTo>
                    <a:pt x="213" y="83"/>
                  </a:lnTo>
                  <a:lnTo>
                    <a:pt x="202" y="90"/>
                  </a:lnTo>
                  <a:lnTo>
                    <a:pt x="190" y="95"/>
                  </a:lnTo>
                  <a:lnTo>
                    <a:pt x="178" y="95"/>
                  </a:lnTo>
                  <a:lnTo>
                    <a:pt x="165" y="89"/>
                  </a:lnTo>
                  <a:lnTo>
                    <a:pt x="148" y="75"/>
                  </a:lnTo>
                  <a:lnTo>
                    <a:pt x="127" y="62"/>
                  </a:lnTo>
                  <a:lnTo>
                    <a:pt x="106" y="48"/>
                  </a:lnTo>
                  <a:lnTo>
                    <a:pt x="87" y="35"/>
                  </a:lnTo>
                  <a:lnTo>
                    <a:pt x="72" y="26"/>
                  </a:lnTo>
                  <a:lnTo>
                    <a:pt x="57" y="20"/>
                  </a:lnTo>
                  <a:lnTo>
                    <a:pt x="42" y="18"/>
                  </a:lnTo>
                  <a:lnTo>
                    <a:pt x="30" y="17"/>
                  </a:lnTo>
                  <a:lnTo>
                    <a:pt x="22" y="12"/>
                  </a:lnTo>
                  <a:lnTo>
                    <a:pt x="18" y="8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6158520" y="5950800"/>
              <a:ext cx="47880" cy="85680"/>
            </a:xfrm>
            <a:custGeom>
              <a:avLst/>
              <a:gdLst/>
              <a:ahLst/>
              <a:rect l="l" t="t" r="r" b="b"/>
              <a:pathLst>
                <a:path w="48" h="85">
                  <a:moveTo>
                    <a:pt x="20" y="85"/>
                  </a:moveTo>
                  <a:lnTo>
                    <a:pt x="12" y="75"/>
                  </a:lnTo>
                  <a:lnTo>
                    <a:pt x="8" y="64"/>
                  </a:lnTo>
                  <a:lnTo>
                    <a:pt x="5" y="54"/>
                  </a:lnTo>
                  <a:lnTo>
                    <a:pt x="2" y="39"/>
                  </a:lnTo>
                  <a:lnTo>
                    <a:pt x="0" y="24"/>
                  </a:lnTo>
                  <a:lnTo>
                    <a:pt x="3" y="12"/>
                  </a:lnTo>
                  <a:lnTo>
                    <a:pt x="9" y="4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30" y="9"/>
                  </a:lnTo>
                  <a:lnTo>
                    <a:pt x="38" y="19"/>
                  </a:lnTo>
                  <a:lnTo>
                    <a:pt x="44" y="30"/>
                  </a:lnTo>
                  <a:lnTo>
                    <a:pt x="47" y="40"/>
                  </a:lnTo>
                  <a:lnTo>
                    <a:pt x="48" y="51"/>
                  </a:lnTo>
                  <a:lnTo>
                    <a:pt x="47" y="61"/>
                  </a:lnTo>
                  <a:lnTo>
                    <a:pt x="45" y="72"/>
                  </a:lnTo>
                  <a:lnTo>
                    <a:pt x="44" y="79"/>
                  </a:lnTo>
                  <a:lnTo>
                    <a:pt x="42" y="82"/>
                  </a:lnTo>
                  <a:lnTo>
                    <a:pt x="20" y="85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6166800" y="6046560"/>
              <a:ext cx="59760" cy="2592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18"/>
                  </a:moveTo>
                  <a:lnTo>
                    <a:pt x="6" y="9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32" y="3"/>
                  </a:lnTo>
                  <a:lnTo>
                    <a:pt x="38" y="4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3"/>
                  </a:lnTo>
                  <a:lnTo>
                    <a:pt x="60" y="15"/>
                  </a:lnTo>
                  <a:lnTo>
                    <a:pt x="60" y="18"/>
                  </a:lnTo>
                  <a:lnTo>
                    <a:pt x="59" y="21"/>
                  </a:lnTo>
                  <a:lnTo>
                    <a:pt x="56" y="24"/>
                  </a:lnTo>
                  <a:lnTo>
                    <a:pt x="45" y="27"/>
                  </a:lnTo>
                  <a:lnTo>
                    <a:pt x="33" y="25"/>
                  </a:lnTo>
                  <a:lnTo>
                    <a:pt x="21" y="24"/>
                  </a:lnTo>
                  <a:lnTo>
                    <a:pt x="11" y="21"/>
                  </a:lnTo>
                  <a:lnTo>
                    <a:pt x="3" y="19"/>
                  </a:lnTo>
                  <a:lnTo>
                    <a:pt x="0" y="18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5711400" y="5884200"/>
              <a:ext cx="39960" cy="7992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" y="81"/>
                  </a:moveTo>
                  <a:lnTo>
                    <a:pt x="3" y="76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9"/>
                  </a:lnTo>
                  <a:lnTo>
                    <a:pt x="6" y="10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33" y="13"/>
                  </a:lnTo>
                  <a:lnTo>
                    <a:pt x="39" y="27"/>
                  </a:lnTo>
                  <a:lnTo>
                    <a:pt x="40" y="42"/>
                  </a:lnTo>
                  <a:lnTo>
                    <a:pt x="36" y="57"/>
                  </a:lnTo>
                  <a:lnTo>
                    <a:pt x="25" y="67"/>
                  </a:lnTo>
                  <a:lnTo>
                    <a:pt x="15" y="75"/>
                  </a:lnTo>
                  <a:lnTo>
                    <a:pt x="6" y="79"/>
                  </a:lnTo>
                  <a:lnTo>
                    <a:pt x="3" y="81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5129640" y="1762200"/>
              <a:ext cx="1929600" cy="2747880"/>
            </a:xfrm>
            <a:custGeom>
              <a:avLst/>
              <a:gdLst/>
              <a:ahLst/>
              <a:rect l="l" t="t" r="r" b="b"/>
              <a:pathLst>
                <a:path w="1923" h="2740">
                  <a:moveTo>
                    <a:pt x="678" y="24"/>
                  </a:moveTo>
                  <a:lnTo>
                    <a:pt x="679" y="27"/>
                  </a:lnTo>
                  <a:lnTo>
                    <a:pt x="679" y="36"/>
                  </a:lnTo>
                  <a:lnTo>
                    <a:pt x="679" y="51"/>
                  </a:lnTo>
                  <a:lnTo>
                    <a:pt x="678" y="69"/>
                  </a:lnTo>
                  <a:lnTo>
                    <a:pt x="673" y="88"/>
                  </a:lnTo>
                  <a:lnTo>
                    <a:pt x="664" y="109"/>
                  </a:lnTo>
                  <a:lnTo>
                    <a:pt x="654" y="127"/>
                  </a:lnTo>
                  <a:lnTo>
                    <a:pt x="643" y="147"/>
                  </a:lnTo>
                  <a:lnTo>
                    <a:pt x="630" y="168"/>
                  </a:lnTo>
                  <a:lnTo>
                    <a:pt x="618" y="187"/>
                  </a:lnTo>
                  <a:lnTo>
                    <a:pt x="607" y="207"/>
                  </a:lnTo>
                  <a:lnTo>
                    <a:pt x="597" y="223"/>
                  </a:lnTo>
                  <a:lnTo>
                    <a:pt x="591" y="235"/>
                  </a:lnTo>
                  <a:lnTo>
                    <a:pt x="588" y="241"/>
                  </a:lnTo>
                  <a:lnTo>
                    <a:pt x="589" y="247"/>
                  </a:lnTo>
                  <a:lnTo>
                    <a:pt x="597" y="253"/>
                  </a:lnTo>
                  <a:lnTo>
                    <a:pt x="606" y="261"/>
                  </a:lnTo>
                  <a:lnTo>
                    <a:pt x="615" y="265"/>
                  </a:lnTo>
                  <a:lnTo>
                    <a:pt x="619" y="271"/>
                  </a:lnTo>
                  <a:lnTo>
                    <a:pt x="618" y="277"/>
                  </a:lnTo>
                  <a:lnTo>
                    <a:pt x="609" y="285"/>
                  </a:lnTo>
                  <a:lnTo>
                    <a:pt x="598" y="292"/>
                  </a:lnTo>
                  <a:lnTo>
                    <a:pt x="586" y="304"/>
                  </a:lnTo>
                  <a:lnTo>
                    <a:pt x="580" y="316"/>
                  </a:lnTo>
                  <a:lnTo>
                    <a:pt x="579" y="331"/>
                  </a:lnTo>
                  <a:lnTo>
                    <a:pt x="580" y="345"/>
                  </a:lnTo>
                  <a:lnTo>
                    <a:pt x="580" y="360"/>
                  </a:lnTo>
                  <a:lnTo>
                    <a:pt x="577" y="375"/>
                  </a:lnTo>
                  <a:lnTo>
                    <a:pt x="570" y="393"/>
                  </a:lnTo>
                  <a:lnTo>
                    <a:pt x="564" y="414"/>
                  </a:lnTo>
                  <a:lnTo>
                    <a:pt x="565" y="433"/>
                  </a:lnTo>
                  <a:lnTo>
                    <a:pt x="570" y="453"/>
                  </a:lnTo>
                  <a:lnTo>
                    <a:pt x="574" y="471"/>
                  </a:lnTo>
                  <a:lnTo>
                    <a:pt x="574" y="490"/>
                  </a:lnTo>
                  <a:lnTo>
                    <a:pt x="568" y="511"/>
                  </a:lnTo>
                  <a:lnTo>
                    <a:pt x="564" y="534"/>
                  </a:lnTo>
                  <a:lnTo>
                    <a:pt x="559" y="556"/>
                  </a:lnTo>
                  <a:lnTo>
                    <a:pt x="564" y="580"/>
                  </a:lnTo>
                  <a:lnTo>
                    <a:pt x="565" y="597"/>
                  </a:lnTo>
                  <a:lnTo>
                    <a:pt x="561" y="615"/>
                  </a:lnTo>
                  <a:lnTo>
                    <a:pt x="555" y="636"/>
                  </a:lnTo>
                  <a:lnTo>
                    <a:pt x="547" y="657"/>
                  </a:lnTo>
                  <a:lnTo>
                    <a:pt x="540" y="678"/>
                  </a:lnTo>
                  <a:lnTo>
                    <a:pt x="535" y="697"/>
                  </a:lnTo>
                  <a:lnTo>
                    <a:pt x="534" y="715"/>
                  </a:lnTo>
                  <a:lnTo>
                    <a:pt x="532" y="730"/>
                  </a:lnTo>
                  <a:lnTo>
                    <a:pt x="526" y="750"/>
                  </a:lnTo>
                  <a:lnTo>
                    <a:pt x="517" y="772"/>
                  </a:lnTo>
                  <a:lnTo>
                    <a:pt x="507" y="796"/>
                  </a:lnTo>
                  <a:lnTo>
                    <a:pt x="496" y="822"/>
                  </a:lnTo>
                  <a:lnTo>
                    <a:pt x="484" y="844"/>
                  </a:lnTo>
                  <a:lnTo>
                    <a:pt x="474" y="867"/>
                  </a:lnTo>
                  <a:lnTo>
                    <a:pt x="465" y="885"/>
                  </a:lnTo>
                  <a:lnTo>
                    <a:pt x="459" y="897"/>
                  </a:lnTo>
                  <a:lnTo>
                    <a:pt x="447" y="916"/>
                  </a:lnTo>
                  <a:lnTo>
                    <a:pt x="429" y="937"/>
                  </a:lnTo>
                  <a:lnTo>
                    <a:pt x="406" y="957"/>
                  </a:lnTo>
                  <a:lnTo>
                    <a:pt x="381" y="972"/>
                  </a:lnTo>
                  <a:lnTo>
                    <a:pt x="355" y="978"/>
                  </a:lnTo>
                  <a:lnTo>
                    <a:pt x="331" y="976"/>
                  </a:lnTo>
                  <a:lnTo>
                    <a:pt x="306" y="970"/>
                  </a:lnTo>
                  <a:lnTo>
                    <a:pt x="280" y="961"/>
                  </a:lnTo>
                  <a:lnTo>
                    <a:pt x="258" y="948"/>
                  </a:lnTo>
                  <a:lnTo>
                    <a:pt x="237" y="933"/>
                  </a:lnTo>
                  <a:lnTo>
                    <a:pt x="223" y="916"/>
                  </a:lnTo>
                  <a:lnTo>
                    <a:pt x="211" y="898"/>
                  </a:lnTo>
                  <a:lnTo>
                    <a:pt x="201" y="882"/>
                  </a:lnTo>
                  <a:lnTo>
                    <a:pt x="190" y="868"/>
                  </a:lnTo>
                  <a:lnTo>
                    <a:pt x="175" y="858"/>
                  </a:lnTo>
                  <a:lnTo>
                    <a:pt x="153" y="849"/>
                  </a:lnTo>
                  <a:lnTo>
                    <a:pt x="135" y="843"/>
                  </a:lnTo>
                  <a:lnTo>
                    <a:pt x="114" y="835"/>
                  </a:lnTo>
                  <a:lnTo>
                    <a:pt x="94" y="829"/>
                  </a:lnTo>
                  <a:lnTo>
                    <a:pt x="78" y="822"/>
                  </a:lnTo>
                  <a:lnTo>
                    <a:pt x="63" y="816"/>
                  </a:lnTo>
                  <a:lnTo>
                    <a:pt x="54" y="813"/>
                  </a:lnTo>
                  <a:lnTo>
                    <a:pt x="51" y="811"/>
                  </a:lnTo>
                  <a:lnTo>
                    <a:pt x="0" y="2148"/>
                  </a:lnTo>
                  <a:lnTo>
                    <a:pt x="387" y="2164"/>
                  </a:lnTo>
                  <a:lnTo>
                    <a:pt x="360" y="2589"/>
                  </a:lnTo>
                  <a:lnTo>
                    <a:pt x="1345" y="2683"/>
                  </a:lnTo>
                  <a:lnTo>
                    <a:pt x="1420" y="2632"/>
                  </a:lnTo>
                  <a:lnTo>
                    <a:pt x="1509" y="2641"/>
                  </a:lnTo>
                  <a:lnTo>
                    <a:pt x="1542" y="2664"/>
                  </a:lnTo>
                  <a:lnTo>
                    <a:pt x="1575" y="2662"/>
                  </a:lnTo>
                  <a:lnTo>
                    <a:pt x="1636" y="2740"/>
                  </a:lnTo>
                  <a:lnTo>
                    <a:pt x="1675" y="2707"/>
                  </a:lnTo>
                  <a:lnTo>
                    <a:pt x="1695" y="2721"/>
                  </a:lnTo>
                  <a:lnTo>
                    <a:pt x="1719" y="2707"/>
                  </a:lnTo>
                  <a:lnTo>
                    <a:pt x="1725" y="2662"/>
                  </a:lnTo>
                  <a:lnTo>
                    <a:pt x="1789" y="2640"/>
                  </a:lnTo>
                  <a:lnTo>
                    <a:pt x="1819" y="2659"/>
                  </a:lnTo>
                  <a:lnTo>
                    <a:pt x="1903" y="2650"/>
                  </a:lnTo>
                  <a:lnTo>
                    <a:pt x="1903" y="2646"/>
                  </a:lnTo>
                  <a:lnTo>
                    <a:pt x="1905" y="2635"/>
                  </a:lnTo>
                  <a:lnTo>
                    <a:pt x="1905" y="2620"/>
                  </a:lnTo>
                  <a:lnTo>
                    <a:pt x="1905" y="2605"/>
                  </a:lnTo>
                  <a:lnTo>
                    <a:pt x="1902" y="2593"/>
                  </a:lnTo>
                  <a:lnTo>
                    <a:pt x="1897" y="2578"/>
                  </a:lnTo>
                  <a:lnTo>
                    <a:pt x="1890" y="2563"/>
                  </a:lnTo>
                  <a:lnTo>
                    <a:pt x="1884" y="2547"/>
                  </a:lnTo>
                  <a:lnTo>
                    <a:pt x="1881" y="2530"/>
                  </a:lnTo>
                  <a:lnTo>
                    <a:pt x="1881" y="2515"/>
                  </a:lnTo>
                  <a:lnTo>
                    <a:pt x="1885" y="2500"/>
                  </a:lnTo>
                  <a:lnTo>
                    <a:pt x="1891" y="2487"/>
                  </a:lnTo>
                  <a:lnTo>
                    <a:pt x="1896" y="2473"/>
                  </a:lnTo>
                  <a:lnTo>
                    <a:pt x="1900" y="2454"/>
                  </a:lnTo>
                  <a:lnTo>
                    <a:pt x="1902" y="2430"/>
                  </a:lnTo>
                  <a:lnTo>
                    <a:pt x="1905" y="2412"/>
                  </a:lnTo>
                  <a:lnTo>
                    <a:pt x="1909" y="2398"/>
                  </a:lnTo>
                  <a:lnTo>
                    <a:pt x="1914" y="2386"/>
                  </a:lnTo>
                  <a:lnTo>
                    <a:pt x="1918" y="2374"/>
                  </a:lnTo>
                  <a:lnTo>
                    <a:pt x="1921" y="2362"/>
                  </a:lnTo>
                  <a:lnTo>
                    <a:pt x="1923" y="2349"/>
                  </a:lnTo>
                  <a:lnTo>
                    <a:pt x="1921" y="2331"/>
                  </a:lnTo>
                  <a:lnTo>
                    <a:pt x="1914" y="2307"/>
                  </a:lnTo>
                  <a:lnTo>
                    <a:pt x="1908" y="2287"/>
                  </a:lnTo>
                  <a:lnTo>
                    <a:pt x="1902" y="2271"/>
                  </a:lnTo>
                  <a:lnTo>
                    <a:pt x="1897" y="2256"/>
                  </a:lnTo>
                  <a:lnTo>
                    <a:pt x="1897" y="2242"/>
                  </a:lnTo>
                  <a:lnTo>
                    <a:pt x="1897" y="2230"/>
                  </a:lnTo>
                  <a:lnTo>
                    <a:pt x="1891" y="2223"/>
                  </a:lnTo>
                  <a:lnTo>
                    <a:pt x="1882" y="2214"/>
                  </a:lnTo>
                  <a:lnTo>
                    <a:pt x="1872" y="2206"/>
                  </a:lnTo>
                  <a:lnTo>
                    <a:pt x="1864" y="2196"/>
                  </a:lnTo>
                  <a:lnTo>
                    <a:pt x="1860" y="2182"/>
                  </a:lnTo>
                  <a:lnTo>
                    <a:pt x="1855" y="2167"/>
                  </a:lnTo>
                  <a:lnTo>
                    <a:pt x="1845" y="2154"/>
                  </a:lnTo>
                  <a:lnTo>
                    <a:pt x="1833" y="2140"/>
                  </a:lnTo>
                  <a:lnTo>
                    <a:pt x="1821" y="2128"/>
                  </a:lnTo>
                  <a:lnTo>
                    <a:pt x="1810" y="2115"/>
                  </a:lnTo>
                  <a:lnTo>
                    <a:pt x="1803" y="2100"/>
                  </a:lnTo>
                  <a:lnTo>
                    <a:pt x="1791" y="2070"/>
                  </a:lnTo>
                  <a:lnTo>
                    <a:pt x="1774" y="2043"/>
                  </a:lnTo>
                  <a:lnTo>
                    <a:pt x="1753" y="2020"/>
                  </a:lnTo>
                  <a:lnTo>
                    <a:pt x="1740" y="2008"/>
                  </a:lnTo>
                  <a:lnTo>
                    <a:pt x="1723" y="1995"/>
                  </a:lnTo>
                  <a:lnTo>
                    <a:pt x="1705" y="1980"/>
                  </a:lnTo>
                  <a:lnTo>
                    <a:pt x="1690" y="1965"/>
                  </a:lnTo>
                  <a:lnTo>
                    <a:pt x="1678" y="1950"/>
                  </a:lnTo>
                  <a:lnTo>
                    <a:pt x="1672" y="1936"/>
                  </a:lnTo>
                  <a:lnTo>
                    <a:pt x="1672" y="1921"/>
                  </a:lnTo>
                  <a:lnTo>
                    <a:pt x="1677" y="1903"/>
                  </a:lnTo>
                  <a:lnTo>
                    <a:pt x="1683" y="1884"/>
                  </a:lnTo>
                  <a:lnTo>
                    <a:pt x="1689" y="1864"/>
                  </a:lnTo>
                  <a:lnTo>
                    <a:pt x="1693" y="1848"/>
                  </a:lnTo>
                  <a:lnTo>
                    <a:pt x="1693" y="1833"/>
                  </a:lnTo>
                  <a:lnTo>
                    <a:pt x="1687" y="1819"/>
                  </a:lnTo>
                  <a:lnTo>
                    <a:pt x="1675" y="1807"/>
                  </a:lnTo>
                  <a:lnTo>
                    <a:pt x="1659" y="1795"/>
                  </a:lnTo>
                  <a:lnTo>
                    <a:pt x="1644" y="1783"/>
                  </a:lnTo>
                  <a:lnTo>
                    <a:pt x="1632" y="1773"/>
                  </a:lnTo>
                  <a:lnTo>
                    <a:pt x="1624" y="1762"/>
                  </a:lnTo>
                  <a:lnTo>
                    <a:pt x="1615" y="1749"/>
                  </a:lnTo>
                  <a:lnTo>
                    <a:pt x="1608" y="1735"/>
                  </a:lnTo>
                  <a:lnTo>
                    <a:pt x="1600" y="1723"/>
                  </a:lnTo>
                  <a:lnTo>
                    <a:pt x="1594" y="1716"/>
                  </a:lnTo>
                  <a:lnTo>
                    <a:pt x="1590" y="1713"/>
                  </a:lnTo>
                  <a:lnTo>
                    <a:pt x="1585" y="1717"/>
                  </a:lnTo>
                  <a:lnTo>
                    <a:pt x="1584" y="1726"/>
                  </a:lnTo>
                  <a:lnTo>
                    <a:pt x="1581" y="1738"/>
                  </a:lnTo>
                  <a:lnTo>
                    <a:pt x="1576" y="1752"/>
                  </a:lnTo>
                  <a:lnTo>
                    <a:pt x="1573" y="1765"/>
                  </a:lnTo>
                  <a:lnTo>
                    <a:pt x="1569" y="1776"/>
                  </a:lnTo>
                  <a:lnTo>
                    <a:pt x="1563" y="1782"/>
                  </a:lnTo>
                  <a:lnTo>
                    <a:pt x="1558" y="1783"/>
                  </a:lnTo>
                  <a:lnTo>
                    <a:pt x="1552" y="1776"/>
                  </a:lnTo>
                  <a:lnTo>
                    <a:pt x="1546" y="1762"/>
                  </a:lnTo>
                  <a:lnTo>
                    <a:pt x="1545" y="1743"/>
                  </a:lnTo>
                  <a:lnTo>
                    <a:pt x="1543" y="1720"/>
                  </a:lnTo>
                  <a:lnTo>
                    <a:pt x="1542" y="1696"/>
                  </a:lnTo>
                  <a:lnTo>
                    <a:pt x="1540" y="1672"/>
                  </a:lnTo>
                  <a:lnTo>
                    <a:pt x="1536" y="1648"/>
                  </a:lnTo>
                  <a:lnTo>
                    <a:pt x="1528" y="1626"/>
                  </a:lnTo>
                  <a:lnTo>
                    <a:pt x="1518" y="1606"/>
                  </a:lnTo>
                  <a:lnTo>
                    <a:pt x="1504" y="1585"/>
                  </a:lnTo>
                  <a:lnTo>
                    <a:pt x="1491" y="1561"/>
                  </a:lnTo>
                  <a:lnTo>
                    <a:pt x="1476" y="1539"/>
                  </a:lnTo>
                  <a:lnTo>
                    <a:pt x="1462" y="1516"/>
                  </a:lnTo>
                  <a:lnTo>
                    <a:pt x="1450" y="1497"/>
                  </a:lnTo>
                  <a:lnTo>
                    <a:pt x="1441" y="1480"/>
                  </a:lnTo>
                  <a:lnTo>
                    <a:pt x="1437" y="1468"/>
                  </a:lnTo>
                  <a:lnTo>
                    <a:pt x="1431" y="1452"/>
                  </a:lnTo>
                  <a:lnTo>
                    <a:pt x="1417" y="1434"/>
                  </a:lnTo>
                  <a:lnTo>
                    <a:pt x="1402" y="1414"/>
                  </a:lnTo>
                  <a:lnTo>
                    <a:pt x="1384" y="1398"/>
                  </a:lnTo>
                  <a:lnTo>
                    <a:pt x="1368" y="1383"/>
                  </a:lnTo>
                  <a:lnTo>
                    <a:pt x="1350" y="1371"/>
                  </a:lnTo>
                  <a:lnTo>
                    <a:pt x="1329" y="1356"/>
                  </a:lnTo>
                  <a:lnTo>
                    <a:pt x="1309" y="1341"/>
                  </a:lnTo>
                  <a:lnTo>
                    <a:pt x="1291" y="1324"/>
                  </a:lnTo>
                  <a:lnTo>
                    <a:pt x="1278" y="1311"/>
                  </a:lnTo>
                  <a:lnTo>
                    <a:pt x="1272" y="1303"/>
                  </a:lnTo>
                  <a:lnTo>
                    <a:pt x="1264" y="1297"/>
                  </a:lnTo>
                  <a:lnTo>
                    <a:pt x="1257" y="1293"/>
                  </a:lnTo>
                  <a:lnTo>
                    <a:pt x="1248" y="1288"/>
                  </a:lnTo>
                  <a:lnTo>
                    <a:pt x="1237" y="1279"/>
                  </a:lnTo>
                  <a:lnTo>
                    <a:pt x="1224" y="1269"/>
                  </a:lnTo>
                  <a:lnTo>
                    <a:pt x="1209" y="1252"/>
                  </a:lnTo>
                  <a:lnTo>
                    <a:pt x="1191" y="1233"/>
                  </a:lnTo>
                  <a:lnTo>
                    <a:pt x="1177" y="1215"/>
                  </a:lnTo>
                  <a:lnTo>
                    <a:pt x="1165" y="1200"/>
                  </a:lnTo>
                  <a:lnTo>
                    <a:pt x="1158" y="1183"/>
                  </a:lnTo>
                  <a:lnTo>
                    <a:pt x="1153" y="1165"/>
                  </a:lnTo>
                  <a:lnTo>
                    <a:pt x="1150" y="1144"/>
                  </a:lnTo>
                  <a:lnTo>
                    <a:pt x="1149" y="1111"/>
                  </a:lnTo>
                  <a:lnTo>
                    <a:pt x="1150" y="1083"/>
                  </a:lnTo>
                  <a:lnTo>
                    <a:pt x="1150" y="1057"/>
                  </a:lnTo>
                  <a:lnTo>
                    <a:pt x="1147" y="1033"/>
                  </a:lnTo>
                  <a:lnTo>
                    <a:pt x="1141" y="1006"/>
                  </a:lnTo>
                  <a:lnTo>
                    <a:pt x="1134" y="976"/>
                  </a:lnTo>
                  <a:lnTo>
                    <a:pt x="1122" y="945"/>
                  </a:lnTo>
                  <a:lnTo>
                    <a:pt x="1108" y="915"/>
                  </a:lnTo>
                  <a:lnTo>
                    <a:pt x="1098" y="898"/>
                  </a:lnTo>
                  <a:lnTo>
                    <a:pt x="1087" y="882"/>
                  </a:lnTo>
                  <a:lnTo>
                    <a:pt x="1078" y="867"/>
                  </a:lnTo>
                  <a:lnTo>
                    <a:pt x="1071" y="852"/>
                  </a:lnTo>
                  <a:lnTo>
                    <a:pt x="1068" y="834"/>
                  </a:lnTo>
                  <a:lnTo>
                    <a:pt x="1069" y="811"/>
                  </a:lnTo>
                  <a:lnTo>
                    <a:pt x="1074" y="786"/>
                  </a:lnTo>
                  <a:lnTo>
                    <a:pt x="1077" y="762"/>
                  </a:lnTo>
                  <a:lnTo>
                    <a:pt x="1080" y="738"/>
                  </a:lnTo>
                  <a:lnTo>
                    <a:pt x="1080" y="712"/>
                  </a:lnTo>
                  <a:lnTo>
                    <a:pt x="1078" y="684"/>
                  </a:lnTo>
                  <a:lnTo>
                    <a:pt x="1075" y="661"/>
                  </a:lnTo>
                  <a:lnTo>
                    <a:pt x="1069" y="646"/>
                  </a:lnTo>
                  <a:lnTo>
                    <a:pt x="1060" y="634"/>
                  </a:lnTo>
                  <a:lnTo>
                    <a:pt x="1050" y="624"/>
                  </a:lnTo>
                  <a:lnTo>
                    <a:pt x="1038" y="613"/>
                  </a:lnTo>
                  <a:lnTo>
                    <a:pt x="1024" y="600"/>
                  </a:lnTo>
                  <a:lnTo>
                    <a:pt x="1009" y="583"/>
                  </a:lnTo>
                  <a:lnTo>
                    <a:pt x="1000" y="567"/>
                  </a:lnTo>
                  <a:lnTo>
                    <a:pt x="993" y="553"/>
                  </a:lnTo>
                  <a:lnTo>
                    <a:pt x="985" y="540"/>
                  </a:lnTo>
                  <a:lnTo>
                    <a:pt x="978" y="528"/>
                  </a:lnTo>
                  <a:lnTo>
                    <a:pt x="970" y="525"/>
                  </a:lnTo>
                  <a:lnTo>
                    <a:pt x="961" y="528"/>
                  </a:lnTo>
                  <a:lnTo>
                    <a:pt x="951" y="534"/>
                  </a:lnTo>
                  <a:lnTo>
                    <a:pt x="940" y="543"/>
                  </a:lnTo>
                  <a:lnTo>
                    <a:pt x="928" y="550"/>
                  </a:lnTo>
                  <a:lnTo>
                    <a:pt x="916" y="556"/>
                  </a:lnTo>
                  <a:lnTo>
                    <a:pt x="906" y="559"/>
                  </a:lnTo>
                  <a:lnTo>
                    <a:pt x="894" y="555"/>
                  </a:lnTo>
                  <a:lnTo>
                    <a:pt x="880" y="546"/>
                  </a:lnTo>
                  <a:lnTo>
                    <a:pt x="870" y="537"/>
                  </a:lnTo>
                  <a:lnTo>
                    <a:pt x="861" y="525"/>
                  </a:lnTo>
                  <a:lnTo>
                    <a:pt x="855" y="510"/>
                  </a:lnTo>
                  <a:lnTo>
                    <a:pt x="853" y="489"/>
                  </a:lnTo>
                  <a:lnTo>
                    <a:pt x="853" y="462"/>
                  </a:lnTo>
                  <a:lnTo>
                    <a:pt x="855" y="427"/>
                  </a:lnTo>
                  <a:lnTo>
                    <a:pt x="856" y="397"/>
                  </a:lnTo>
                  <a:lnTo>
                    <a:pt x="856" y="372"/>
                  </a:lnTo>
                  <a:lnTo>
                    <a:pt x="852" y="346"/>
                  </a:lnTo>
                  <a:lnTo>
                    <a:pt x="844" y="321"/>
                  </a:lnTo>
                  <a:lnTo>
                    <a:pt x="835" y="298"/>
                  </a:lnTo>
                  <a:lnTo>
                    <a:pt x="826" y="276"/>
                  </a:lnTo>
                  <a:lnTo>
                    <a:pt x="817" y="253"/>
                  </a:lnTo>
                  <a:lnTo>
                    <a:pt x="811" y="232"/>
                  </a:lnTo>
                  <a:lnTo>
                    <a:pt x="807" y="216"/>
                  </a:lnTo>
                  <a:lnTo>
                    <a:pt x="804" y="205"/>
                  </a:lnTo>
                  <a:lnTo>
                    <a:pt x="802" y="196"/>
                  </a:lnTo>
                  <a:lnTo>
                    <a:pt x="798" y="187"/>
                  </a:lnTo>
                  <a:lnTo>
                    <a:pt x="792" y="180"/>
                  </a:lnTo>
                  <a:lnTo>
                    <a:pt x="784" y="168"/>
                  </a:lnTo>
                  <a:lnTo>
                    <a:pt x="777" y="150"/>
                  </a:lnTo>
                  <a:lnTo>
                    <a:pt x="772" y="132"/>
                  </a:lnTo>
                  <a:lnTo>
                    <a:pt x="772" y="117"/>
                  </a:lnTo>
                  <a:lnTo>
                    <a:pt x="772" y="103"/>
                  </a:lnTo>
                  <a:lnTo>
                    <a:pt x="774" y="88"/>
                  </a:lnTo>
                  <a:lnTo>
                    <a:pt x="774" y="69"/>
                  </a:lnTo>
                  <a:lnTo>
                    <a:pt x="769" y="51"/>
                  </a:lnTo>
                  <a:lnTo>
                    <a:pt x="762" y="37"/>
                  </a:lnTo>
                  <a:lnTo>
                    <a:pt x="754" y="27"/>
                  </a:lnTo>
                  <a:lnTo>
                    <a:pt x="745" y="19"/>
                  </a:lnTo>
                  <a:lnTo>
                    <a:pt x="739" y="15"/>
                  </a:lnTo>
                  <a:lnTo>
                    <a:pt x="736" y="13"/>
                  </a:lnTo>
                  <a:lnTo>
                    <a:pt x="735" y="12"/>
                  </a:lnTo>
                  <a:lnTo>
                    <a:pt x="730" y="6"/>
                  </a:lnTo>
                  <a:lnTo>
                    <a:pt x="724" y="1"/>
                  </a:lnTo>
                  <a:lnTo>
                    <a:pt x="717" y="0"/>
                  </a:lnTo>
                  <a:lnTo>
                    <a:pt x="711" y="1"/>
                  </a:lnTo>
                  <a:lnTo>
                    <a:pt x="703" y="7"/>
                  </a:lnTo>
                  <a:lnTo>
                    <a:pt x="694" y="13"/>
                  </a:lnTo>
                  <a:lnTo>
                    <a:pt x="687" y="19"/>
                  </a:lnTo>
                  <a:lnTo>
                    <a:pt x="681" y="22"/>
                  </a:lnTo>
                  <a:lnTo>
                    <a:pt x="678" y="2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4086360" y="1778040"/>
              <a:ext cx="188640" cy="110520"/>
            </a:xfrm>
            <a:custGeom>
              <a:avLst/>
              <a:gdLst/>
              <a:ahLst/>
              <a:rect l="l" t="t" r="r" b="b"/>
              <a:pathLst>
                <a:path w="187" h="110">
                  <a:moveTo>
                    <a:pt x="109" y="110"/>
                  </a:moveTo>
                  <a:lnTo>
                    <a:pt x="105" y="108"/>
                  </a:lnTo>
                  <a:lnTo>
                    <a:pt x="94" y="107"/>
                  </a:lnTo>
                  <a:lnTo>
                    <a:pt x="79" y="104"/>
                  </a:lnTo>
                  <a:lnTo>
                    <a:pt x="63" y="99"/>
                  </a:lnTo>
                  <a:lnTo>
                    <a:pt x="46" y="92"/>
                  </a:lnTo>
                  <a:lnTo>
                    <a:pt x="31" y="83"/>
                  </a:lnTo>
                  <a:lnTo>
                    <a:pt x="22" y="72"/>
                  </a:lnTo>
                  <a:lnTo>
                    <a:pt x="16" y="60"/>
                  </a:lnTo>
                  <a:lnTo>
                    <a:pt x="10" y="47"/>
                  </a:lnTo>
                  <a:lnTo>
                    <a:pt x="6" y="35"/>
                  </a:lnTo>
                  <a:lnTo>
                    <a:pt x="1" y="23"/>
                  </a:lnTo>
                  <a:lnTo>
                    <a:pt x="0" y="12"/>
                  </a:lnTo>
                  <a:lnTo>
                    <a:pt x="1" y="5"/>
                  </a:lnTo>
                  <a:lnTo>
                    <a:pt x="6" y="3"/>
                  </a:lnTo>
                  <a:lnTo>
                    <a:pt x="15" y="5"/>
                  </a:lnTo>
                  <a:lnTo>
                    <a:pt x="31" y="14"/>
                  </a:lnTo>
                  <a:lnTo>
                    <a:pt x="49" y="23"/>
                  </a:lnTo>
                  <a:lnTo>
                    <a:pt x="67" y="29"/>
                  </a:lnTo>
                  <a:lnTo>
                    <a:pt x="84" y="32"/>
                  </a:lnTo>
                  <a:lnTo>
                    <a:pt x="99" y="30"/>
                  </a:lnTo>
                  <a:lnTo>
                    <a:pt x="108" y="24"/>
                  </a:lnTo>
                  <a:lnTo>
                    <a:pt x="117" y="15"/>
                  </a:lnTo>
                  <a:lnTo>
                    <a:pt x="124" y="6"/>
                  </a:lnTo>
                  <a:lnTo>
                    <a:pt x="132" y="2"/>
                  </a:lnTo>
                  <a:lnTo>
                    <a:pt x="141" y="0"/>
                  </a:lnTo>
                  <a:lnTo>
                    <a:pt x="151" y="5"/>
                  </a:lnTo>
                  <a:lnTo>
                    <a:pt x="165" y="15"/>
                  </a:lnTo>
                  <a:lnTo>
                    <a:pt x="177" y="24"/>
                  </a:lnTo>
                  <a:lnTo>
                    <a:pt x="184" y="32"/>
                  </a:lnTo>
                  <a:lnTo>
                    <a:pt x="187" y="39"/>
                  </a:lnTo>
                  <a:lnTo>
                    <a:pt x="186" y="47"/>
                  </a:lnTo>
                  <a:lnTo>
                    <a:pt x="180" y="54"/>
                  </a:lnTo>
                  <a:lnTo>
                    <a:pt x="169" y="63"/>
                  </a:lnTo>
                  <a:lnTo>
                    <a:pt x="157" y="72"/>
                  </a:lnTo>
                  <a:lnTo>
                    <a:pt x="144" y="84"/>
                  </a:lnTo>
                  <a:lnTo>
                    <a:pt x="130" y="93"/>
                  </a:lnTo>
                  <a:lnTo>
                    <a:pt x="120" y="102"/>
                  </a:lnTo>
                  <a:lnTo>
                    <a:pt x="112" y="107"/>
                  </a:lnTo>
                  <a:lnTo>
                    <a:pt x="109" y="11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4969080" y="2139120"/>
              <a:ext cx="78120" cy="10404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6" y="27"/>
                  </a:moveTo>
                  <a:lnTo>
                    <a:pt x="17" y="15"/>
                  </a:lnTo>
                  <a:lnTo>
                    <a:pt x="26" y="6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0" y="6"/>
                  </a:lnTo>
                  <a:lnTo>
                    <a:pt x="54" y="20"/>
                  </a:lnTo>
                  <a:lnTo>
                    <a:pt x="53" y="35"/>
                  </a:lnTo>
                  <a:lnTo>
                    <a:pt x="48" y="48"/>
                  </a:lnTo>
                  <a:lnTo>
                    <a:pt x="45" y="63"/>
                  </a:lnTo>
                  <a:lnTo>
                    <a:pt x="48" y="69"/>
                  </a:lnTo>
                  <a:lnTo>
                    <a:pt x="53" y="72"/>
                  </a:lnTo>
                  <a:lnTo>
                    <a:pt x="60" y="74"/>
                  </a:lnTo>
                  <a:lnTo>
                    <a:pt x="68" y="74"/>
                  </a:lnTo>
                  <a:lnTo>
                    <a:pt x="74" y="75"/>
                  </a:lnTo>
                  <a:lnTo>
                    <a:pt x="78" y="78"/>
                  </a:lnTo>
                  <a:lnTo>
                    <a:pt x="77" y="83"/>
                  </a:lnTo>
                  <a:lnTo>
                    <a:pt x="71" y="89"/>
                  </a:lnTo>
                  <a:lnTo>
                    <a:pt x="62" y="95"/>
                  </a:lnTo>
                  <a:lnTo>
                    <a:pt x="48" y="101"/>
                  </a:lnTo>
                  <a:lnTo>
                    <a:pt x="36" y="104"/>
                  </a:lnTo>
                  <a:lnTo>
                    <a:pt x="23" y="104"/>
                  </a:lnTo>
                  <a:lnTo>
                    <a:pt x="12" y="101"/>
                  </a:lnTo>
                  <a:lnTo>
                    <a:pt x="5" y="95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5" y="41"/>
                  </a:lnTo>
                  <a:lnTo>
                    <a:pt x="6" y="30"/>
                  </a:lnTo>
                  <a:lnTo>
                    <a:pt x="6" y="27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5444640" y="4357440"/>
              <a:ext cx="1604160" cy="1299960"/>
            </a:xfrm>
            <a:custGeom>
              <a:avLst/>
              <a:gdLst/>
              <a:ahLst/>
              <a:rect l="l" t="t" r="r" b="b"/>
              <a:pathLst>
                <a:path w="1601" h="1296">
                  <a:moveTo>
                    <a:pt x="977" y="1296"/>
                  </a:moveTo>
                  <a:lnTo>
                    <a:pt x="803" y="1177"/>
                  </a:lnTo>
                  <a:lnTo>
                    <a:pt x="788" y="1080"/>
                  </a:lnTo>
                  <a:lnTo>
                    <a:pt x="726" y="1048"/>
                  </a:lnTo>
                  <a:lnTo>
                    <a:pt x="542" y="1026"/>
                  </a:lnTo>
                  <a:lnTo>
                    <a:pt x="450" y="1012"/>
                  </a:lnTo>
                  <a:lnTo>
                    <a:pt x="413" y="1041"/>
                  </a:lnTo>
                  <a:lnTo>
                    <a:pt x="264" y="906"/>
                  </a:lnTo>
                  <a:lnTo>
                    <a:pt x="273" y="843"/>
                  </a:lnTo>
                  <a:lnTo>
                    <a:pt x="200" y="813"/>
                  </a:lnTo>
                  <a:lnTo>
                    <a:pt x="191" y="831"/>
                  </a:lnTo>
                  <a:lnTo>
                    <a:pt x="147" y="763"/>
                  </a:lnTo>
                  <a:lnTo>
                    <a:pt x="84" y="724"/>
                  </a:lnTo>
                  <a:lnTo>
                    <a:pt x="60" y="747"/>
                  </a:lnTo>
                  <a:lnTo>
                    <a:pt x="0" y="709"/>
                  </a:lnTo>
                  <a:lnTo>
                    <a:pt x="47" y="0"/>
                  </a:lnTo>
                  <a:lnTo>
                    <a:pt x="1032" y="94"/>
                  </a:lnTo>
                  <a:lnTo>
                    <a:pt x="1107" y="43"/>
                  </a:lnTo>
                  <a:lnTo>
                    <a:pt x="1196" y="52"/>
                  </a:lnTo>
                  <a:lnTo>
                    <a:pt x="1229" y="75"/>
                  </a:lnTo>
                  <a:lnTo>
                    <a:pt x="1265" y="76"/>
                  </a:lnTo>
                  <a:lnTo>
                    <a:pt x="1323" y="151"/>
                  </a:lnTo>
                  <a:lnTo>
                    <a:pt x="1362" y="118"/>
                  </a:lnTo>
                  <a:lnTo>
                    <a:pt x="1382" y="132"/>
                  </a:lnTo>
                  <a:lnTo>
                    <a:pt x="1406" y="118"/>
                  </a:lnTo>
                  <a:lnTo>
                    <a:pt x="1415" y="78"/>
                  </a:lnTo>
                  <a:lnTo>
                    <a:pt x="1476" y="51"/>
                  </a:lnTo>
                  <a:lnTo>
                    <a:pt x="1506" y="70"/>
                  </a:lnTo>
                  <a:lnTo>
                    <a:pt x="1590" y="61"/>
                  </a:lnTo>
                  <a:lnTo>
                    <a:pt x="1592" y="66"/>
                  </a:lnTo>
                  <a:lnTo>
                    <a:pt x="1593" y="75"/>
                  </a:lnTo>
                  <a:lnTo>
                    <a:pt x="1596" y="88"/>
                  </a:lnTo>
                  <a:lnTo>
                    <a:pt x="1599" y="103"/>
                  </a:lnTo>
                  <a:lnTo>
                    <a:pt x="1601" y="120"/>
                  </a:lnTo>
                  <a:lnTo>
                    <a:pt x="1599" y="136"/>
                  </a:lnTo>
                  <a:lnTo>
                    <a:pt x="1595" y="150"/>
                  </a:lnTo>
                  <a:lnTo>
                    <a:pt x="1587" y="166"/>
                  </a:lnTo>
                  <a:lnTo>
                    <a:pt x="1577" y="187"/>
                  </a:lnTo>
                  <a:lnTo>
                    <a:pt x="1565" y="211"/>
                  </a:lnTo>
                  <a:lnTo>
                    <a:pt x="1551" y="237"/>
                  </a:lnTo>
                  <a:lnTo>
                    <a:pt x="1539" y="262"/>
                  </a:lnTo>
                  <a:lnTo>
                    <a:pt x="1529" y="285"/>
                  </a:lnTo>
                  <a:lnTo>
                    <a:pt x="1521" y="304"/>
                  </a:lnTo>
                  <a:lnTo>
                    <a:pt x="1512" y="331"/>
                  </a:lnTo>
                  <a:lnTo>
                    <a:pt x="1503" y="360"/>
                  </a:lnTo>
                  <a:lnTo>
                    <a:pt x="1493" y="391"/>
                  </a:lnTo>
                  <a:lnTo>
                    <a:pt x="1485" y="420"/>
                  </a:lnTo>
                  <a:lnTo>
                    <a:pt x="1481" y="444"/>
                  </a:lnTo>
                  <a:lnTo>
                    <a:pt x="1476" y="460"/>
                  </a:lnTo>
                  <a:lnTo>
                    <a:pt x="1467" y="481"/>
                  </a:lnTo>
                  <a:lnTo>
                    <a:pt x="1455" y="505"/>
                  </a:lnTo>
                  <a:lnTo>
                    <a:pt x="1443" y="532"/>
                  </a:lnTo>
                  <a:lnTo>
                    <a:pt x="1428" y="558"/>
                  </a:lnTo>
                  <a:lnTo>
                    <a:pt x="1415" y="582"/>
                  </a:lnTo>
                  <a:lnTo>
                    <a:pt x="1401" y="603"/>
                  </a:lnTo>
                  <a:lnTo>
                    <a:pt x="1391" y="618"/>
                  </a:lnTo>
                  <a:lnTo>
                    <a:pt x="1373" y="636"/>
                  </a:lnTo>
                  <a:lnTo>
                    <a:pt x="1349" y="649"/>
                  </a:lnTo>
                  <a:lnTo>
                    <a:pt x="1325" y="663"/>
                  </a:lnTo>
                  <a:lnTo>
                    <a:pt x="1301" y="678"/>
                  </a:lnTo>
                  <a:lnTo>
                    <a:pt x="1278" y="696"/>
                  </a:lnTo>
                  <a:lnTo>
                    <a:pt x="1263" y="715"/>
                  </a:lnTo>
                  <a:lnTo>
                    <a:pt x="1250" y="741"/>
                  </a:lnTo>
                  <a:lnTo>
                    <a:pt x="1238" y="769"/>
                  </a:lnTo>
                  <a:lnTo>
                    <a:pt x="1226" y="798"/>
                  </a:lnTo>
                  <a:lnTo>
                    <a:pt x="1215" y="820"/>
                  </a:lnTo>
                  <a:lnTo>
                    <a:pt x="1203" y="837"/>
                  </a:lnTo>
                  <a:lnTo>
                    <a:pt x="1190" y="853"/>
                  </a:lnTo>
                  <a:lnTo>
                    <a:pt x="1176" y="873"/>
                  </a:lnTo>
                  <a:lnTo>
                    <a:pt x="1161" y="897"/>
                  </a:lnTo>
                  <a:lnTo>
                    <a:pt x="1148" y="922"/>
                  </a:lnTo>
                  <a:lnTo>
                    <a:pt x="1137" y="945"/>
                  </a:lnTo>
                  <a:lnTo>
                    <a:pt x="1130" y="963"/>
                  </a:lnTo>
                  <a:lnTo>
                    <a:pt x="1121" y="979"/>
                  </a:lnTo>
                  <a:lnTo>
                    <a:pt x="1106" y="993"/>
                  </a:lnTo>
                  <a:lnTo>
                    <a:pt x="1091" y="1005"/>
                  </a:lnTo>
                  <a:lnTo>
                    <a:pt x="1077" y="1015"/>
                  </a:lnTo>
                  <a:lnTo>
                    <a:pt x="1067" y="1030"/>
                  </a:lnTo>
                  <a:lnTo>
                    <a:pt x="1059" y="1048"/>
                  </a:lnTo>
                  <a:lnTo>
                    <a:pt x="1053" y="1074"/>
                  </a:lnTo>
                  <a:lnTo>
                    <a:pt x="1046" y="1102"/>
                  </a:lnTo>
                  <a:lnTo>
                    <a:pt x="1038" y="1128"/>
                  </a:lnTo>
                  <a:lnTo>
                    <a:pt x="1029" y="1150"/>
                  </a:lnTo>
                  <a:lnTo>
                    <a:pt x="1017" y="1168"/>
                  </a:lnTo>
                  <a:lnTo>
                    <a:pt x="1008" y="1186"/>
                  </a:lnTo>
                  <a:lnTo>
                    <a:pt x="999" y="1203"/>
                  </a:lnTo>
                  <a:lnTo>
                    <a:pt x="995" y="1221"/>
                  </a:lnTo>
                  <a:lnTo>
                    <a:pt x="995" y="1240"/>
                  </a:lnTo>
                  <a:lnTo>
                    <a:pt x="995" y="1258"/>
                  </a:lnTo>
                  <a:lnTo>
                    <a:pt x="990" y="1273"/>
                  </a:lnTo>
                  <a:lnTo>
                    <a:pt x="984" y="1285"/>
                  </a:lnTo>
                  <a:lnTo>
                    <a:pt x="980" y="1293"/>
                  </a:lnTo>
                  <a:lnTo>
                    <a:pt x="977" y="1296"/>
                  </a:lnTo>
                </a:path>
              </a:pathLst>
            </a:custGeom>
            <a:solidFill>
              <a:srgbClr val="e79e4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5408280" y="5069880"/>
              <a:ext cx="1015200" cy="737640"/>
            </a:xfrm>
            <a:custGeom>
              <a:avLst/>
              <a:gdLst/>
              <a:ahLst/>
              <a:rect l="l" t="t" r="r" b="b"/>
              <a:pathLst>
                <a:path w="1013" h="737">
                  <a:moveTo>
                    <a:pt x="657" y="717"/>
                  </a:moveTo>
                  <a:lnTo>
                    <a:pt x="659" y="716"/>
                  </a:lnTo>
                  <a:lnTo>
                    <a:pt x="666" y="710"/>
                  </a:lnTo>
                  <a:lnTo>
                    <a:pt x="678" y="701"/>
                  </a:lnTo>
                  <a:lnTo>
                    <a:pt x="692" y="690"/>
                  </a:lnTo>
                  <a:lnTo>
                    <a:pt x="708" y="678"/>
                  </a:lnTo>
                  <a:lnTo>
                    <a:pt x="725" y="665"/>
                  </a:lnTo>
                  <a:lnTo>
                    <a:pt x="741" y="653"/>
                  </a:lnTo>
                  <a:lnTo>
                    <a:pt x="758" y="644"/>
                  </a:lnTo>
                  <a:lnTo>
                    <a:pt x="773" y="636"/>
                  </a:lnTo>
                  <a:lnTo>
                    <a:pt x="785" y="632"/>
                  </a:lnTo>
                  <a:lnTo>
                    <a:pt x="804" y="629"/>
                  </a:lnTo>
                  <a:lnTo>
                    <a:pt x="828" y="626"/>
                  </a:lnTo>
                  <a:lnTo>
                    <a:pt x="854" y="624"/>
                  </a:lnTo>
                  <a:lnTo>
                    <a:pt x="878" y="624"/>
                  </a:lnTo>
                  <a:lnTo>
                    <a:pt x="899" y="624"/>
                  </a:lnTo>
                  <a:lnTo>
                    <a:pt x="914" y="626"/>
                  </a:lnTo>
                  <a:lnTo>
                    <a:pt x="930" y="630"/>
                  </a:lnTo>
                  <a:lnTo>
                    <a:pt x="947" y="633"/>
                  </a:lnTo>
                  <a:lnTo>
                    <a:pt x="963" y="632"/>
                  </a:lnTo>
                  <a:lnTo>
                    <a:pt x="977" y="624"/>
                  </a:lnTo>
                  <a:lnTo>
                    <a:pt x="987" y="615"/>
                  </a:lnTo>
                  <a:lnTo>
                    <a:pt x="998" y="605"/>
                  </a:lnTo>
                  <a:lnTo>
                    <a:pt x="1005" y="596"/>
                  </a:lnTo>
                  <a:lnTo>
                    <a:pt x="1011" y="590"/>
                  </a:lnTo>
                  <a:lnTo>
                    <a:pt x="1013" y="587"/>
                  </a:lnTo>
                  <a:lnTo>
                    <a:pt x="839" y="468"/>
                  </a:lnTo>
                  <a:lnTo>
                    <a:pt x="824" y="371"/>
                  </a:lnTo>
                  <a:lnTo>
                    <a:pt x="762" y="339"/>
                  </a:lnTo>
                  <a:lnTo>
                    <a:pt x="486" y="303"/>
                  </a:lnTo>
                  <a:lnTo>
                    <a:pt x="449" y="332"/>
                  </a:lnTo>
                  <a:lnTo>
                    <a:pt x="300" y="197"/>
                  </a:lnTo>
                  <a:lnTo>
                    <a:pt x="309" y="134"/>
                  </a:lnTo>
                  <a:lnTo>
                    <a:pt x="236" y="104"/>
                  </a:lnTo>
                  <a:lnTo>
                    <a:pt x="227" y="122"/>
                  </a:lnTo>
                  <a:lnTo>
                    <a:pt x="180" y="50"/>
                  </a:lnTo>
                  <a:lnTo>
                    <a:pt x="120" y="15"/>
                  </a:lnTo>
                  <a:lnTo>
                    <a:pt x="96" y="38"/>
                  </a:lnTo>
                  <a:lnTo>
                    <a:pt x="36" y="0"/>
                  </a:lnTo>
                  <a:lnTo>
                    <a:pt x="0" y="570"/>
                  </a:lnTo>
                  <a:lnTo>
                    <a:pt x="3" y="572"/>
                  </a:lnTo>
                  <a:lnTo>
                    <a:pt x="8" y="579"/>
                  </a:lnTo>
                  <a:lnTo>
                    <a:pt x="15" y="588"/>
                  </a:lnTo>
                  <a:lnTo>
                    <a:pt x="24" y="600"/>
                  </a:lnTo>
                  <a:lnTo>
                    <a:pt x="33" y="611"/>
                  </a:lnTo>
                  <a:lnTo>
                    <a:pt x="42" y="620"/>
                  </a:lnTo>
                  <a:lnTo>
                    <a:pt x="50" y="627"/>
                  </a:lnTo>
                  <a:lnTo>
                    <a:pt x="56" y="630"/>
                  </a:lnTo>
                  <a:lnTo>
                    <a:pt x="63" y="626"/>
                  </a:lnTo>
                  <a:lnTo>
                    <a:pt x="72" y="618"/>
                  </a:lnTo>
                  <a:lnTo>
                    <a:pt x="80" y="608"/>
                  </a:lnTo>
                  <a:lnTo>
                    <a:pt x="86" y="600"/>
                  </a:lnTo>
                  <a:lnTo>
                    <a:pt x="92" y="599"/>
                  </a:lnTo>
                  <a:lnTo>
                    <a:pt x="99" y="603"/>
                  </a:lnTo>
                  <a:lnTo>
                    <a:pt x="110" y="612"/>
                  </a:lnTo>
                  <a:lnTo>
                    <a:pt x="123" y="620"/>
                  </a:lnTo>
                  <a:lnTo>
                    <a:pt x="138" y="629"/>
                  </a:lnTo>
                  <a:lnTo>
                    <a:pt x="152" y="636"/>
                  </a:lnTo>
                  <a:lnTo>
                    <a:pt x="164" y="639"/>
                  </a:lnTo>
                  <a:lnTo>
                    <a:pt x="176" y="642"/>
                  </a:lnTo>
                  <a:lnTo>
                    <a:pt x="185" y="648"/>
                  </a:lnTo>
                  <a:lnTo>
                    <a:pt x="194" y="657"/>
                  </a:lnTo>
                  <a:lnTo>
                    <a:pt x="207" y="668"/>
                  </a:lnTo>
                  <a:lnTo>
                    <a:pt x="227" y="677"/>
                  </a:lnTo>
                  <a:lnTo>
                    <a:pt x="248" y="683"/>
                  </a:lnTo>
                  <a:lnTo>
                    <a:pt x="272" y="686"/>
                  </a:lnTo>
                  <a:lnTo>
                    <a:pt x="296" y="686"/>
                  </a:lnTo>
                  <a:lnTo>
                    <a:pt x="318" y="684"/>
                  </a:lnTo>
                  <a:lnTo>
                    <a:pt x="338" y="678"/>
                  </a:lnTo>
                  <a:lnTo>
                    <a:pt x="351" y="671"/>
                  </a:lnTo>
                  <a:lnTo>
                    <a:pt x="366" y="657"/>
                  </a:lnTo>
                  <a:lnTo>
                    <a:pt x="380" y="644"/>
                  </a:lnTo>
                  <a:lnTo>
                    <a:pt x="393" y="633"/>
                  </a:lnTo>
                  <a:lnTo>
                    <a:pt x="407" y="630"/>
                  </a:lnTo>
                  <a:lnTo>
                    <a:pt x="414" y="627"/>
                  </a:lnTo>
                  <a:lnTo>
                    <a:pt x="419" y="620"/>
                  </a:lnTo>
                  <a:lnTo>
                    <a:pt x="422" y="611"/>
                  </a:lnTo>
                  <a:lnTo>
                    <a:pt x="425" y="603"/>
                  </a:lnTo>
                  <a:lnTo>
                    <a:pt x="429" y="596"/>
                  </a:lnTo>
                  <a:lnTo>
                    <a:pt x="434" y="594"/>
                  </a:lnTo>
                  <a:lnTo>
                    <a:pt x="441" y="597"/>
                  </a:lnTo>
                  <a:lnTo>
                    <a:pt x="452" y="606"/>
                  </a:lnTo>
                  <a:lnTo>
                    <a:pt x="462" y="614"/>
                  </a:lnTo>
                  <a:lnTo>
                    <a:pt x="470" y="620"/>
                  </a:lnTo>
                  <a:lnTo>
                    <a:pt x="473" y="626"/>
                  </a:lnTo>
                  <a:lnTo>
                    <a:pt x="470" y="635"/>
                  </a:lnTo>
                  <a:lnTo>
                    <a:pt x="464" y="642"/>
                  </a:lnTo>
                  <a:lnTo>
                    <a:pt x="452" y="650"/>
                  </a:lnTo>
                  <a:lnTo>
                    <a:pt x="440" y="654"/>
                  </a:lnTo>
                  <a:lnTo>
                    <a:pt x="429" y="660"/>
                  </a:lnTo>
                  <a:lnTo>
                    <a:pt x="422" y="665"/>
                  </a:lnTo>
                  <a:lnTo>
                    <a:pt x="420" y="671"/>
                  </a:lnTo>
                  <a:lnTo>
                    <a:pt x="426" y="675"/>
                  </a:lnTo>
                  <a:lnTo>
                    <a:pt x="441" y="678"/>
                  </a:lnTo>
                  <a:lnTo>
                    <a:pt x="456" y="678"/>
                  </a:lnTo>
                  <a:lnTo>
                    <a:pt x="470" y="677"/>
                  </a:lnTo>
                  <a:lnTo>
                    <a:pt x="483" y="675"/>
                  </a:lnTo>
                  <a:lnTo>
                    <a:pt x="498" y="677"/>
                  </a:lnTo>
                  <a:lnTo>
                    <a:pt x="509" y="681"/>
                  </a:lnTo>
                  <a:lnTo>
                    <a:pt x="515" y="687"/>
                  </a:lnTo>
                  <a:lnTo>
                    <a:pt x="519" y="696"/>
                  </a:lnTo>
                  <a:lnTo>
                    <a:pt x="524" y="705"/>
                  </a:lnTo>
                  <a:lnTo>
                    <a:pt x="528" y="714"/>
                  </a:lnTo>
                  <a:lnTo>
                    <a:pt x="536" y="722"/>
                  </a:lnTo>
                  <a:lnTo>
                    <a:pt x="546" y="728"/>
                  </a:lnTo>
                  <a:lnTo>
                    <a:pt x="557" y="734"/>
                  </a:lnTo>
                  <a:lnTo>
                    <a:pt x="566" y="737"/>
                  </a:lnTo>
                  <a:lnTo>
                    <a:pt x="578" y="737"/>
                  </a:lnTo>
                  <a:lnTo>
                    <a:pt x="594" y="734"/>
                  </a:lnTo>
                  <a:lnTo>
                    <a:pt x="612" y="729"/>
                  </a:lnTo>
                  <a:lnTo>
                    <a:pt x="629" y="725"/>
                  </a:lnTo>
                  <a:lnTo>
                    <a:pt x="644" y="722"/>
                  </a:lnTo>
                  <a:lnTo>
                    <a:pt x="653" y="719"/>
                  </a:lnTo>
                  <a:lnTo>
                    <a:pt x="657" y="717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2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