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C2598-EBC7-4609-92A6-5FD8B16EF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FD41-E8FB-4A03-840E-32B1B674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E85C-1BB9-45CB-AB70-6D5904A3A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580F2-A987-499D-BCCE-20F45F041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8887-8AC0-4701-8BD5-A13F55154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9A977-B9DE-4863-A03C-1058E58F4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A3DC2-B007-420A-B52C-F9D28B353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8EDE-EF79-439B-A638-AFA635EB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B93EB-622D-43C3-B9BD-1979A5D4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B4221-135A-4A60-A8B6-39136BFDD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FF04-8B9D-4A9F-BD31-029935D1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4210-1819-4556-969D-E7BA7027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1806-EF66-43EA-9784-B2FCF890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1B1F0-D5BE-4025-AAA1-1B2E0BDF6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DCA0-C8B1-4BC6-8860-2332E112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02DB-3C1F-4D1E-ABE7-E4F1FC275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389D1-FF16-409B-ADBC-DA8E9BE1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B0D1-3CD5-49FD-ABA0-595756BCF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58E5-AEE6-41DD-A7CB-506519225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1D5-6F32-4D47-8CF1-8D0F10C77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D827-BB1D-416B-B7C6-295EF1D29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6EC6-17C9-4D42-A10E-7035AFEC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3EAF-F8DA-4716-8676-16FEC894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A333-FDDA-4AE8-89AD-C3FD26F3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5278A-7B25-4D5D-B365-54DBFD8E03E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45029-D8C7-4898-9A72-ADDE225BBC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545A2-72F9-400A-B4B4-6173D0FEE46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5610A-A4C4-4125-AF6A-CA1A12E9E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顶部logo"/>
          <p:cNvGrpSpPr/>
          <p:nvPr/>
        </p:nvGrpSpPr>
        <p:grpSpPr>
          <a:xfrm>
            <a:off x="0" y="181080"/>
            <a:ext cx="9144000" cy="637920"/>
            <a:chOff x="0" y="181080"/>
            <a:chExt cx="9144000" cy="637920"/>
          </a:xfrm>
        </p:grpSpPr>
        <p:sp>
          <p:nvSpPr>
            <p:cNvPr id="83" name="矩形 98"/>
            <p:cNvSpPr/>
            <p:nvPr/>
          </p:nvSpPr>
          <p:spPr>
            <a:xfrm>
              <a:off x="0" y="711360"/>
              <a:ext cx="9144000" cy="107640"/>
            </a:xfrm>
            <a:prstGeom prst="rect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99"/>
            <p:cNvSpPr/>
            <p:nvPr/>
          </p:nvSpPr>
          <p:spPr>
            <a:xfrm>
              <a:off x="6640200" y="29916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方正粗倩简体"/>
                  <a:ea typeface="方正粗倩简体"/>
                </a:rPr>
                <a:t>二项包含、扩散关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3" descr="I:\盘古老人.png"/>
            <p:cNvPicPr/>
            <p:nvPr/>
          </p:nvPicPr>
          <p:blipFill>
            <a:blip r:embed="rId1"/>
            <a:stretch/>
          </p:blipFill>
          <p:spPr>
            <a:xfrm>
              <a:off x="1247040" y="320040"/>
              <a:ext cx="804600" cy="206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4" descr="I:\盘古老人印.png"/>
            <p:cNvPicPr/>
            <p:nvPr/>
          </p:nvPicPr>
          <p:blipFill>
            <a:blip r:embed="rId2"/>
            <a:stretch/>
          </p:blipFill>
          <p:spPr>
            <a:xfrm>
              <a:off x="830880" y="181080"/>
              <a:ext cx="360000" cy="42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7" name="椭圆 79"/>
          <p:cNvSpPr/>
          <p:nvPr/>
        </p:nvSpPr>
        <p:spPr>
          <a:xfrm>
            <a:off x="3114720" y="4567320"/>
            <a:ext cx="3502080" cy="7063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新月形 80"/>
          <p:cNvSpPr/>
          <p:nvPr/>
        </p:nvSpPr>
        <p:spPr>
          <a:xfrm>
            <a:off x="2687760" y="3075120"/>
            <a:ext cx="1368360" cy="20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新月形 81"/>
          <p:cNvSpPr/>
          <p:nvPr/>
        </p:nvSpPr>
        <p:spPr>
          <a:xfrm flipH="1">
            <a:off x="5279400" y="3102120"/>
            <a:ext cx="1368360" cy="20174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新月形 6"/>
          <p:cNvSpPr/>
          <p:nvPr/>
        </p:nvSpPr>
        <p:spPr>
          <a:xfrm rot="429000">
            <a:off x="2689200" y="3612960"/>
            <a:ext cx="787320" cy="9396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76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6"/>
          <p:cNvSpPr/>
          <p:nvPr/>
        </p:nvSpPr>
        <p:spPr>
          <a:xfrm>
            <a:off x="3457440" y="4616280"/>
            <a:ext cx="165240" cy="6750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96"/>
          <p:cNvGrpSpPr/>
          <p:nvPr/>
        </p:nvGrpSpPr>
        <p:grpSpPr>
          <a:xfrm>
            <a:off x="3435480" y="2349360"/>
            <a:ext cx="2452680" cy="2443320"/>
            <a:chOff x="3435480" y="2349360"/>
            <a:chExt cx="2452680" cy="2443320"/>
          </a:xfrm>
        </p:grpSpPr>
        <p:sp>
          <p:nvSpPr>
            <p:cNvPr id="93" name="椭圆 97"/>
            <p:cNvSpPr/>
            <p:nvPr/>
          </p:nvSpPr>
          <p:spPr>
            <a:xfrm>
              <a:off x="3455640" y="2349360"/>
              <a:ext cx="2432520" cy="2433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椭圆 102"/>
            <p:cNvSpPr/>
            <p:nvPr/>
          </p:nvSpPr>
          <p:spPr>
            <a:xfrm>
              <a:off x="3435480" y="2358720"/>
              <a:ext cx="2432520" cy="24339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椭圆 103"/>
            <p:cNvSpPr/>
            <p:nvPr/>
          </p:nvSpPr>
          <p:spPr>
            <a:xfrm>
              <a:off x="4165200" y="2437920"/>
              <a:ext cx="1013400" cy="5025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TextBox 11"/>
          <p:cNvSpPr/>
          <p:nvPr/>
        </p:nvSpPr>
        <p:spPr>
          <a:xfrm flipH="1">
            <a:off x="3623400" y="3089160"/>
            <a:ext cx="204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标题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1"/>
          <p:cNvSpPr/>
          <p:nvPr/>
        </p:nvSpPr>
        <p:spPr>
          <a:xfrm flipH="1">
            <a:off x="4021920" y="345924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1"/>
          <p:cNvSpPr/>
          <p:nvPr/>
        </p:nvSpPr>
        <p:spPr>
          <a:xfrm flipH="1">
            <a:off x="4021920" y="3735360"/>
            <a:ext cx="125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09"/>
          <p:cNvSpPr/>
          <p:nvPr/>
        </p:nvSpPr>
        <p:spPr>
          <a:xfrm>
            <a:off x="6311880" y="387036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10"/>
          <p:cNvSpPr/>
          <p:nvPr/>
        </p:nvSpPr>
        <p:spPr>
          <a:xfrm>
            <a:off x="1371600" y="4370400"/>
            <a:ext cx="2000160" cy="0"/>
          </a:xfrm>
          <a:prstGeom prst="line">
            <a:avLst/>
          </a:prstGeom>
          <a:ln w="9360">
            <a:solidFill>
              <a:srgbClr val="262626"/>
            </a:solidFill>
            <a:prstDash val="sysDash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1"/>
          <p:cNvSpPr/>
          <p:nvPr/>
        </p:nvSpPr>
        <p:spPr>
          <a:xfrm flipH="1">
            <a:off x="1252440" y="4370400"/>
            <a:ext cx="114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1"/>
          <p:cNvSpPr/>
          <p:nvPr/>
        </p:nvSpPr>
        <p:spPr>
          <a:xfrm flipH="1">
            <a:off x="1247760" y="40068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1"/>
          <p:cNvSpPr/>
          <p:nvPr/>
        </p:nvSpPr>
        <p:spPr>
          <a:xfrm flipH="1">
            <a:off x="7030440" y="3873600"/>
            <a:ext cx="114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1"/>
          <p:cNvSpPr/>
          <p:nvPr/>
        </p:nvSpPr>
        <p:spPr>
          <a:xfrm flipH="1">
            <a:off x="6778080" y="35114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32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