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F89-17FD-4912-BB23-FF710D38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1A2-941D-4445-A0F0-DADDDB55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635-AC3E-4C88-AB4E-01072B15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B6C-C090-4F24-83C9-A1D06547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5A8-C1A3-438A-AB10-3AA41AC2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69B-815D-470C-A1E3-12372E47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BD3-78DF-4DEB-8B22-A1E80D83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E18-2273-4185-AA1C-951D117A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C6B-16B8-485E-B769-8A17BCEF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861-876D-4B19-8FA4-11403D40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5DE-3BED-4FF2-8B47-DAC899FB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302-B7DB-489B-9880-2871E229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CA95-9C8C-4DDC-AFFA-CD6BA9A37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2" name="标题 3" descr=""/>
          <p:cNvPicPr/>
          <p:nvPr/>
        </p:nvPicPr>
        <p:blipFill>
          <a:blip r:embed="rId2"/>
          <a:stretch/>
        </p:blipFill>
        <p:spPr>
          <a:xfrm>
            <a:off x="633240" y="1944720"/>
            <a:ext cx="8175960" cy="20113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600200" y="74304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方正舒体"/>
              </a:rPr>
              <a:t>回顾与展望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  <p:sp>
        <p:nvSpPr>
          <p:cNvPr id="44" name=""/>
          <p:cNvSpPr/>
          <p:nvPr/>
        </p:nvSpPr>
        <p:spPr>
          <a:xfrm>
            <a:off x="7086600" y="4629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5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5483520"/>
          </a:xfrm>
          <a:prstGeom prst="rect">
            <a:avLst/>
          </a:prstGeom>
          <a:ln w="0">
            <a:noFill/>
          </a:ln>
        </p:spPr>
      </p:pic>
      <p:sp>
        <p:nvSpPr>
          <p:cNvPr id="70" name="标题 1"/>
          <p:cNvSpPr/>
          <p:nvPr/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迷你简习字"/>
                <a:ea typeface="迷你简习字"/>
              </a:rPr>
              <a:t>优秀团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"/>
          <p:cNvSpPr/>
          <p:nvPr/>
        </p:nvSpPr>
        <p:spPr>
          <a:xfrm>
            <a:off x="1046160" y="1486080"/>
            <a:ext cx="72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邓书田  廖文卓   谢思妍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洪佳仪  陈思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图片5"/>
          <p:cNvPicPr/>
          <p:nvPr/>
        </p:nvPicPr>
        <p:blipFill>
          <a:blip r:embed="rId1"/>
          <a:stretch/>
        </p:blipFill>
        <p:spPr>
          <a:xfrm>
            <a:off x="-6480" y="0"/>
            <a:ext cx="9141120" cy="5145120"/>
          </a:xfrm>
          <a:prstGeom prst="rect">
            <a:avLst/>
          </a:prstGeom>
          <a:ln w="0">
            <a:noFill/>
          </a:ln>
        </p:spPr>
      </p:pic>
      <p:sp>
        <p:nvSpPr>
          <p:cNvPr id="73" name="标题 1"/>
          <p:cNvSpPr/>
          <p:nvPr/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迷你简习字"/>
                <a:ea typeface="迷你简习字"/>
              </a:rPr>
              <a:t>进步学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81120"/>
            <a:ext cx="8229600" cy="30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方正流行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陈   彪   李宇轩   陈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方正流行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宋   怡   谢诗妍   魏    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方正流行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杨姝玥   陈楚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6" name="WordArt 3" descr=""/>
          <p:cNvPicPr/>
          <p:nvPr/>
        </p:nvPicPr>
        <p:blipFill>
          <a:blip r:embed="rId2"/>
          <a:stretch/>
        </p:blipFill>
        <p:spPr>
          <a:xfrm>
            <a:off x="2560680" y="1146240"/>
            <a:ext cx="4913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8" name="WordArt 3" descr=""/>
          <p:cNvPicPr/>
          <p:nvPr/>
        </p:nvPicPr>
        <p:blipFill>
          <a:blip r:embed="rId2"/>
          <a:stretch/>
        </p:blipFill>
        <p:spPr>
          <a:xfrm>
            <a:off x="1841400" y="463680"/>
            <a:ext cx="5589720" cy="1407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我的相片\班委启动\DSC00330.JPG"/>
          <p:cNvPicPr/>
          <p:nvPr/>
        </p:nvPicPr>
        <p:blipFill>
          <a:blip r:embed="rId3"/>
          <a:stretch/>
        </p:blipFill>
        <p:spPr>
          <a:xfrm>
            <a:off x="689040" y="2114640"/>
            <a:ext cx="3213000" cy="2414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J:\DCIM\104MSDCF\DSC01037.JPG"/>
          <p:cNvPicPr/>
          <p:nvPr/>
        </p:nvPicPr>
        <p:blipFill>
          <a:blip r:embed="rId4"/>
          <a:stretch/>
        </p:blipFill>
        <p:spPr>
          <a:xfrm>
            <a:off x="5486400" y="1712880"/>
            <a:ext cx="32241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82" name="WordArt 9" descr=""/>
          <p:cNvPicPr/>
          <p:nvPr/>
        </p:nvPicPr>
        <p:blipFill>
          <a:blip r:embed="rId2"/>
          <a:stretch/>
        </p:blipFill>
        <p:spPr>
          <a:xfrm>
            <a:off x="530280" y="1609560"/>
            <a:ext cx="1201680" cy="323712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10" descr=""/>
          <p:cNvPicPr/>
          <p:nvPr/>
        </p:nvPicPr>
        <p:blipFill>
          <a:blip r:embed="rId3"/>
          <a:stretch/>
        </p:blipFill>
        <p:spPr>
          <a:xfrm>
            <a:off x="1901880" y="66600"/>
            <a:ext cx="11224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"/>
          <p:cNvSpPr/>
          <p:nvPr/>
        </p:nvSpPr>
        <p:spPr>
          <a:xfrm>
            <a:off x="312840" y="301680"/>
            <a:ext cx="86868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ts val="4000"/>
              </a:lnSpc>
              <a:buClr>
                <a:srgbClr val="7030a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班级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我们要争创“文明班级”，“一三九示范班级” ，“文化班级”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ts val="4000"/>
              </a:lnSpc>
              <a:buClr>
                <a:srgbClr val="7030a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小组</a:t>
            </a:r>
            <a:r>
              <a:rPr b="1" lang="en-US" sz="4000" spc="-1" strike="noStrike">
                <a:solidFill>
                  <a:srgbClr val="7030a0"/>
                </a:solidFill>
                <a:latin typeface="黑体"/>
                <a:ea typeface="黑体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我们要争创“优秀小组”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ts val="4000"/>
              </a:lnSpc>
              <a:buClr>
                <a:srgbClr val="7030a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个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我要争做 “优秀学生”，“进步之星”，“学习之星”，“文明之星”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47052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矩形 4" descr=""/>
          <p:cNvPicPr/>
          <p:nvPr/>
        </p:nvPicPr>
        <p:blipFill>
          <a:blip r:embed="rId1"/>
          <a:stretch/>
        </p:blipFill>
        <p:spPr>
          <a:xfrm>
            <a:off x="2766960" y="-33480"/>
            <a:ext cx="3749760" cy="13924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133200" y="1000080"/>
            <a:ext cx="8961480" cy="3857760"/>
            <a:chOff x="133200" y="1000080"/>
            <a:chExt cx="8961480" cy="3857760"/>
          </a:xfrm>
        </p:grpSpPr>
        <p:pic>
          <p:nvPicPr>
            <p:cNvPr id="88" name="矩形 5" descr=""/>
            <p:cNvPicPr/>
            <p:nvPr/>
          </p:nvPicPr>
          <p:blipFill>
            <a:blip r:embed="rId2"/>
            <a:stretch/>
          </p:blipFill>
          <p:spPr>
            <a:xfrm>
              <a:off x="133200" y="1000080"/>
              <a:ext cx="896148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80880" y="1123920"/>
              <a:ext cx="82296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方正苏新诗柳楷简体"/>
                  <a:ea typeface="方正苏新诗柳楷简体"/>
                </a:rPr>
                <a:t>“</a:t>
              </a:r>
              <a:r>
                <a:rPr b="1" lang="zh-CN" sz="3600" spc="-1" strike="noStrike">
                  <a:solidFill>
                    <a:srgbClr val="ff0000"/>
                  </a:solidFill>
                  <a:latin typeface="方正苏新诗柳楷简体"/>
                  <a:ea typeface="方正苏新诗柳楷简体"/>
                </a:rPr>
                <a:t>拼”是我们的信念，“博”是我们的决心，“竞”是我们的格言，“争”是我们的箴语。面对挑战，我们毫不畏惧；面对困难，我们勇往直前；面对挫折，我们绝不低头；面对失败，我们永不言弃；面对自己，我们不断超越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图片6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515952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3" descr=""/>
          <p:cNvPicPr/>
          <p:nvPr/>
        </p:nvPicPr>
        <p:blipFill>
          <a:blip r:embed="rId2"/>
          <a:stretch/>
        </p:blipFill>
        <p:spPr>
          <a:xfrm>
            <a:off x="3067200" y="1347840"/>
            <a:ext cx="5101920" cy="1272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21920" y="455292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E7F-69F8-4339-8DA3-F0AB1CB979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3" descr=""/>
          <p:cNvPicPr/>
          <p:nvPr/>
        </p:nvPicPr>
        <p:blipFill>
          <a:blip r:embed="rId2"/>
          <a:stretch/>
        </p:blipFill>
        <p:spPr>
          <a:xfrm>
            <a:off x="549360" y="1438200"/>
            <a:ext cx="7034040" cy="3414960"/>
          </a:xfrm>
          <a:prstGeom prst="rect">
            <a:avLst/>
          </a:prstGeom>
          <a:ln w="0">
            <a:noFill/>
          </a:ln>
        </p:spPr>
      </p:pic>
      <p:pic>
        <p:nvPicPr>
          <p:cNvPr id="47" name="矩形 4" descr=""/>
          <p:cNvPicPr/>
          <p:nvPr/>
        </p:nvPicPr>
        <p:blipFill>
          <a:blip r:embed="rId3"/>
          <a:stretch/>
        </p:blipFill>
        <p:spPr>
          <a:xfrm>
            <a:off x="2084400" y="165240"/>
            <a:ext cx="3700440" cy="15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990720" y="1542960"/>
            <a:ext cx="685800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鲜花与掌声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迷你简习字"/>
                <a:ea typeface="迷你简习字"/>
              </a:rPr>
              <a:t>硕果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609480" y="1452600"/>
            <a:ext cx="853452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军训汇操第一名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手语操比赛三等奖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连续四个月荣获文明班级称号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荣获</a:t>
            </a:r>
            <a:r>
              <a:rPr b="0" lang="en-US" sz="4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139</a:t>
            </a:r>
            <a:r>
              <a:rPr b="0" lang="zh-CN" sz="4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管理示范班级称号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寝室文化建设比赛的二、三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ordArt 3" descr=""/>
          <p:cNvPicPr/>
          <p:nvPr/>
        </p:nvPicPr>
        <p:blipFill>
          <a:blip r:embed="rId2"/>
          <a:stretch/>
        </p:blipFill>
        <p:spPr>
          <a:xfrm>
            <a:off x="2255760" y="743040"/>
            <a:ext cx="46324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5" name="WordArt 3" descr=""/>
          <p:cNvPicPr/>
          <p:nvPr/>
        </p:nvPicPr>
        <p:blipFill>
          <a:blip r:embed="rId2"/>
          <a:stretch/>
        </p:blipFill>
        <p:spPr>
          <a:xfrm>
            <a:off x="1341360" y="1596960"/>
            <a:ext cx="6461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迷你简习字"/>
                <a:ea typeface="迷你简习字"/>
              </a:rPr>
              <a:t>优秀班干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360" y="1275840"/>
            <a:ext cx="7086600" cy="2914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4898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洪佳仪  陈思羽  李书琪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898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谢思妍   鲁精湛   陈浩南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898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宋怡      燕朝      孟子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898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余张思远     鲁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60" name="标题 1"/>
          <p:cNvSpPr/>
          <p:nvPr/>
        </p:nvSpPr>
        <p:spPr>
          <a:xfrm>
            <a:off x="228600" y="13320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迷你简习字"/>
                <a:ea typeface="迷你简习字"/>
              </a:rPr>
              <a:t>优秀包点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990720" y="1438200"/>
            <a:ext cx="7162560" cy="26326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ts val="4997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胡哲聚  倪旭阳    张穗子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ts val="4997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李  想     邓文轩      曾  维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ts val="4997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程诗博  魏  彤  熊俊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ts val="4997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杨姝玥   董俊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47052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4" name="标题 1"/>
          <p:cNvSpPr/>
          <p:nvPr/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迷你简习字"/>
                <a:ea typeface="迷你简习字"/>
              </a:rPr>
              <a:t>优秀小组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1575720" y="1860480"/>
            <a:ext cx="589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李    赛    鲁精湛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邓书田    宋    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7" name="标题 1"/>
          <p:cNvSpPr/>
          <p:nvPr/>
        </p:nvSpPr>
        <p:spPr>
          <a:xfrm>
            <a:off x="457200" y="572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迷你简习字"/>
                <a:ea typeface="迷你简习字"/>
              </a:rPr>
              <a:t>八好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533520" y="971640"/>
            <a:ext cx="8076960" cy="3141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邓书田   李    想   曾少康   宋     怡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邓文轩   李    昂   鲁精湛   陈思羽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蒋    禹   赵程靓   熊俊伟   谢思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廖文卓   曾    维   陈浩南   陈楚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李书琪   陈浩然   程诗涵   程诗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2:21:05Z</dcterms:created>
  <dc:creator>Administrator</dc:creator>
  <dc:description/>
  <dc:language>en-US</dc:language>
  <cp:lastModifiedBy>hyongb</cp:lastModifiedBy>
  <dcterms:modified xsi:type="dcterms:W3CDTF">2015-06-12T15:00:59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Version">
    <vt:r8>1</vt:r8>
  </property>
</Properties>
</file>