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5E6-B388-435F-B8B2-F90F5158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C9A-5365-40FB-9D7C-771CF5B5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C79-16D6-4E47-9048-B41E6080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D8E-C95C-4799-BAA8-824848B9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11FC-7652-400E-8727-BF37B992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4B4-BF45-4DC5-9B22-3B096153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5E57-4A90-465B-BDEE-744D9227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EBD3-4C53-4762-9DB5-FDF829E2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2064-BE8F-48C5-B535-FA4779ED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D01-1877-4210-9C99-57F71618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1167-34CA-49AB-B2AC-5CD7439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A8C-78CF-4177-9F2B-A9EBC45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7EC5-BD74-4EAA-85E6-BC77049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36BC-3854-42C1-B0D5-9A6ADA0E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B09F-C292-408D-9C4E-1EFE87E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009E-80E0-4811-B1CB-70B43F7F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633D-347E-4167-8E4D-DB2EF737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2BF-C8D4-4C08-BE1C-7537D30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0FC-B5BE-49FA-A3AB-0035CEF3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F31-7362-423D-AB3B-D0F84E32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B06-42AD-44E5-872B-489A3F5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C26-8165-42E3-B3AD-B44B9A8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756-D378-40D3-AF49-4DB6AED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CBA-0D08-4731-B843-E6F8B20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39E0-EA12-4ED0-876B-D73B8F95E9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C758-53F1-4663-9FF4-4B09CCA57C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9B5-40F7-47EF-B5B1-B35DC66721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B8E-7CB0-45B6-A9B2-4A8717EC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​​ 8"/>
          <p:cNvSpPr/>
          <p:nvPr/>
        </p:nvSpPr>
        <p:spPr>
          <a:xfrm>
            <a:off x="900000" y="4005360"/>
            <a:ext cx="1079640" cy="35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​​ 9"/>
          <p:cNvSpPr/>
          <p:nvPr/>
        </p:nvSpPr>
        <p:spPr>
          <a:xfrm>
            <a:off x="7236000" y="4017960"/>
            <a:ext cx="1081080" cy="35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​​ 10"/>
          <p:cNvSpPr/>
          <p:nvPr/>
        </p:nvSpPr>
        <p:spPr>
          <a:xfrm>
            <a:off x="3924360" y="4373640"/>
            <a:ext cx="1511280" cy="49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5"/>
          <p:cNvSpPr/>
          <p:nvPr/>
        </p:nvSpPr>
        <p:spPr>
          <a:xfrm>
            <a:off x="1187280" y="2962440"/>
            <a:ext cx="7021800" cy="71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​​ 2"/>
          <p:cNvSpPr/>
          <p:nvPr/>
        </p:nvSpPr>
        <p:spPr>
          <a:xfrm>
            <a:off x="684360" y="256536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​​ 3"/>
          <p:cNvSpPr/>
          <p:nvPr/>
        </p:nvSpPr>
        <p:spPr>
          <a:xfrm>
            <a:off x="3726000" y="2575080"/>
            <a:ext cx="1944720" cy="19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​​ 4"/>
          <p:cNvSpPr/>
          <p:nvPr/>
        </p:nvSpPr>
        <p:spPr>
          <a:xfrm>
            <a:off x="7020000" y="2565360"/>
            <a:ext cx="151272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6"/>
          <p:cNvSpPr/>
          <p:nvPr/>
        </p:nvSpPr>
        <p:spPr>
          <a:xfrm>
            <a:off x="2808360" y="3070080"/>
            <a:ext cx="431640" cy="543240"/>
          </a:xfrm>
          <a:custGeom>
            <a:avLst/>
            <a:gdLst>
              <a:gd name="textAreaLeft" fmla="*/ 0 w 431640"/>
              <a:gd name="textAreaRight" fmla="*/ 432000 w 43164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7"/>
          <p:cNvSpPr/>
          <p:nvPr/>
        </p:nvSpPr>
        <p:spPr>
          <a:xfrm rot="10800000">
            <a:off x="5975280" y="3069720"/>
            <a:ext cx="433440" cy="543240"/>
          </a:xfrm>
          <a:custGeom>
            <a:avLst/>
            <a:gdLst>
              <a:gd name="textAreaLeft" fmla="*/ 0 w 433440"/>
              <a:gd name="textAreaRight" fmla="*/ 433800 w 43344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​​ 11"/>
          <p:cNvSpPr/>
          <p:nvPr/>
        </p:nvSpPr>
        <p:spPr>
          <a:xfrm>
            <a:off x="937080" y="3117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​​ 12"/>
          <p:cNvSpPr/>
          <p:nvPr/>
        </p:nvSpPr>
        <p:spPr>
          <a:xfrm>
            <a:off x="4170240" y="3352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​​ 13"/>
          <p:cNvSpPr/>
          <p:nvPr/>
        </p:nvSpPr>
        <p:spPr>
          <a:xfrm>
            <a:off x="7302960" y="313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​​ 14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033440" y="58975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新月形 19"/>
          <p:cNvSpPr/>
          <p:nvPr/>
        </p:nvSpPr>
        <p:spPr>
          <a:xfrm rot="3811200">
            <a:off x="4079160" y="2137680"/>
            <a:ext cx="71568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9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新月形 20"/>
          <p:cNvSpPr/>
          <p:nvPr/>
        </p:nvSpPr>
        <p:spPr>
          <a:xfrm rot="3501600">
            <a:off x="4023360" y="2196000"/>
            <a:ext cx="71568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新月形 21"/>
          <p:cNvSpPr/>
          <p:nvPr/>
        </p:nvSpPr>
        <p:spPr>
          <a:xfrm rot="3811200">
            <a:off x="939240" y="2228760"/>
            <a:ext cx="61920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新月形 23"/>
          <p:cNvSpPr/>
          <p:nvPr/>
        </p:nvSpPr>
        <p:spPr>
          <a:xfrm rot="3811200">
            <a:off x="7274880" y="2243160"/>
            <a:ext cx="61884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5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