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92F-CF13-432C-92B7-DAE8C1A8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5AD-EB38-46D6-9776-8AE7DB9E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393-F346-4C62-A1D1-59D0879B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BA06-135E-4D47-B4FB-21A00065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933-BCA9-4539-A1C3-30D29564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D33-E2B5-44B1-86DB-CD11192D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385-2720-4B0E-82AF-978F601F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F1F-55B5-4A9C-867D-3B74E54F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D0E-E78E-4A0B-918D-23955802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41F-CE63-4E17-B74E-3EC077DF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38D-5DB0-45E6-9006-F2897D16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005-0683-449E-921B-597C28EE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4E0F-E6CA-4717-9164-59AC1986C4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CF58-8701-4605-A39B-003CD3FAE8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apidppt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组合 3" descr=""/>
          <p:cNvPicPr/>
          <p:nvPr/>
        </p:nvPicPr>
        <p:blipFill>
          <a:blip r:embed="rId1"/>
          <a:stretch/>
        </p:blipFill>
        <p:spPr>
          <a:xfrm>
            <a:off x="2951280" y="2212920"/>
            <a:ext cx="3095640" cy="5973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11"/>
          <p:cNvSpPr/>
          <p:nvPr/>
        </p:nvSpPr>
        <p:spPr>
          <a:xfrm flipH="1">
            <a:off x="1001160" y="263700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18"/>
          <p:cNvSpPr/>
          <p:nvPr/>
        </p:nvSpPr>
        <p:spPr>
          <a:xfrm>
            <a:off x="1100160" y="3062160"/>
            <a:ext cx="19987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1"/>
          <p:cNvSpPr/>
          <p:nvPr/>
        </p:nvSpPr>
        <p:spPr>
          <a:xfrm flipH="1">
            <a:off x="1001160" y="366408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20"/>
          <p:cNvSpPr/>
          <p:nvPr/>
        </p:nvSpPr>
        <p:spPr>
          <a:xfrm>
            <a:off x="1100160" y="4089240"/>
            <a:ext cx="19987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1"/>
          <p:cNvSpPr/>
          <p:nvPr/>
        </p:nvSpPr>
        <p:spPr>
          <a:xfrm flipH="1">
            <a:off x="1001160" y="476568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22"/>
          <p:cNvSpPr/>
          <p:nvPr/>
        </p:nvSpPr>
        <p:spPr>
          <a:xfrm>
            <a:off x="1100160" y="5191200"/>
            <a:ext cx="341460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 flipH="1">
            <a:off x="7170840" y="263700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24"/>
          <p:cNvSpPr/>
          <p:nvPr/>
        </p:nvSpPr>
        <p:spPr>
          <a:xfrm>
            <a:off x="5819760" y="3062160"/>
            <a:ext cx="2349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 flipH="1">
            <a:off x="7170840" y="43718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26"/>
          <p:cNvSpPr/>
          <p:nvPr/>
        </p:nvSpPr>
        <p:spPr>
          <a:xfrm>
            <a:off x="5460840" y="4797360"/>
            <a:ext cx="270828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 flipH="1">
            <a:off x="7170840" y="39736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49600" y="4761000"/>
            <a:ext cx="5553000" cy="1590480"/>
            <a:chOff x="1749600" y="4761000"/>
            <a:chExt cx="5553000" cy="1590480"/>
          </a:xfrm>
        </p:grpSpPr>
        <p:pic>
          <p:nvPicPr>
            <p:cNvPr id="54" name="椭圆 10" descr=""/>
            <p:cNvPicPr/>
            <p:nvPr/>
          </p:nvPicPr>
          <p:blipFill>
            <a:blip r:embed="rId2"/>
            <a:stretch/>
          </p:blipFill>
          <p:spPr>
            <a:xfrm>
              <a:off x="1749600" y="4761000"/>
              <a:ext cx="55530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640240" y="5071680"/>
              <a:ext cx="36925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29"/>
          <p:cNvSpPr/>
          <p:nvPr/>
        </p:nvSpPr>
        <p:spPr>
          <a:xfrm>
            <a:off x="5922720" y="26028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靶型分割并列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0">
            <a:hlinkClick r:id="rId3"/>
          </p:cNvPr>
          <p:cNvSpPr/>
          <p:nvPr/>
        </p:nvSpPr>
        <p:spPr>
          <a:xfrm>
            <a:off x="2124000" y="645336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73B-F3AD-4648-9112-37CB41F6C6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1:05:4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