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90A-110B-4FC0-9A2C-C4AA2497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2A4-0104-43B2-9B41-1D1F2BB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695-0E5D-4CBB-9C81-970C2EB7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A06-DEAE-451D-85C4-445C9865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FB31-5EB9-434C-A2A0-581B6500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47A7-B18E-40DC-8E6F-A6613C8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1C38-F312-4956-8FD8-B80F8642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7F6-B81E-4D2D-9058-D71B36E6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487-2DDD-4168-94C4-EBA0463F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C021-37AF-4D5A-A620-5AFF1C3B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4DCD-35CE-4617-8A16-7EF85755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07B-05D7-49E1-97E2-CC2E72E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73F4-C32E-4077-A5BE-F90A8369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13C-85DE-4EC3-8D26-E912FF0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5D0F-D47E-4A43-BC05-DDF92568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0533-5E71-490A-9695-C9A7F55D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0552-02B4-44BB-91E9-430CA5B8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1DF-81C0-4041-B468-A5BDB0D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915-3934-42A5-9DDB-732B251F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663-899E-4C6C-AB5F-C68156DE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D78-3149-4FDF-8A76-6C2FFCD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57D-4114-41F6-8CC7-9CD858A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B1C-EABE-410D-A1B8-D699787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4E6-0E5C-457E-90F4-9F73177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CD5-FF25-460F-A035-BDA4C014D6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CC57-DEA9-452D-97F1-FAA717F30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CE9-2466-4C1C-A095-7B721BFF66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AB00-A395-478C-AE69-86770C136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6"/>
          <p:cNvSpPr/>
          <p:nvPr/>
        </p:nvSpPr>
        <p:spPr>
          <a:xfrm>
            <a:off x="1312920" y="198900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到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，产品远销美洲、澳大利亚及中东地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248480" y="76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产品远销海内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8"/>
          <p:cNvGrpSpPr/>
          <p:nvPr/>
        </p:nvGrpSpPr>
        <p:grpSpPr>
          <a:xfrm>
            <a:off x="1351080" y="2832120"/>
            <a:ext cx="6636960" cy="3439800"/>
            <a:chOff x="1351080" y="2832120"/>
            <a:chExt cx="6636960" cy="3439800"/>
          </a:xfrm>
        </p:grpSpPr>
        <p:sp>
          <p:nvSpPr>
            <p:cNvPr id="85" name="Freeform 59"/>
            <p:cNvSpPr/>
            <p:nvPr/>
          </p:nvSpPr>
          <p:spPr>
            <a:xfrm>
              <a:off x="4072680" y="4789800"/>
              <a:ext cx="63000" cy="1220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60"/>
            <p:cNvGrpSpPr/>
            <p:nvPr/>
          </p:nvGrpSpPr>
          <p:grpSpPr>
            <a:xfrm>
              <a:off x="1351080" y="2832120"/>
              <a:ext cx="6636960" cy="3439800"/>
              <a:chOff x="1351080" y="2832120"/>
              <a:chExt cx="6636960" cy="3439800"/>
            </a:xfrm>
          </p:grpSpPr>
          <p:sp>
            <p:nvSpPr>
              <p:cNvPr id="87" name="Freeform 61"/>
              <p:cNvSpPr/>
              <p:nvPr/>
            </p:nvSpPr>
            <p:spPr>
              <a:xfrm>
                <a:off x="1351080" y="4233240"/>
                <a:ext cx="1347120" cy="14536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62"/>
              <p:cNvSpPr/>
              <p:nvPr/>
            </p:nvSpPr>
            <p:spPr>
              <a:xfrm>
                <a:off x="5387760" y="2914200"/>
                <a:ext cx="2600280" cy="33577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3"/>
              <p:cNvSpPr/>
              <p:nvPr/>
            </p:nvSpPr>
            <p:spPr>
              <a:xfrm>
                <a:off x="3892320" y="4992120"/>
                <a:ext cx="767880" cy="9079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64"/>
              <p:cNvSpPr/>
              <p:nvPr/>
            </p:nvSpPr>
            <p:spPr>
              <a:xfrm>
                <a:off x="1593000" y="3639600"/>
                <a:ext cx="214920" cy="3218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65"/>
              <p:cNvSpPr/>
              <p:nvPr/>
            </p:nvSpPr>
            <p:spPr>
              <a:xfrm>
                <a:off x="2825640" y="2860200"/>
                <a:ext cx="176400" cy="3682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66"/>
              <p:cNvSpPr/>
              <p:nvPr/>
            </p:nvSpPr>
            <p:spPr>
              <a:xfrm>
                <a:off x="3503520" y="4872240"/>
                <a:ext cx="246960" cy="2098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67"/>
              <p:cNvSpPr/>
              <p:nvPr/>
            </p:nvSpPr>
            <p:spPr>
              <a:xfrm>
                <a:off x="3767400" y="4780800"/>
                <a:ext cx="333360" cy="3823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8"/>
              <p:cNvSpPr/>
              <p:nvPr/>
            </p:nvSpPr>
            <p:spPr>
              <a:xfrm>
                <a:off x="4019760" y="4592520"/>
                <a:ext cx="72000" cy="13500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9"/>
              <p:cNvSpPr/>
              <p:nvPr/>
            </p:nvSpPr>
            <p:spPr>
              <a:xfrm>
                <a:off x="4453920" y="3813480"/>
                <a:ext cx="57600" cy="2264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0"/>
              <p:cNvSpPr/>
              <p:nvPr/>
            </p:nvSpPr>
            <p:spPr>
              <a:xfrm>
                <a:off x="4206600" y="4051800"/>
                <a:ext cx="318240" cy="36072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>
                <a:off x="4724280" y="5578200"/>
                <a:ext cx="212400" cy="3398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72"/>
              <p:cNvGrpSpPr/>
              <p:nvPr/>
            </p:nvGrpSpPr>
            <p:grpSpPr>
              <a:xfrm>
                <a:off x="1573920" y="2832120"/>
                <a:ext cx="3762360" cy="2096640"/>
                <a:chOff x="1573920" y="2832120"/>
                <a:chExt cx="3762360" cy="2096640"/>
              </a:xfrm>
            </p:grpSpPr>
            <p:sp>
              <p:nvSpPr>
                <p:cNvPr id="99" name="Freeform 73"/>
                <p:cNvSpPr/>
                <p:nvPr/>
              </p:nvSpPr>
              <p:spPr>
                <a:xfrm>
                  <a:off x="1573920" y="2832120"/>
                  <a:ext cx="3762360" cy="209664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74"/>
                <p:cNvSpPr/>
                <p:nvPr/>
              </p:nvSpPr>
              <p:spPr>
                <a:xfrm>
                  <a:off x="4104360" y="4120920"/>
                  <a:ext cx="135720" cy="263160"/>
                </a:xfrm>
                <a:prstGeom prst="pi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Freeform 75"/>
              <p:cNvSpPr/>
              <p:nvPr/>
            </p:nvSpPr>
            <p:spPr>
              <a:xfrm>
                <a:off x="2492280" y="5199480"/>
                <a:ext cx="137520" cy="27540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Freeform 76"/>
            <p:cNvSpPr/>
            <p:nvPr/>
          </p:nvSpPr>
          <p:spPr>
            <a:xfrm>
              <a:off x="6543360" y="2967120"/>
              <a:ext cx="119520" cy="1623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79"/>
          <p:cNvSpPr/>
          <p:nvPr/>
        </p:nvSpPr>
        <p:spPr>
          <a:xfrm>
            <a:off x="5340240" y="3279600"/>
            <a:ext cx="2190960" cy="229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80"/>
          <p:cNvSpPr/>
          <p:nvPr/>
        </p:nvSpPr>
        <p:spPr>
          <a:xfrm>
            <a:off x="5353200" y="3182760"/>
            <a:ext cx="2412720" cy="312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82"/>
          <p:cNvSpPr/>
          <p:nvPr/>
        </p:nvSpPr>
        <p:spPr>
          <a:xfrm flipV="1" rot="10601400">
            <a:off x="4035600" y="3364560"/>
            <a:ext cx="2311200" cy="67284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83"/>
          <p:cNvSpPr/>
          <p:nvPr/>
        </p:nvSpPr>
        <p:spPr>
          <a:xfrm flipV="1" rot="12027600">
            <a:off x="3980880" y="3762000"/>
            <a:ext cx="3622680" cy="132408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86"/>
          <p:cNvSpPr/>
          <p:nvPr/>
        </p:nvSpPr>
        <p:spPr>
          <a:xfrm flipH="1" flipV="1" rot="9222000">
            <a:off x="1800000" y="3794400"/>
            <a:ext cx="2286000" cy="89676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89"/>
          <p:cNvSpPr/>
          <p:nvPr/>
        </p:nvSpPr>
        <p:spPr>
          <a:xfrm flipH="1" flipV="1" rot="3938400">
            <a:off x="3543120" y="4097520"/>
            <a:ext cx="1434960" cy="877680"/>
          </a:xfrm>
          <a:prstGeom prst="pie">
            <a:avLst/>
          </a:prstGeom>
          <a:noFill/>
          <a:ln w="28440">
            <a:solidFill>
              <a:srgbClr val="93d502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2"/>
          <p:cNvSpPr/>
          <p:nvPr/>
        </p:nvSpPr>
        <p:spPr>
          <a:xfrm>
            <a:off x="3576240" y="591804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7"/>
          <p:cNvSpPr/>
          <p:nvPr/>
        </p:nvSpPr>
        <p:spPr>
          <a:xfrm>
            <a:off x="3782880" y="3657600"/>
            <a:ext cx="463680" cy="463680"/>
          </a:xfrm>
          <a:prstGeom prst="ellipse">
            <a:avLst/>
          </a:prstGeom>
          <a:solidFill>
            <a:srgbClr val="93d502">
              <a:alpha val="50000"/>
            </a:srgbClr>
          </a:solidFill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