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B9B-CA92-4FA2-ADB8-2A3ECE88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FFB-A213-4F55-BE3C-D8B7F776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C0A-B9C3-4EE7-895F-27033BA6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EA4-8463-4FDF-92D3-B87FA321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6B0-9BAD-446E-967B-9EF269C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CFA-6624-46EC-87A4-1E5E610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5D5-4D05-4E30-B112-5F47BFA3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AED-B7A1-4FE6-929B-19D4C97E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002-61FE-468F-981A-AAC7677D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35A-995F-40E2-A20B-C7AC21D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92B-D118-456F-842C-D67BC32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C22-96AE-4A6F-B98C-726C178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ACDD-8210-41E8-BC75-DB62D9DEEC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8F7-45D9-4C38-87B8-7B69C734E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68400"/>
            <a:ext cx="64008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40" y="65008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641520" y="2077920"/>
            <a:ext cx="1431720" cy="1967040"/>
          </a:xfrm>
          <a:prstGeom prst="downArrowCallout">
            <a:avLst>
              <a:gd name="adj1" fmla="val 49894"/>
              <a:gd name="adj2" fmla="val 24944"/>
              <a:gd name="adj3" fmla="val 15272"/>
              <a:gd name="adj4" fmla="val 88880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3992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3"/>
              <a:gd name="adj4" fmla="val 8888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844800" y="2077920"/>
            <a:ext cx="1432080" cy="1967040"/>
          </a:xfrm>
          <a:prstGeom prst="downArrowCallout">
            <a:avLst>
              <a:gd name="adj1" fmla="val 49894"/>
              <a:gd name="adj2" fmla="val 24944"/>
              <a:gd name="adj3" fmla="val 15274"/>
              <a:gd name="adj4" fmla="val 8888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544680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3"/>
              <a:gd name="adj4" fmla="val 88880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7051680" y="2077920"/>
            <a:ext cx="1433520" cy="1967040"/>
          </a:xfrm>
          <a:prstGeom prst="downArrowCallout">
            <a:avLst>
              <a:gd name="adj1" fmla="val 49894"/>
              <a:gd name="adj2" fmla="val 24944"/>
              <a:gd name="adj3" fmla="val 15259"/>
              <a:gd name="adj4" fmla="val 8888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774720" y="5533920"/>
            <a:ext cx="113328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77328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81432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239868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239724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243828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3997440" y="5533920"/>
            <a:ext cx="113328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995640" y="4381560"/>
            <a:ext cx="112896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403704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559908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559764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63868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0"/>
          <p:cNvSpPr/>
          <p:nvPr/>
        </p:nvSpPr>
        <p:spPr>
          <a:xfrm>
            <a:off x="7183440" y="5533920"/>
            <a:ext cx="1133640" cy="33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1"/>
          <p:cNvSpPr/>
          <p:nvPr/>
        </p:nvSpPr>
        <p:spPr>
          <a:xfrm>
            <a:off x="7182000" y="4381560"/>
            <a:ext cx="1128600" cy="11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2"/>
          <p:cNvSpPr/>
          <p:nvPr/>
        </p:nvSpPr>
        <p:spPr>
          <a:xfrm>
            <a:off x="7223040" y="4411800"/>
            <a:ext cx="10447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9590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5"/>
          <p:cNvSpPr/>
          <p:nvPr/>
        </p:nvSpPr>
        <p:spPr>
          <a:xfrm>
            <a:off x="25880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6"/>
          <p:cNvSpPr/>
          <p:nvPr/>
        </p:nvSpPr>
        <p:spPr>
          <a:xfrm>
            <a:off x="419760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57884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8"/>
          <p:cNvSpPr/>
          <p:nvPr/>
        </p:nvSpPr>
        <p:spPr>
          <a:xfrm>
            <a:off x="738864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"/>
          <p:cNvSpPr/>
          <p:nvPr/>
        </p:nvSpPr>
        <p:spPr>
          <a:xfrm>
            <a:off x="3851280" y="1628640"/>
            <a:ext cx="42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欢迎合作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7EB-5C78-41D5-A09C-E0F7B93AD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1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