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7F8-8977-49F8-BE26-956FF799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9A6-2E5D-4F0F-B35B-3E4EA933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2F7-9F29-44BE-B109-4031392E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141-259D-40B7-B17D-3FBC9C87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161-E5AA-426B-816D-5C21EC87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343-2B4A-41D3-9448-82FB5C9D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FFC-2657-4B73-9487-721E0360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B127-49BA-4C4B-A60F-69A32218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067-7D66-4D56-BB06-783D428B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5BC-E8AC-4B0E-BB26-515FE1F1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A5FF-B83F-40B4-A5AE-D62E8C4B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DB4-66E8-4256-91B2-B26826E0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4447-A6E1-43DC-8D13-7DB09961D3D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2513-2401-4A67-9E70-B6CCEBA1A59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rcRect l="0" t="8494" r="0" b="0"/>
          <a:stretch/>
        </p:blipFill>
        <p:spPr>
          <a:xfrm>
            <a:off x="1042920" y="1641600"/>
            <a:ext cx="7056360" cy="3574800"/>
          </a:xfrm>
          <a:prstGeom prst="rect">
            <a:avLst/>
          </a:prstGeom>
          <a:ln w="0">
            <a:noFill/>
          </a:ln>
        </p:spPr>
      </p:pic>
      <p:sp>
        <p:nvSpPr>
          <p:cNvPr id="44" name="平行四边形 11"/>
          <p:cNvSpPr/>
          <p:nvPr/>
        </p:nvSpPr>
        <p:spPr>
          <a:xfrm>
            <a:off x="225360" y="1017720"/>
            <a:ext cx="1727280" cy="823680"/>
          </a:xfrm>
          <a:prstGeom prst="parallelogram">
            <a:avLst>
              <a:gd name="adj" fmla="val 25009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46" name="图片 13" descr=""/>
            <p:cNvPicPr/>
            <p:nvPr/>
          </p:nvPicPr>
          <p:blipFill>
            <a:blip r:embed="rId2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8560" y="6380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427" name="图片 13" descr=""/>
            <p:cNvPicPr/>
            <p:nvPr/>
          </p:nvPicPr>
          <p:blipFill>
            <a:blip r:embed="rId1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平行四边形 9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303640" y="2133720"/>
            <a:ext cx="4536720" cy="2590560"/>
            <a:chOff x="2303640" y="2133720"/>
            <a:chExt cx="4536720" cy="2590560"/>
          </a:xfrm>
        </p:grpSpPr>
        <p:sp>
          <p:nvSpPr>
            <p:cNvPr id="432" name="矩形 20"/>
            <p:cNvSpPr/>
            <p:nvPr/>
          </p:nvSpPr>
          <p:spPr>
            <a:xfrm>
              <a:off x="2303640" y="2133720"/>
              <a:ext cx="2088360" cy="115128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1151280"/>
                <a:gd name="textAreaBottom" fmla="*/ 1151640 h 1151280"/>
              </a:gdLst>
              <a:ahLst/>
              <a:rect l="textAreaLeft" t="textAreaTop" r="textAreaRight" b="textAreaBottom"/>
              <a:pathLst>
                <a:path w="2088232" h="1152128">
                  <a:moveTo>
                    <a:pt x="0" y="0"/>
                  </a:moveTo>
                  <a:lnTo>
                    <a:pt x="2088232" y="0"/>
                  </a:lnTo>
                  <a:lnTo>
                    <a:pt x="2088232" y="676577"/>
                  </a:lnTo>
                  <a:cubicBezTo>
                    <a:pt x="1862833" y="738779"/>
                    <a:pt x="1688537" y="922117"/>
                    <a:pt x="1637508" y="1152128"/>
                  </a:cubicBezTo>
                  <a:lnTo>
                    <a:pt x="0" y="1152128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矩形 21"/>
            <p:cNvSpPr/>
            <p:nvPr/>
          </p:nvSpPr>
          <p:spPr>
            <a:xfrm>
              <a:off x="4752000" y="3573000"/>
              <a:ext cx="2088360" cy="115128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1151280"/>
                <a:gd name="textAreaBottom" fmla="*/ 1151640 h 1151280"/>
              </a:gdLst>
              <a:ahLst/>
              <a:rect l="textAreaLeft" t="textAreaTop" r="textAreaRight" b="textAreaBottom"/>
              <a:pathLst>
                <a:path w="2088232" h="1152128">
                  <a:moveTo>
                    <a:pt x="450724" y="0"/>
                  </a:moveTo>
                  <a:lnTo>
                    <a:pt x="2088232" y="0"/>
                  </a:lnTo>
                  <a:lnTo>
                    <a:pt x="2088232" y="1152128"/>
                  </a:lnTo>
                  <a:lnTo>
                    <a:pt x="0" y="1152128"/>
                  </a:lnTo>
                  <a:lnTo>
                    <a:pt x="0" y="475552"/>
                  </a:lnTo>
                  <a:cubicBezTo>
                    <a:pt x="225399" y="413349"/>
                    <a:pt x="399695" y="230011"/>
                    <a:pt x="450724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22"/>
            <p:cNvSpPr/>
            <p:nvPr/>
          </p:nvSpPr>
          <p:spPr>
            <a:xfrm>
              <a:off x="4752000" y="2133720"/>
              <a:ext cx="2088360" cy="115128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1151280"/>
                <a:gd name="textAreaBottom" fmla="*/ 1151640 h 1151280"/>
              </a:gdLst>
              <a:ahLst/>
              <a:rect l="textAreaLeft" t="textAreaTop" r="textAreaRight" b="textAreaBottom"/>
              <a:pathLst>
                <a:path w="2088232" h="1152128">
                  <a:moveTo>
                    <a:pt x="0" y="0"/>
                  </a:moveTo>
                  <a:lnTo>
                    <a:pt x="2088232" y="0"/>
                  </a:lnTo>
                  <a:lnTo>
                    <a:pt x="2088232" y="1152128"/>
                  </a:lnTo>
                  <a:lnTo>
                    <a:pt x="450724" y="1152128"/>
                  </a:lnTo>
                  <a:cubicBezTo>
                    <a:pt x="399695" y="922117"/>
                    <a:pt x="225399" y="738779"/>
                    <a:pt x="0" y="676577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矩形 23"/>
            <p:cNvSpPr/>
            <p:nvPr/>
          </p:nvSpPr>
          <p:spPr>
            <a:xfrm>
              <a:off x="2303640" y="3573000"/>
              <a:ext cx="2088360" cy="1151280"/>
            </a:xfrm>
            <a:custGeom>
              <a:avLst/>
              <a:gdLst>
                <a:gd name="textAreaLeft" fmla="*/ 0 w 2088360"/>
                <a:gd name="textAreaRight" fmla="*/ 2088720 w 2088360"/>
                <a:gd name="textAreaTop" fmla="*/ 0 h 1151280"/>
                <a:gd name="textAreaBottom" fmla="*/ 1151640 h 1151280"/>
              </a:gdLst>
              <a:ahLst/>
              <a:rect l="textAreaLeft" t="textAreaTop" r="textAreaRight" b="textAreaBottom"/>
              <a:pathLst>
                <a:path w="2088232" h="1152128">
                  <a:moveTo>
                    <a:pt x="0" y="0"/>
                  </a:moveTo>
                  <a:lnTo>
                    <a:pt x="1637508" y="0"/>
                  </a:lnTo>
                  <a:cubicBezTo>
                    <a:pt x="1688537" y="230011"/>
                    <a:pt x="1862833" y="413349"/>
                    <a:pt x="2088232" y="475552"/>
                  </a:cubicBezTo>
                  <a:lnTo>
                    <a:pt x="2088232" y="1152128"/>
                  </a:lnTo>
                  <a:lnTo>
                    <a:pt x="0" y="115212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流程图: 联系 18"/>
            <p:cNvSpPr/>
            <p:nvPr/>
          </p:nvSpPr>
          <p:spPr>
            <a:xfrm>
              <a:off x="4068000" y="2925360"/>
              <a:ext cx="1008000" cy="100728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266920" y="2176560"/>
            <a:ext cx="1540440" cy="1099440"/>
            <a:chOff x="2266920" y="2176560"/>
            <a:chExt cx="1540440" cy="1099440"/>
          </a:xfrm>
        </p:grpSpPr>
        <p:sp>
          <p:nvSpPr>
            <p:cNvPr id="438" name="TextBox 20"/>
            <p:cNvSpPr/>
            <p:nvPr/>
          </p:nvSpPr>
          <p:spPr>
            <a:xfrm>
              <a:off x="2266920" y="2176560"/>
              <a:ext cx="10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Broadway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28"/>
            <p:cNvSpPr/>
            <p:nvPr/>
          </p:nvSpPr>
          <p:spPr>
            <a:xfrm>
              <a:off x="3017160" y="258660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关于我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219640" y="2176560"/>
            <a:ext cx="1540440" cy="1099440"/>
            <a:chOff x="5219640" y="2176560"/>
            <a:chExt cx="1540440" cy="1099440"/>
          </a:xfrm>
        </p:grpSpPr>
        <p:sp>
          <p:nvSpPr>
            <p:cNvPr id="441" name="TextBox 23"/>
            <p:cNvSpPr/>
            <p:nvPr/>
          </p:nvSpPr>
          <p:spPr>
            <a:xfrm>
              <a:off x="5219640" y="2176560"/>
              <a:ext cx="10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Broadway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矩形 28"/>
            <p:cNvSpPr/>
            <p:nvPr/>
          </p:nvSpPr>
          <p:spPr>
            <a:xfrm>
              <a:off x="5969880" y="258660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远星荣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266920" y="3616200"/>
            <a:ext cx="1540440" cy="1099440"/>
            <a:chOff x="2266920" y="3616200"/>
            <a:chExt cx="1540440" cy="1099440"/>
          </a:xfrm>
        </p:grpSpPr>
        <p:sp>
          <p:nvSpPr>
            <p:cNvPr id="444" name="TextBox 26"/>
            <p:cNvSpPr/>
            <p:nvPr/>
          </p:nvSpPr>
          <p:spPr>
            <a:xfrm>
              <a:off x="2266920" y="3616200"/>
              <a:ext cx="10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Broadway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矩形 28"/>
            <p:cNvSpPr/>
            <p:nvPr/>
          </p:nvSpPr>
          <p:spPr>
            <a:xfrm>
              <a:off x="3017160" y="40262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远星团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219640" y="3616200"/>
            <a:ext cx="1540440" cy="1099440"/>
            <a:chOff x="5219640" y="3616200"/>
            <a:chExt cx="1540440" cy="1099440"/>
          </a:xfrm>
        </p:grpSpPr>
        <p:sp>
          <p:nvSpPr>
            <p:cNvPr id="447" name="TextBox 29"/>
            <p:cNvSpPr/>
            <p:nvPr/>
          </p:nvSpPr>
          <p:spPr>
            <a:xfrm>
              <a:off x="5219640" y="3616200"/>
              <a:ext cx="10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Broadway"/>
                </a:rPr>
                <a:t>4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矩形 28"/>
            <p:cNvSpPr/>
            <p:nvPr/>
          </p:nvSpPr>
          <p:spPr>
            <a:xfrm>
              <a:off x="5969880" y="40262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远星资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452" name="图片 13" descr=""/>
            <p:cNvPicPr/>
            <p:nvPr/>
          </p:nvPicPr>
          <p:blipFill>
            <a:blip r:embed="rId1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平行四边形 9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042920" y="2155680"/>
            <a:ext cx="7016760" cy="2546640"/>
            <a:chOff x="1042920" y="2155680"/>
            <a:chExt cx="7016760" cy="2546640"/>
          </a:xfrm>
        </p:grpSpPr>
        <p:grpSp>
          <p:nvGrpSpPr>
            <p:cNvPr id="457" name=""/>
            <p:cNvGrpSpPr/>
            <p:nvPr/>
          </p:nvGrpSpPr>
          <p:grpSpPr>
            <a:xfrm>
              <a:off x="1195200" y="2155680"/>
              <a:ext cx="1559880" cy="2546640"/>
              <a:chOff x="1195200" y="2155680"/>
              <a:chExt cx="1559880" cy="2546640"/>
            </a:xfrm>
          </p:grpSpPr>
          <p:sp>
            <p:nvSpPr>
              <p:cNvPr id="458" name="梯形 36"/>
              <p:cNvSpPr/>
              <p:nvPr/>
            </p:nvSpPr>
            <p:spPr>
              <a:xfrm rot="5400000">
                <a:off x="833040" y="2780640"/>
                <a:ext cx="2516400" cy="1326960"/>
              </a:xfrm>
              <a:custGeom>
                <a:avLst/>
                <a:gdLst>
                  <a:gd name="textAreaLeft" fmla="*/ 443520 w 2516400"/>
                  <a:gd name="textAreaRight" fmla="*/ 2072880 w 2516400"/>
                  <a:gd name="textAreaTop" fmla="*/ 233640 h 1326960"/>
                  <a:gd name="textAreaBottom" fmla="*/ 1093320 h 132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896" y="21600"/>
                    </a:lnTo>
                    <a:lnTo>
                      <a:pt x="3704" y="21600"/>
                    </a:lnTo>
                    <a:close/>
                  </a:path>
                </a:pathLst>
              </a:custGeom>
              <a:solidFill>
                <a:srgbClr val="7f7f7f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梯形 37"/>
              <p:cNvSpPr/>
              <p:nvPr/>
            </p:nvSpPr>
            <p:spPr>
              <a:xfrm rot="5400000">
                <a:off x="742680" y="2607840"/>
                <a:ext cx="2251440" cy="1347120"/>
              </a:xfrm>
              <a:custGeom>
                <a:avLst/>
                <a:gdLst>
                  <a:gd name="textAreaLeft" fmla="*/ 420480 w 2251440"/>
                  <a:gd name="textAreaRight" fmla="*/ 1830960 w 2251440"/>
                  <a:gd name="textAreaTop" fmla="*/ 251640 h 1347120"/>
                  <a:gd name="textAreaBottom" fmla="*/ 1095480 h 134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489" y="21600"/>
                    </a:lnTo>
                    <a:lnTo>
                      <a:pt x="4111" y="21600"/>
                    </a:ln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marL="285840" indent="-285840" algn="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2963520" y="2155680"/>
              <a:ext cx="1559880" cy="2546640"/>
              <a:chOff x="2963520" y="2155680"/>
              <a:chExt cx="1559880" cy="2546640"/>
            </a:xfrm>
          </p:grpSpPr>
          <p:sp>
            <p:nvSpPr>
              <p:cNvPr id="461" name="梯形 34"/>
              <p:cNvSpPr/>
              <p:nvPr/>
            </p:nvSpPr>
            <p:spPr>
              <a:xfrm rot="5400000">
                <a:off x="2601360" y="2780640"/>
                <a:ext cx="2516400" cy="1326960"/>
              </a:xfrm>
              <a:custGeom>
                <a:avLst/>
                <a:gdLst>
                  <a:gd name="textAreaLeft" fmla="*/ 443520 w 2516400"/>
                  <a:gd name="textAreaRight" fmla="*/ 2072880 w 2516400"/>
                  <a:gd name="textAreaTop" fmla="*/ 233640 h 1326960"/>
                  <a:gd name="textAreaBottom" fmla="*/ 1093320 h 132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896" y="21600"/>
                    </a:lnTo>
                    <a:lnTo>
                      <a:pt x="3704" y="21600"/>
                    </a:lnTo>
                    <a:close/>
                  </a:path>
                </a:pathLst>
              </a:custGeom>
              <a:solidFill>
                <a:srgbClr val="7f7f7f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梯形 35"/>
              <p:cNvSpPr/>
              <p:nvPr/>
            </p:nvSpPr>
            <p:spPr>
              <a:xfrm rot="5400000">
                <a:off x="2511000" y="2607840"/>
                <a:ext cx="2251440" cy="1347120"/>
              </a:xfrm>
              <a:custGeom>
                <a:avLst/>
                <a:gdLst>
                  <a:gd name="textAreaLeft" fmla="*/ 420480 w 2251440"/>
                  <a:gd name="textAreaRight" fmla="*/ 1830960 w 2251440"/>
                  <a:gd name="textAreaTop" fmla="*/ 251640 h 1347120"/>
                  <a:gd name="textAreaBottom" fmla="*/ 1095480 h 134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489" y="21600"/>
                    </a:lnTo>
                    <a:lnTo>
                      <a:pt x="4111" y="21600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marL="285840" indent="-285840" algn="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6499800" y="2155680"/>
              <a:ext cx="1559880" cy="2546640"/>
              <a:chOff x="6499800" y="2155680"/>
              <a:chExt cx="1559880" cy="2546640"/>
            </a:xfrm>
          </p:grpSpPr>
          <p:sp>
            <p:nvSpPr>
              <p:cNvPr id="464" name="梯形 32"/>
              <p:cNvSpPr/>
              <p:nvPr/>
            </p:nvSpPr>
            <p:spPr>
              <a:xfrm rot="5400000">
                <a:off x="6138000" y="2780640"/>
                <a:ext cx="2516400" cy="1326960"/>
              </a:xfrm>
              <a:custGeom>
                <a:avLst/>
                <a:gdLst>
                  <a:gd name="textAreaLeft" fmla="*/ 443520 w 2516400"/>
                  <a:gd name="textAreaRight" fmla="*/ 2072880 w 2516400"/>
                  <a:gd name="textAreaTop" fmla="*/ 233640 h 1326960"/>
                  <a:gd name="textAreaBottom" fmla="*/ 1093320 h 132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896" y="21600"/>
                    </a:lnTo>
                    <a:lnTo>
                      <a:pt x="3704" y="21600"/>
                    </a:lnTo>
                    <a:close/>
                  </a:path>
                </a:pathLst>
              </a:custGeom>
              <a:solidFill>
                <a:srgbClr val="7f7f7f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梯形 33"/>
              <p:cNvSpPr/>
              <p:nvPr/>
            </p:nvSpPr>
            <p:spPr>
              <a:xfrm rot="5400000">
                <a:off x="6047640" y="2607840"/>
                <a:ext cx="2251440" cy="1347120"/>
              </a:xfrm>
              <a:custGeom>
                <a:avLst/>
                <a:gdLst>
                  <a:gd name="textAreaLeft" fmla="*/ 420480 w 2251440"/>
                  <a:gd name="textAreaRight" fmla="*/ 1830960 w 2251440"/>
                  <a:gd name="textAreaTop" fmla="*/ 251640 h 1347120"/>
                  <a:gd name="textAreaBottom" fmla="*/ 1095480 h 134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489" y="21600"/>
                    </a:lnTo>
                    <a:lnTo>
                      <a:pt x="4111" y="21600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marL="285840" indent="-285840" algn="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4731480" y="2155680"/>
              <a:ext cx="1559880" cy="2546640"/>
              <a:chOff x="4731480" y="2155680"/>
              <a:chExt cx="1559880" cy="2546640"/>
            </a:xfrm>
          </p:grpSpPr>
          <p:sp>
            <p:nvSpPr>
              <p:cNvPr id="467" name="梯形 30"/>
              <p:cNvSpPr/>
              <p:nvPr/>
            </p:nvSpPr>
            <p:spPr>
              <a:xfrm rot="5400000">
                <a:off x="4369680" y="2780640"/>
                <a:ext cx="2516400" cy="1326960"/>
              </a:xfrm>
              <a:custGeom>
                <a:avLst/>
                <a:gdLst>
                  <a:gd name="textAreaLeft" fmla="*/ 443520 w 2516400"/>
                  <a:gd name="textAreaRight" fmla="*/ 2072880 w 2516400"/>
                  <a:gd name="textAreaTop" fmla="*/ 233640 h 1326960"/>
                  <a:gd name="textAreaBottom" fmla="*/ 1093320 h 132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896" y="21600"/>
                    </a:lnTo>
                    <a:lnTo>
                      <a:pt x="3704" y="21600"/>
                    </a:lnTo>
                    <a:close/>
                  </a:path>
                </a:pathLst>
              </a:custGeom>
              <a:solidFill>
                <a:srgbClr val="7f7f7f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梯形 31"/>
              <p:cNvSpPr/>
              <p:nvPr/>
            </p:nvSpPr>
            <p:spPr>
              <a:xfrm rot="5400000">
                <a:off x="4279320" y="2607840"/>
                <a:ext cx="2251440" cy="1347120"/>
              </a:xfrm>
              <a:custGeom>
                <a:avLst/>
                <a:gdLst>
                  <a:gd name="textAreaLeft" fmla="*/ 420480 w 2251440"/>
                  <a:gd name="textAreaRight" fmla="*/ 1830960 w 2251440"/>
                  <a:gd name="textAreaTop" fmla="*/ 251640 h 1347120"/>
                  <a:gd name="textAreaBottom" fmla="*/ 1095480 h 134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489" y="21600"/>
                    </a:lnTo>
                    <a:lnTo>
                      <a:pt x="4111" y="21600"/>
                    </a:lnTo>
                    <a:close/>
                  </a:path>
                </a:pathLst>
              </a:custGeom>
              <a:solidFill>
                <a:srgbClr val="595959"/>
              </a:solidFill>
              <a:ln w="2556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marL="285840" indent="-285840" algn="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1042920" y="2763360"/>
              <a:ext cx="1386720" cy="1099440"/>
              <a:chOff x="1042920" y="2763360"/>
              <a:chExt cx="1386720" cy="1099440"/>
            </a:xfrm>
          </p:grpSpPr>
          <p:sp>
            <p:nvSpPr>
              <p:cNvPr id="470" name="TextBox 28"/>
              <p:cNvSpPr/>
              <p:nvPr/>
            </p:nvSpPr>
            <p:spPr>
              <a:xfrm>
                <a:off x="1042920" y="2763360"/>
                <a:ext cx="9360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1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矩形 28"/>
              <p:cNvSpPr/>
              <p:nvPr/>
            </p:nvSpPr>
            <p:spPr>
              <a:xfrm>
                <a:off x="1700280" y="317340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关于我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2842920" y="2763360"/>
              <a:ext cx="1422000" cy="1099440"/>
              <a:chOff x="2842920" y="2763360"/>
              <a:chExt cx="1422000" cy="1099440"/>
            </a:xfrm>
          </p:grpSpPr>
          <p:sp>
            <p:nvSpPr>
              <p:cNvPr id="473" name="TextBox 26"/>
              <p:cNvSpPr/>
              <p:nvPr/>
            </p:nvSpPr>
            <p:spPr>
              <a:xfrm>
                <a:off x="2842920" y="2763360"/>
                <a:ext cx="9360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2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矩形 27"/>
              <p:cNvSpPr/>
              <p:nvPr/>
            </p:nvSpPr>
            <p:spPr>
              <a:xfrm>
                <a:off x="3535560" y="317340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荣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571280" y="2763360"/>
              <a:ext cx="1453320" cy="1099440"/>
              <a:chOff x="4571280" y="2763360"/>
              <a:chExt cx="1453320" cy="1099440"/>
            </a:xfrm>
          </p:grpSpPr>
          <p:sp>
            <p:nvSpPr>
              <p:cNvPr id="476" name="TextBox 24"/>
              <p:cNvSpPr/>
              <p:nvPr/>
            </p:nvSpPr>
            <p:spPr>
              <a:xfrm>
                <a:off x="4571280" y="2763360"/>
                <a:ext cx="9360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3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矩形 28"/>
              <p:cNvSpPr/>
              <p:nvPr/>
            </p:nvSpPr>
            <p:spPr>
              <a:xfrm>
                <a:off x="5295240" y="317340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团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6299640" y="2763360"/>
              <a:ext cx="1472400" cy="1099440"/>
              <a:chOff x="6299640" y="2763360"/>
              <a:chExt cx="1472400" cy="1099440"/>
            </a:xfrm>
          </p:grpSpPr>
          <p:sp>
            <p:nvSpPr>
              <p:cNvPr id="479" name="TextBox 22"/>
              <p:cNvSpPr/>
              <p:nvPr/>
            </p:nvSpPr>
            <p:spPr>
              <a:xfrm>
                <a:off x="6299640" y="2763360"/>
                <a:ext cx="9360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4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矩形 28"/>
              <p:cNvSpPr/>
              <p:nvPr/>
            </p:nvSpPr>
            <p:spPr>
              <a:xfrm>
                <a:off x="7042680" y="317340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资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"/>
          <p:cNvSpPr/>
          <p:nvPr/>
        </p:nvSpPr>
        <p:spPr>
          <a:xfrm>
            <a:off x="628560" y="6319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485" name="图片 13" descr=""/>
            <p:cNvPicPr/>
            <p:nvPr/>
          </p:nvPicPr>
          <p:blipFill>
            <a:blip r:embed="rId1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平行四边形 9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906640" y="1913040"/>
            <a:ext cx="2719440" cy="1099440"/>
            <a:chOff x="2906640" y="1913040"/>
            <a:chExt cx="2719440" cy="1099440"/>
          </a:xfrm>
        </p:grpSpPr>
        <p:sp>
          <p:nvSpPr>
            <p:cNvPr id="490" name="矩形 7"/>
            <p:cNvSpPr/>
            <p:nvPr/>
          </p:nvSpPr>
          <p:spPr>
            <a:xfrm>
              <a:off x="3032280" y="2129040"/>
              <a:ext cx="2593800" cy="648000"/>
            </a:xfrm>
            <a:custGeom>
              <a:avLst/>
              <a:gdLst>
                <a:gd name="textAreaLeft" fmla="*/ 0 w 2593800"/>
                <a:gd name="textAreaRight" fmla="*/ 2594160 w 259380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2592288" h="648072">
                  <a:moveTo>
                    <a:pt x="0" y="0"/>
                  </a:moveTo>
                  <a:lnTo>
                    <a:pt x="2592288" y="0"/>
                  </a:lnTo>
                  <a:lnTo>
                    <a:pt x="2592288" y="648072"/>
                  </a:lnTo>
                  <a:lnTo>
                    <a:pt x="2409801" y="648072"/>
                  </a:lnTo>
                  <a:lnTo>
                    <a:pt x="2409801" y="504056"/>
                  </a:lnTo>
                  <a:lnTo>
                    <a:pt x="2337793" y="504056"/>
                  </a:lnTo>
                  <a:lnTo>
                    <a:pt x="2337793" y="648072"/>
                  </a:lnTo>
                  <a:lnTo>
                    <a:pt x="2257401" y="648072"/>
                  </a:lnTo>
                  <a:lnTo>
                    <a:pt x="2257401" y="504056"/>
                  </a:lnTo>
                  <a:lnTo>
                    <a:pt x="2185393" y="504056"/>
                  </a:lnTo>
                  <a:lnTo>
                    <a:pt x="2185393" y="648072"/>
                  </a:lnTo>
                  <a:lnTo>
                    <a:pt x="2105001" y="648072"/>
                  </a:lnTo>
                  <a:lnTo>
                    <a:pt x="2105001" y="504056"/>
                  </a:lnTo>
                  <a:lnTo>
                    <a:pt x="2032993" y="504056"/>
                  </a:lnTo>
                  <a:lnTo>
                    <a:pt x="2032993" y="648072"/>
                  </a:lnTo>
                  <a:lnTo>
                    <a:pt x="1952601" y="648072"/>
                  </a:lnTo>
                  <a:lnTo>
                    <a:pt x="1952601" y="504056"/>
                  </a:lnTo>
                  <a:lnTo>
                    <a:pt x="1880593" y="504056"/>
                  </a:lnTo>
                  <a:lnTo>
                    <a:pt x="1880593" y="648072"/>
                  </a:lnTo>
                  <a:lnTo>
                    <a:pt x="1800201" y="648072"/>
                  </a:lnTo>
                  <a:lnTo>
                    <a:pt x="1800201" y="504056"/>
                  </a:lnTo>
                  <a:lnTo>
                    <a:pt x="1728193" y="504056"/>
                  </a:lnTo>
                  <a:lnTo>
                    <a:pt x="1728193" y="648072"/>
                  </a:lnTo>
                  <a:lnTo>
                    <a:pt x="0" y="648072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2906640" y="1913040"/>
              <a:ext cx="1540800" cy="1099440"/>
              <a:chOff x="2906640" y="1913040"/>
              <a:chExt cx="1540800" cy="1099440"/>
            </a:xfrm>
          </p:grpSpPr>
          <p:sp>
            <p:nvSpPr>
              <p:cNvPr id="492" name="TextBox 61"/>
              <p:cNvSpPr/>
              <p:nvPr/>
            </p:nvSpPr>
            <p:spPr>
              <a:xfrm>
                <a:off x="2906640" y="1913040"/>
                <a:ext cx="10807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1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矩形 28"/>
              <p:cNvSpPr/>
              <p:nvPr/>
            </p:nvSpPr>
            <p:spPr>
              <a:xfrm>
                <a:off x="3657240" y="232308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关于我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4" name=""/>
          <p:cNvGrpSpPr/>
          <p:nvPr/>
        </p:nvGrpSpPr>
        <p:grpSpPr>
          <a:xfrm>
            <a:off x="3002040" y="2763720"/>
            <a:ext cx="2636640" cy="1099440"/>
            <a:chOff x="3002040" y="2763720"/>
            <a:chExt cx="2636640" cy="1099440"/>
          </a:xfrm>
        </p:grpSpPr>
        <p:sp>
          <p:nvSpPr>
            <p:cNvPr id="495" name="矩形 7"/>
            <p:cNvSpPr/>
            <p:nvPr/>
          </p:nvSpPr>
          <p:spPr>
            <a:xfrm>
              <a:off x="3046680" y="2979720"/>
              <a:ext cx="2592000" cy="648000"/>
            </a:xfrm>
            <a:custGeom>
              <a:avLst/>
              <a:gdLst>
                <a:gd name="textAreaLeft" fmla="*/ 0 w 2592000"/>
                <a:gd name="textAreaRight" fmla="*/ 2592360 w 259200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2592288" h="648072">
                  <a:moveTo>
                    <a:pt x="0" y="0"/>
                  </a:moveTo>
                  <a:lnTo>
                    <a:pt x="2592288" y="0"/>
                  </a:lnTo>
                  <a:lnTo>
                    <a:pt x="2592288" y="648072"/>
                  </a:lnTo>
                  <a:lnTo>
                    <a:pt x="2409801" y="648072"/>
                  </a:lnTo>
                  <a:lnTo>
                    <a:pt x="2409801" y="504056"/>
                  </a:lnTo>
                  <a:lnTo>
                    <a:pt x="2337793" y="504056"/>
                  </a:lnTo>
                  <a:lnTo>
                    <a:pt x="2337793" y="648072"/>
                  </a:lnTo>
                  <a:lnTo>
                    <a:pt x="2257401" y="648072"/>
                  </a:lnTo>
                  <a:lnTo>
                    <a:pt x="2257401" y="504056"/>
                  </a:lnTo>
                  <a:lnTo>
                    <a:pt x="2185393" y="504056"/>
                  </a:lnTo>
                  <a:lnTo>
                    <a:pt x="2185393" y="648072"/>
                  </a:lnTo>
                  <a:lnTo>
                    <a:pt x="2105001" y="648072"/>
                  </a:lnTo>
                  <a:lnTo>
                    <a:pt x="2105001" y="504056"/>
                  </a:lnTo>
                  <a:lnTo>
                    <a:pt x="2032993" y="504056"/>
                  </a:lnTo>
                  <a:lnTo>
                    <a:pt x="2032993" y="648072"/>
                  </a:lnTo>
                  <a:lnTo>
                    <a:pt x="1952601" y="648072"/>
                  </a:lnTo>
                  <a:lnTo>
                    <a:pt x="1952601" y="504056"/>
                  </a:lnTo>
                  <a:lnTo>
                    <a:pt x="1880593" y="504056"/>
                  </a:lnTo>
                  <a:lnTo>
                    <a:pt x="1880593" y="648072"/>
                  </a:lnTo>
                  <a:lnTo>
                    <a:pt x="1800201" y="648072"/>
                  </a:lnTo>
                  <a:lnTo>
                    <a:pt x="1800201" y="504056"/>
                  </a:lnTo>
                  <a:lnTo>
                    <a:pt x="1728193" y="504056"/>
                  </a:lnTo>
                  <a:lnTo>
                    <a:pt x="1728193" y="648072"/>
                  </a:lnTo>
                  <a:lnTo>
                    <a:pt x="0" y="648072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3002040" y="2763720"/>
              <a:ext cx="1540080" cy="1099440"/>
              <a:chOff x="3002040" y="2763720"/>
              <a:chExt cx="1540080" cy="1099440"/>
            </a:xfrm>
          </p:grpSpPr>
          <p:sp>
            <p:nvSpPr>
              <p:cNvPr id="497" name="TextBox 66"/>
              <p:cNvSpPr/>
              <p:nvPr/>
            </p:nvSpPr>
            <p:spPr>
              <a:xfrm>
                <a:off x="3002040" y="2763720"/>
                <a:ext cx="10800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2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矩形 28"/>
              <p:cNvSpPr/>
              <p:nvPr/>
            </p:nvSpPr>
            <p:spPr>
              <a:xfrm>
                <a:off x="3751920" y="317376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荣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9" name=""/>
          <p:cNvGrpSpPr/>
          <p:nvPr/>
        </p:nvGrpSpPr>
        <p:grpSpPr>
          <a:xfrm>
            <a:off x="3002040" y="4481640"/>
            <a:ext cx="2649600" cy="1099440"/>
            <a:chOff x="3002040" y="4481640"/>
            <a:chExt cx="2649600" cy="1099440"/>
          </a:xfrm>
        </p:grpSpPr>
        <p:sp>
          <p:nvSpPr>
            <p:cNvPr id="500" name="矩形 7"/>
            <p:cNvSpPr/>
            <p:nvPr/>
          </p:nvSpPr>
          <p:spPr>
            <a:xfrm>
              <a:off x="3060360" y="4697640"/>
              <a:ext cx="2591280" cy="648000"/>
            </a:xfrm>
            <a:custGeom>
              <a:avLst/>
              <a:gdLst>
                <a:gd name="textAreaLeft" fmla="*/ 0 w 2591280"/>
                <a:gd name="textAreaRight" fmla="*/ 2591640 w 259128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2592288" h="648072">
                  <a:moveTo>
                    <a:pt x="0" y="0"/>
                  </a:moveTo>
                  <a:lnTo>
                    <a:pt x="2592288" y="0"/>
                  </a:lnTo>
                  <a:lnTo>
                    <a:pt x="2592288" y="648072"/>
                  </a:lnTo>
                  <a:lnTo>
                    <a:pt x="2409801" y="648072"/>
                  </a:lnTo>
                  <a:lnTo>
                    <a:pt x="2409801" y="504056"/>
                  </a:lnTo>
                  <a:lnTo>
                    <a:pt x="2337793" y="504056"/>
                  </a:lnTo>
                  <a:lnTo>
                    <a:pt x="2337793" y="648072"/>
                  </a:lnTo>
                  <a:lnTo>
                    <a:pt x="2257401" y="648072"/>
                  </a:lnTo>
                  <a:lnTo>
                    <a:pt x="2257401" y="504056"/>
                  </a:lnTo>
                  <a:lnTo>
                    <a:pt x="2185393" y="504056"/>
                  </a:lnTo>
                  <a:lnTo>
                    <a:pt x="2185393" y="648072"/>
                  </a:lnTo>
                  <a:lnTo>
                    <a:pt x="2105001" y="648072"/>
                  </a:lnTo>
                  <a:lnTo>
                    <a:pt x="2105001" y="504056"/>
                  </a:lnTo>
                  <a:lnTo>
                    <a:pt x="2032993" y="504056"/>
                  </a:lnTo>
                  <a:lnTo>
                    <a:pt x="2032993" y="648072"/>
                  </a:lnTo>
                  <a:lnTo>
                    <a:pt x="1952601" y="648072"/>
                  </a:lnTo>
                  <a:lnTo>
                    <a:pt x="1952601" y="504056"/>
                  </a:lnTo>
                  <a:lnTo>
                    <a:pt x="1880593" y="504056"/>
                  </a:lnTo>
                  <a:lnTo>
                    <a:pt x="1880593" y="648072"/>
                  </a:lnTo>
                  <a:lnTo>
                    <a:pt x="1800201" y="648072"/>
                  </a:lnTo>
                  <a:lnTo>
                    <a:pt x="1800201" y="504056"/>
                  </a:lnTo>
                  <a:lnTo>
                    <a:pt x="1728193" y="504056"/>
                  </a:lnTo>
                  <a:lnTo>
                    <a:pt x="1728193" y="648072"/>
                  </a:lnTo>
                  <a:lnTo>
                    <a:pt x="0" y="648072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3002040" y="4481640"/>
              <a:ext cx="1539720" cy="1099440"/>
              <a:chOff x="3002040" y="4481640"/>
              <a:chExt cx="1539720" cy="1099440"/>
            </a:xfrm>
          </p:grpSpPr>
          <p:sp>
            <p:nvSpPr>
              <p:cNvPr id="502" name="TextBox 71"/>
              <p:cNvSpPr/>
              <p:nvPr/>
            </p:nvSpPr>
            <p:spPr>
              <a:xfrm>
                <a:off x="3002040" y="4481640"/>
                <a:ext cx="10796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4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矩形 28"/>
              <p:cNvSpPr/>
              <p:nvPr/>
            </p:nvSpPr>
            <p:spPr>
              <a:xfrm>
                <a:off x="3751560" y="489168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资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3002040" y="3635280"/>
            <a:ext cx="2636640" cy="1099440"/>
            <a:chOff x="3002040" y="3635280"/>
            <a:chExt cx="2636640" cy="1099440"/>
          </a:xfrm>
        </p:grpSpPr>
        <p:sp>
          <p:nvSpPr>
            <p:cNvPr id="505" name="矩形 7"/>
            <p:cNvSpPr/>
            <p:nvPr/>
          </p:nvSpPr>
          <p:spPr>
            <a:xfrm>
              <a:off x="3046680" y="3851280"/>
              <a:ext cx="2592000" cy="648000"/>
            </a:xfrm>
            <a:custGeom>
              <a:avLst/>
              <a:gdLst>
                <a:gd name="textAreaLeft" fmla="*/ 0 w 2592000"/>
                <a:gd name="textAreaRight" fmla="*/ 2592360 w 259200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2592288" h="648072">
                  <a:moveTo>
                    <a:pt x="0" y="0"/>
                  </a:moveTo>
                  <a:lnTo>
                    <a:pt x="2592288" y="0"/>
                  </a:lnTo>
                  <a:lnTo>
                    <a:pt x="2592288" y="648072"/>
                  </a:lnTo>
                  <a:lnTo>
                    <a:pt x="2409801" y="648072"/>
                  </a:lnTo>
                  <a:lnTo>
                    <a:pt x="2409801" y="504056"/>
                  </a:lnTo>
                  <a:lnTo>
                    <a:pt x="2337793" y="504056"/>
                  </a:lnTo>
                  <a:lnTo>
                    <a:pt x="2337793" y="648072"/>
                  </a:lnTo>
                  <a:lnTo>
                    <a:pt x="2257401" y="648072"/>
                  </a:lnTo>
                  <a:lnTo>
                    <a:pt x="2257401" y="504056"/>
                  </a:lnTo>
                  <a:lnTo>
                    <a:pt x="2185393" y="504056"/>
                  </a:lnTo>
                  <a:lnTo>
                    <a:pt x="2185393" y="648072"/>
                  </a:lnTo>
                  <a:lnTo>
                    <a:pt x="2105001" y="648072"/>
                  </a:lnTo>
                  <a:lnTo>
                    <a:pt x="2105001" y="504056"/>
                  </a:lnTo>
                  <a:lnTo>
                    <a:pt x="2032993" y="504056"/>
                  </a:lnTo>
                  <a:lnTo>
                    <a:pt x="2032993" y="648072"/>
                  </a:lnTo>
                  <a:lnTo>
                    <a:pt x="1952601" y="648072"/>
                  </a:lnTo>
                  <a:lnTo>
                    <a:pt x="1952601" y="504056"/>
                  </a:lnTo>
                  <a:lnTo>
                    <a:pt x="1880593" y="504056"/>
                  </a:lnTo>
                  <a:lnTo>
                    <a:pt x="1880593" y="648072"/>
                  </a:lnTo>
                  <a:lnTo>
                    <a:pt x="1800201" y="648072"/>
                  </a:lnTo>
                  <a:lnTo>
                    <a:pt x="1800201" y="504056"/>
                  </a:lnTo>
                  <a:lnTo>
                    <a:pt x="1728193" y="504056"/>
                  </a:lnTo>
                  <a:lnTo>
                    <a:pt x="1728193" y="648072"/>
                  </a:lnTo>
                  <a:lnTo>
                    <a:pt x="0" y="648072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002040" y="3635280"/>
              <a:ext cx="1540080" cy="1099440"/>
              <a:chOff x="3002040" y="3635280"/>
              <a:chExt cx="1540080" cy="1099440"/>
            </a:xfrm>
          </p:grpSpPr>
          <p:sp>
            <p:nvSpPr>
              <p:cNvPr id="507" name="TextBox 76"/>
              <p:cNvSpPr/>
              <p:nvPr/>
            </p:nvSpPr>
            <p:spPr>
              <a:xfrm>
                <a:off x="3002040" y="3635280"/>
                <a:ext cx="10800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3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矩形 28"/>
              <p:cNvSpPr/>
              <p:nvPr/>
            </p:nvSpPr>
            <p:spPr>
              <a:xfrm>
                <a:off x="3751920" y="404532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团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074A-545E-4996-8256-F2FCFE56FF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3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072840" y="57600"/>
            <a:ext cx="2674800" cy="2556720"/>
            <a:chOff x="6072840" y="57600"/>
            <a:chExt cx="2674800" cy="2556720"/>
          </a:xfrm>
        </p:grpSpPr>
        <p:sp>
          <p:nvSpPr>
            <p:cNvPr id="53" name="矩形 28"/>
            <p:cNvSpPr/>
            <p:nvPr/>
          </p:nvSpPr>
          <p:spPr>
            <a:xfrm rot="1865400">
              <a:off x="6537240" y="404640"/>
              <a:ext cx="1863000" cy="1862280"/>
            </a:xfrm>
            <a:custGeom>
              <a:avLst/>
              <a:gdLst>
                <a:gd name="textAreaLeft" fmla="*/ 0 w 1863000"/>
                <a:gd name="textAreaRight" fmla="*/ 1863360 w 186300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1862246" h="1863119">
                  <a:moveTo>
                    <a:pt x="0" y="818104"/>
                  </a:moveTo>
                  <a:lnTo>
                    <a:pt x="1356377" y="0"/>
                  </a:lnTo>
                  <a:lnTo>
                    <a:pt x="1862246" y="838706"/>
                  </a:lnTo>
                  <a:lnTo>
                    <a:pt x="1862246" y="1863119"/>
                  </a:lnTo>
                  <a:lnTo>
                    <a:pt x="0" y="186311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10"/>
            <p:cNvSpPr/>
            <p:nvPr/>
          </p:nvSpPr>
          <p:spPr>
            <a:xfrm rot="1855800">
              <a:off x="6582240" y="1305720"/>
              <a:ext cx="191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方正兰亭中黑_GBK"/>
                  <a:ea typeface="方正兰亭中黑_GBK"/>
                </a:rPr>
                <a:t>四川远星橡胶有限责任公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1"/>
            <p:cNvSpPr/>
            <p:nvPr/>
          </p:nvSpPr>
          <p:spPr>
            <a:xfrm rot="1855800">
              <a:off x="6878160" y="179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关于我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Box 11"/>
            <p:cNvSpPr/>
            <p:nvPr/>
          </p:nvSpPr>
          <p:spPr>
            <a:xfrm rot="1855800">
              <a:off x="6308280" y="915120"/>
              <a:ext cx="66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c000"/>
                  </a:solidFill>
                  <a:latin typeface="Broadway"/>
                  <a:ea typeface="微软雅黑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841320" y="2673360"/>
            <a:ext cx="7391520" cy="1727280"/>
            <a:chOff x="841320" y="2673360"/>
            <a:chExt cx="7391520" cy="1727280"/>
          </a:xfrm>
        </p:grpSpPr>
        <p:pic>
          <p:nvPicPr>
            <p:cNvPr id="58" name="Picture 2" descr=""/>
            <p:cNvPicPr/>
            <p:nvPr/>
          </p:nvPicPr>
          <p:blipFill>
            <a:blip r:embed="rId1"/>
            <a:srcRect l="0" t="20994" r="45745" b="0"/>
            <a:stretch/>
          </p:blipFill>
          <p:spPr>
            <a:xfrm>
              <a:off x="841320" y="2691360"/>
              <a:ext cx="1786320" cy="17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3" descr=""/>
            <p:cNvPicPr/>
            <p:nvPr/>
          </p:nvPicPr>
          <p:blipFill>
            <a:blip r:embed="rId2"/>
            <a:stretch/>
          </p:blipFill>
          <p:spPr>
            <a:xfrm>
              <a:off x="4578480" y="2690640"/>
              <a:ext cx="1785960" cy="171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4" descr=""/>
            <p:cNvPicPr/>
            <p:nvPr/>
          </p:nvPicPr>
          <p:blipFill>
            <a:blip r:embed="rId3"/>
            <a:stretch/>
          </p:blipFill>
          <p:spPr>
            <a:xfrm>
              <a:off x="2709720" y="2691360"/>
              <a:ext cx="1786320" cy="17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5" descr=""/>
            <p:cNvPicPr/>
            <p:nvPr/>
          </p:nvPicPr>
          <p:blipFill>
            <a:blip r:embed="rId4"/>
            <a:stretch/>
          </p:blipFill>
          <p:spPr>
            <a:xfrm>
              <a:off x="6446520" y="2673360"/>
              <a:ext cx="1786320" cy="172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682200" y="4400640"/>
            <a:ext cx="8102880" cy="414360"/>
            <a:chOff x="682200" y="4400640"/>
            <a:chExt cx="8102880" cy="414360"/>
          </a:xfrm>
        </p:grpSpPr>
        <p:cxnSp>
          <p:nvCxnSpPr>
            <p:cNvPr id="63" name="直接箭头连接符 15"/>
            <p:cNvCxnSpPr/>
            <p:nvPr/>
          </p:nvCxnSpPr>
          <p:spPr>
            <a:xfrm>
              <a:off x="682200" y="4597920"/>
              <a:ext cx="8103240" cy="1080"/>
            </a:xfrm>
            <a:prstGeom prst="straightConnector1">
              <a:avLst/>
            </a:prstGeom>
            <a:ln w="25560">
              <a:solidFill>
                <a:srgbClr val="595959"/>
              </a:solidFill>
              <a:miter/>
              <a:tailEnd len="med" type="arrow" w="med"/>
            </a:ln>
          </p:spPr>
        </p:cxnSp>
        <p:sp>
          <p:nvSpPr>
            <p:cNvPr id="64" name="直接连接符 16"/>
            <p:cNvSpPr/>
            <p:nvPr/>
          </p:nvSpPr>
          <p:spPr>
            <a:xfrm>
              <a:off x="839880" y="4400640"/>
              <a:ext cx="0" cy="414360"/>
            </a:xfrm>
            <a:prstGeom prst="line">
              <a:avLst/>
            </a:prstGeom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17"/>
            <p:cNvSpPr/>
            <p:nvPr/>
          </p:nvSpPr>
          <p:spPr>
            <a:xfrm>
              <a:off x="4542840" y="4400640"/>
              <a:ext cx="0" cy="414360"/>
            </a:xfrm>
            <a:prstGeom prst="line">
              <a:avLst/>
            </a:prstGeom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18"/>
            <p:cNvSpPr/>
            <p:nvPr/>
          </p:nvSpPr>
          <p:spPr>
            <a:xfrm>
              <a:off x="6394320" y="4400640"/>
              <a:ext cx="0" cy="414360"/>
            </a:xfrm>
            <a:prstGeom prst="line">
              <a:avLst/>
            </a:prstGeom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19"/>
            <p:cNvSpPr/>
            <p:nvPr/>
          </p:nvSpPr>
          <p:spPr>
            <a:xfrm>
              <a:off x="8245800" y="4400640"/>
              <a:ext cx="0" cy="414360"/>
            </a:xfrm>
            <a:prstGeom prst="line">
              <a:avLst/>
            </a:prstGeom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20"/>
            <p:cNvSpPr/>
            <p:nvPr/>
          </p:nvSpPr>
          <p:spPr>
            <a:xfrm>
              <a:off x="2691360" y="4400640"/>
              <a:ext cx="0" cy="414360"/>
            </a:xfrm>
            <a:prstGeom prst="line">
              <a:avLst/>
            </a:prstGeom>
            <a:ln w="93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矩形 21"/>
          <p:cNvSpPr/>
          <p:nvPr/>
        </p:nvSpPr>
        <p:spPr>
          <a:xfrm>
            <a:off x="873000" y="4633920"/>
            <a:ext cx="1792440" cy="4935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2"/>
          <p:cNvSpPr/>
          <p:nvPr/>
        </p:nvSpPr>
        <p:spPr>
          <a:xfrm>
            <a:off x="2728800" y="4633920"/>
            <a:ext cx="1792440" cy="4935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3"/>
          <p:cNvSpPr/>
          <p:nvPr/>
        </p:nvSpPr>
        <p:spPr>
          <a:xfrm>
            <a:off x="6442200" y="4633920"/>
            <a:ext cx="1792080" cy="4935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4"/>
          <p:cNvSpPr/>
          <p:nvPr/>
        </p:nvSpPr>
        <p:spPr>
          <a:xfrm>
            <a:off x="4584600" y="4633920"/>
            <a:ext cx="1793880" cy="4935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755640" y="4449600"/>
            <a:ext cx="1620000" cy="916920"/>
            <a:chOff x="755640" y="4449600"/>
            <a:chExt cx="1620000" cy="916920"/>
          </a:xfrm>
        </p:grpSpPr>
        <p:sp>
          <p:nvSpPr>
            <p:cNvPr id="74" name="矩形 28"/>
            <p:cNvSpPr/>
            <p:nvPr/>
          </p:nvSpPr>
          <p:spPr>
            <a:xfrm>
              <a:off x="1463400" y="4605480"/>
              <a:ext cx="91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关于我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27"/>
            <p:cNvSpPr/>
            <p:nvPr/>
          </p:nvSpPr>
          <p:spPr>
            <a:xfrm>
              <a:off x="755640" y="4449600"/>
              <a:ext cx="10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Broadway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727360" y="4435560"/>
            <a:ext cx="1592640" cy="916920"/>
            <a:chOff x="2727360" y="4435560"/>
            <a:chExt cx="1592640" cy="916920"/>
          </a:xfrm>
        </p:grpSpPr>
        <p:sp>
          <p:nvSpPr>
            <p:cNvPr id="77" name="矩形 28"/>
            <p:cNvSpPr/>
            <p:nvPr/>
          </p:nvSpPr>
          <p:spPr>
            <a:xfrm>
              <a:off x="3407760" y="4591080"/>
              <a:ext cx="91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远星荣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30"/>
            <p:cNvSpPr/>
            <p:nvPr/>
          </p:nvSpPr>
          <p:spPr>
            <a:xfrm>
              <a:off x="2727360" y="4435560"/>
              <a:ext cx="108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Broadway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548240" y="4449600"/>
            <a:ext cx="1620000" cy="916920"/>
            <a:chOff x="4548240" y="4449600"/>
            <a:chExt cx="1620000" cy="916920"/>
          </a:xfrm>
        </p:grpSpPr>
        <p:sp>
          <p:nvSpPr>
            <p:cNvPr id="80" name="矩形 28"/>
            <p:cNvSpPr/>
            <p:nvPr/>
          </p:nvSpPr>
          <p:spPr>
            <a:xfrm>
              <a:off x="5256000" y="4605480"/>
              <a:ext cx="91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远星团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33"/>
            <p:cNvSpPr/>
            <p:nvPr/>
          </p:nvSpPr>
          <p:spPr>
            <a:xfrm>
              <a:off x="4548240" y="4449600"/>
              <a:ext cx="10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Broadway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442200" y="4400640"/>
            <a:ext cx="1620000" cy="916920"/>
            <a:chOff x="6442200" y="4400640"/>
            <a:chExt cx="1620000" cy="916920"/>
          </a:xfrm>
        </p:grpSpPr>
        <p:sp>
          <p:nvSpPr>
            <p:cNvPr id="83" name="矩形 28"/>
            <p:cNvSpPr/>
            <p:nvPr/>
          </p:nvSpPr>
          <p:spPr>
            <a:xfrm>
              <a:off x="7149960" y="4556520"/>
              <a:ext cx="91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远星资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36"/>
            <p:cNvSpPr/>
            <p:nvPr/>
          </p:nvSpPr>
          <p:spPr>
            <a:xfrm>
              <a:off x="6442200" y="4400640"/>
              <a:ext cx="10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Broadway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平行四边形 38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87" name="图片 40" descr=""/>
            <p:cNvPicPr/>
            <p:nvPr/>
          </p:nvPicPr>
          <p:blipFill>
            <a:blip r:embed="rId5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41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直接连接符 42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93" name="图片 13" descr=""/>
            <p:cNvPicPr/>
            <p:nvPr/>
          </p:nvPicPr>
          <p:blipFill>
            <a:blip r:embed="rId1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9"/>
          <p:cNvSpPr/>
          <p:nvPr/>
        </p:nvSpPr>
        <p:spPr>
          <a:xfrm>
            <a:off x="826920" y="1773360"/>
            <a:ext cx="7488360" cy="3600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59040" y="3863880"/>
            <a:ext cx="5424480" cy="1081080"/>
            <a:chOff x="1859040" y="3863880"/>
            <a:chExt cx="5424480" cy="1081080"/>
          </a:xfrm>
        </p:grpSpPr>
        <p:sp>
          <p:nvSpPr>
            <p:cNvPr id="98" name="矩形 16"/>
            <p:cNvSpPr/>
            <p:nvPr/>
          </p:nvSpPr>
          <p:spPr>
            <a:xfrm>
              <a:off x="1859040" y="3863880"/>
              <a:ext cx="5424480" cy="10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899000" y="3943080"/>
              <a:ext cx="806040" cy="938160"/>
              <a:chOff x="1899000" y="3943080"/>
              <a:chExt cx="806040" cy="938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899000" y="3943080"/>
                <a:ext cx="806040" cy="144720"/>
                <a:chOff x="1899000" y="3943080"/>
                <a:chExt cx="806040" cy="144720"/>
              </a:xfrm>
            </p:grpSpPr>
            <p:sp>
              <p:nvSpPr>
                <p:cNvPr id="101" name="矩形 107"/>
                <p:cNvSpPr/>
                <p:nvPr/>
              </p:nvSpPr>
              <p:spPr>
                <a:xfrm>
                  <a:off x="189900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矩形 108"/>
                <p:cNvSpPr/>
                <p:nvPr/>
              </p:nvSpPr>
              <p:spPr>
                <a:xfrm>
                  <a:off x="204840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矩形 109"/>
                <p:cNvSpPr/>
                <p:nvPr/>
              </p:nvSpPr>
              <p:spPr>
                <a:xfrm>
                  <a:off x="219780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矩形 110"/>
                <p:cNvSpPr/>
                <p:nvPr/>
              </p:nvSpPr>
              <p:spPr>
                <a:xfrm>
                  <a:off x="234720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矩形 111"/>
                <p:cNvSpPr/>
                <p:nvPr/>
              </p:nvSpPr>
              <p:spPr>
                <a:xfrm>
                  <a:off x="249660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矩形 112"/>
                <p:cNvSpPr/>
                <p:nvPr/>
              </p:nvSpPr>
              <p:spPr>
                <a:xfrm>
                  <a:off x="264636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1899000" y="4736520"/>
                <a:ext cx="806040" cy="144720"/>
                <a:chOff x="1899000" y="4736520"/>
                <a:chExt cx="806040" cy="144720"/>
              </a:xfrm>
            </p:grpSpPr>
            <p:sp>
              <p:nvSpPr>
                <p:cNvPr id="108" name="矩形 101"/>
                <p:cNvSpPr/>
                <p:nvPr/>
              </p:nvSpPr>
              <p:spPr>
                <a:xfrm>
                  <a:off x="189900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矩形 102"/>
                <p:cNvSpPr/>
                <p:nvPr/>
              </p:nvSpPr>
              <p:spPr>
                <a:xfrm>
                  <a:off x="204840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矩形 103"/>
                <p:cNvSpPr/>
                <p:nvPr/>
              </p:nvSpPr>
              <p:spPr>
                <a:xfrm>
                  <a:off x="219780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矩形 104"/>
                <p:cNvSpPr/>
                <p:nvPr/>
              </p:nvSpPr>
              <p:spPr>
                <a:xfrm>
                  <a:off x="234720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矩形 105"/>
                <p:cNvSpPr/>
                <p:nvPr/>
              </p:nvSpPr>
              <p:spPr>
                <a:xfrm>
                  <a:off x="249660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矩形 106"/>
                <p:cNvSpPr/>
                <p:nvPr/>
              </p:nvSpPr>
              <p:spPr>
                <a:xfrm>
                  <a:off x="264636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矩形 100"/>
              <p:cNvSpPr/>
              <p:nvPr/>
            </p:nvSpPr>
            <p:spPr>
              <a:xfrm>
                <a:off x="1899000" y="4120200"/>
                <a:ext cx="806040" cy="57672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792520" y="3943080"/>
              <a:ext cx="806040" cy="938160"/>
              <a:chOff x="2792520" y="3943080"/>
              <a:chExt cx="806040" cy="9381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2792520" y="3943080"/>
                <a:ext cx="806040" cy="144720"/>
                <a:chOff x="2792520" y="3943080"/>
                <a:chExt cx="806040" cy="144720"/>
              </a:xfrm>
            </p:grpSpPr>
            <p:sp>
              <p:nvSpPr>
                <p:cNvPr id="117" name="矩形 92"/>
                <p:cNvSpPr/>
                <p:nvPr/>
              </p:nvSpPr>
              <p:spPr>
                <a:xfrm>
                  <a:off x="27925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矩形 93"/>
                <p:cNvSpPr/>
                <p:nvPr/>
              </p:nvSpPr>
              <p:spPr>
                <a:xfrm>
                  <a:off x="29419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矩形 94"/>
                <p:cNvSpPr/>
                <p:nvPr/>
              </p:nvSpPr>
              <p:spPr>
                <a:xfrm>
                  <a:off x="30913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矩形 95"/>
                <p:cNvSpPr/>
                <p:nvPr/>
              </p:nvSpPr>
              <p:spPr>
                <a:xfrm>
                  <a:off x="32407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矩形 96"/>
                <p:cNvSpPr/>
                <p:nvPr/>
              </p:nvSpPr>
              <p:spPr>
                <a:xfrm>
                  <a:off x="33901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矩形 97"/>
                <p:cNvSpPr/>
                <p:nvPr/>
              </p:nvSpPr>
              <p:spPr>
                <a:xfrm>
                  <a:off x="353988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2792520" y="4736520"/>
                <a:ext cx="806040" cy="144720"/>
                <a:chOff x="2792520" y="4736520"/>
                <a:chExt cx="806040" cy="144720"/>
              </a:xfrm>
            </p:grpSpPr>
            <p:sp>
              <p:nvSpPr>
                <p:cNvPr id="124" name="矩形 86"/>
                <p:cNvSpPr/>
                <p:nvPr/>
              </p:nvSpPr>
              <p:spPr>
                <a:xfrm>
                  <a:off x="27925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矩形 87"/>
                <p:cNvSpPr/>
                <p:nvPr/>
              </p:nvSpPr>
              <p:spPr>
                <a:xfrm>
                  <a:off x="29419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矩形 88"/>
                <p:cNvSpPr/>
                <p:nvPr/>
              </p:nvSpPr>
              <p:spPr>
                <a:xfrm>
                  <a:off x="30913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矩形 89"/>
                <p:cNvSpPr/>
                <p:nvPr/>
              </p:nvSpPr>
              <p:spPr>
                <a:xfrm>
                  <a:off x="32407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矩形 90"/>
                <p:cNvSpPr/>
                <p:nvPr/>
              </p:nvSpPr>
              <p:spPr>
                <a:xfrm>
                  <a:off x="33901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矩形 91"/>
                <p:cNvSpPr/>
                <p:nvPr/>
              </p:nvSpPr>
              <p:spPr>
                <a:xfrm>
                  <a:off x="353988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矩形 85"/>
              <p:cNvSpPr/>
              <p:nvPr/>
            </p:nvSpPr>
            <p:spPr>
              <a:xfrm>
                <a:off x="2792520" y="4120200"/>
                <a:ext cx="806040" cy="57672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685680" y="3943080"/>
              <a:ext cx="806040" cy="938160"/>
              <a:chOff x="3685680" y="3943080"/>
              <a:chExt cx="806040" cy="9381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3685680" y="3943080"/>
                <a:ext cx="806040" cy="144720"/>
                <a:chOff x="3685680" y="3943080"/>
                <a:chExt cx="806040" cy="144720"/>
              </a:xfrm>
            </p:grpSpPr>
            <p:sp>
              <p:nvSpPr>
                <p:cNvPr id="133" name="矩形 77"/>
                <p:cNvSpPr/>
                <p:nvPr/>
              </p:nvSpPr>
              <p:spPr>
                <a:xfrm>
                  <a:off x="368568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矩形 78"/>
                <p:cNvSpPr/>
                <p:nvPr/>
              </p:nvSpPr>
              <p:spPr>
                <a:xfrm>
                  <a:off x="383508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矩形 79"/>
                <p:cNvSpPr/>
                <p:nvPr/>
              </p:nvSpPr>
              <p:spPr>
                <a:xfrm>
                  <a:off x="398448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矩形 80"/>
                <p:cNvSpPr/>
                <p:nvPr/>
              </p:nvSpPr>
              <p:spPr>
                <a:xfrm>
                  <a:off x="413388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矩形 81"/>
                <p:cNvSpPr/>
                <p:nvPr/>
              </p:nvSpPr>
              <p:spPr>
                <a:xfrm>
                  <a:off x="428328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矩形 82"/>
                <p:cNvSpPr/>
                <p:nvPr/>
              </p:nvSpPr>
              <p:spPr>
                <a:xfrm>
                  <a:off x="443304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685680" y="4736520"/>
                <a:ext cx="806040" cy="144720"/>
                <a:chOff x="3685680" y="4736520"/>
                <a:chExt cx="806040" cy="144720"/>
              </a:xfrm>
            </p:grpSpPr>
            <p:sp>
              <p:nvSpPr>
                <p:cNvPr id="140" name="矩形 71"/>
                <p:cNvSpPr/>
                <p:nvPr/>
              </p:nvSpPr>
              <p:spPr>
                <a:xfrm>
                  <a:off x="368568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矩形 72"/>
                <p:cNvSpPr/>
                <p:nvPr/>
              </p:nvSpPr>
              <p:spPr>
                <a:xfrm>
                  <a:off x="383508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矩形 73"/>
                <p:cNvSpPr/>
                <p:nvPr/>
              </p:nvSpPr>
              <p:spPr>
                <a:xfrm>
                  <a:off x="398448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矩形 74"/>
                <p:cNvSpPr/>
                <p:nvPr/>
              </p:nvSpPr>
              <p:spPr>
                <a:xfrm>
                  <a:off x="413388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矩形 75"/>
                <p:cNvSpPr/>
                <p:nvPr/>
              </p:nvSpPr>
              <p:spPr>
                <a:xfrm>
                  <a:off x="428328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矩形 76"/>
                <p:cNvSpPr/>
                <p:nvPr/>
              </p:nvSpPr>
              <p:spPr>
                <a:xfrm>
                  <a:off x="443304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矩形 70"/>
              <p:cNvSpPr/>
              <p:nvPr/>
            </p:nvSpPr>
            <p:spPr>
              <a:xfrm>
                <a:off x="3685680" y="4120200"/>
                <a:ext cx="806040" cy="57672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578840" y="3943080"/>
              <a:ext cx="806040" cy="938160"/>
              <a:chOff x="4578840" y="3943080"/>
              <a:chExt cx="806040" cy="9381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4578840" y="3943080"/>
                <a:ext cx="806040" cy="144720"/>
                <a:chOff x="4578840" y="3943080"/>
                <a:chExt cx="806040" cy="144720"/>
              </a:xfrm>
            </p:grpSpPr>
            <p:sp>
              <p:nvSpPr>
                <p:cNvPr id="149" name="矩形 62"/>
                <p:cNvSpPr/>
                <p:nvPr/>
              </p:nvSpPr>
              <p:spPr>
                <a:xfrm>
                  <a:off x="457884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矩形 63"/>
                <p:cNvSpPr/>
                <p:nvPr/>
              </p:nvSpPr>
              <p:spPr>
                <a:xfrm>
                  <a:off x="472824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矩形 64"/>
                <p:cNvSpPr/>
                <p:nvPr/>
              </p:nvSpPr>
              <p:spPr>
                <a:xfrm>
                  <a:off x="487764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矩形 65"/>
                <p:cNvSpPr/>
                <p:nvPr/>
              </p:nvSpPr>
              <p:spPr>
                <a:xfrm>
                  <a:off x="502704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矩形 66"/>
                <p:cNvSpPr/>
                <p:nvPr/>
              </p:nvSpPr>
              <p:spPr>
                <a:xfrm>
                  <a:off x="517644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矩形 67"/>
                <p:cNvSpPr/>
                <p:nvPr/>
              </p:nvSpPr>
              <p:spPr>
                <a:xfrm>
                  <a:off x="532620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4578840" y="4736520"/>
                <a:ext cx="806040" cy="144720"/>
                <a:chOff x="4578840" y="4736520"/>
                <a:chExt cx="806040" cy="144720"/>
              </a:xfrm>
            </p:grpSpPr>
            <p:sp>
              <p:nvSpPr>
                <p:cNvPr id="156" name="矩形 56"/>
                <p:cNvSpPr/>
                <p:nvPr/>
              </p:nvSpPr>
              <p:spPr>
                <a:xfrm>
                  <a:off x="457884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矩形 57"/>
                <p:cNvSpPr/>
                <p:nvPr/>
              </p:nvSpPr>
              <p:spPr>
                <a:xfrm>
                  <a:off x="472824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矩形 58"/>
                <p:cNvSpPr/>
                <p:nvPr/>
              </p:nvSpPr>
              <p:spPr>
                <a:xfrm>
                  <a:off x="487764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矩形 59"/>
                <p:cNvSpPr/>
                <p:nvPr/>
              </p:nvSpPr>
              <p:spPr>
                <a:xfrm>
                  <a:off x="502704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矩形 60"/>
                <p:cNvSpPr/>
                <p:nvPr/>
              </p:nvSpPr>
              <p:spPr>
                <a:xfrm>
                  <a:off x="517644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矩形 61"/>
                <p:cNvSpPr/>
                <p:nvPr/>
              </p:nvSpPr>
              <p:spPr>
                <a:xfrm>
                  <a:off x="532620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矩形 55"/>
              <p:cNvSpPr/>
              <p:nvPr/>
            </p:nvSpPr>
            <p:spPr>
              <a:xfrm>
                <a:off x="4578840" y="4120200"/>
                <a:ext cx="806040" cy="57672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472360" y="3943080"/>
              <a:ext cx="806040" cy="938160"/>
              <a:chOff x="5472360" y="3943080"/>
              <a:chExt cx="806040" cy="93816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5472360" y="3943080"/>
                <a:ext cx="806040" cy="144720"/>
                <a:chOff x="5472360" y="3943080"/>
                <a:chExt cx="806040" cy="144720"/>
              </a:xfrm>
            </p:grpSpPr>
            <p:sp>
              <p:nvSpPr>
                <p:cNvPr id="165" name="矩形 47"/>
                <p:cNvSpPr/>
                <p:nvPr/>
              </p:nvSpPr>
              <p:spPr>
                <a:xfrm>
                  <a:off x="547236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矩形 48"/>
                <p:cNvSpPr/>
                <p:nvPr/>
              </p:nvSpPr>
              <p:spPr>
                <a:xfrm>
                  <a:off x="562176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矩形 49"/>
                <p:cNvSpPr/>
                <p:nvPr/>
              </p:nvSpPr>
              <p:spPr>
                <a:xfrm>
                  <a:off x="577116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矩形 50"/>
                <p:cNvSpPr/>
                <p:nvPr/>
              </p:nvSpPr>
              <p:spPr>
                <a:xfrm>
                  <a:off x="592056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矩形 51"/>
                <p:cNvSpPr/>
                <p:nvPr/>
              </p:nvSpPr>
              <p:spPr>
                <a:xfrm>
                  <a:off x="606996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矩形 52"/>
                <p:cNvSpPr/>
                <p:nvPr/>
              </p:nvSpPr>
              <p:spPr>
                <a:xfrm>
                  <a:off x="62197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472360" y="4736520"/>
                <a:ext cx="806040" cy="144720"/>
                <a:chOff x="5472360" y="4736520"/>
                <a:chExt cx="806040" cy="144720"/>
              </a:xfrm>
            </p:grpSpPr>
            <p:sp>
              <p:nvSpPr>
                <p:cNvPr id="172" name="矩形 41"/>
                <p:cNvSpPr/>
                <p:nvPr/>
              </p:nvSpPr>
              <p:spPr>
                <a:xfrm>
                  <a:off x="547236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矩形 42"/>
                <p:cNvSpPr/>
                <p:nvPr/>
              </p:nvSpPr>
              <p:spPr>
                <a:xfrm>
                  <a:off x="562176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矩形 43"/>
                <p:cNvSpPr/>
                <p:nvPr/>
              </p:nvSpPr>
              <p:spPr>
                <a:xfrm>
                  <a:off x="577116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矩形 44"/>
                <p:cNvSpPr/>
                <p:nvPr/>
              </p:nvSpPr>
              <p:spPr>
                <a:xfrm>
                  <a:off x="592056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矩形 45"/>
                <p:cNvSpPr/>
                <p:nvPr/>
              </p:nvSpPr>
              <p:spPr>
                <a:xfrm>
                  <a:off x="606996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矩形 46"/>
                <p:cNvSpPr/>
                <p:nvPr/>
              </p:nvSpPr>
              <p:spPr>
                <a:xfrm>
                  <a:off x="62197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矩形 40"/>
              <p:cNvSpPr/>
              <p:nvPr/>
            </p:nvSpPr>
            <p:spPr>
              <a:xfrm>
                <a:off x="5472360" y="4120200"/>
                <a:ext cx="806040" cy="57672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6365520" y="3943080"/>
              <a:ext cx="806040" cy="938160"/>
              <a:chOff x="6365520" y="3943080"/>
              <a:chExt cx="806040" cy="9381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6365520" y="3943080"/>
                <a:ext cx="806040" cy="144720"/>
                <a:chOff x="6365520" y="3943080"/>
                <a:chExt cx="806040" cy="144720"/>
              </a:xfrm>
            </p:grpSpPr>
            <p:sp>
              <p:nvSpPr>
                <p:cNvPr id="181" name="矩形 32"/>
                <p:cNvSpPr/>
                <p:nvPr/>
              </p:nvSpPr>
              <p:spPr>
                <a:xfrm>
                  <a:off x="63655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矩形 33"/>
                <p:cNvSpPr/>
                <p:nvPr/>
              </p:nvSpPr>
              <p:spPr>
                <a:xfrm>
                  <a:off x="65149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矩形 34"/>
                <p:cNvSpPr/>
                <p:nvPr/>
              </p:nvSpPr>
              <p:spPr>
                <a:xfrm>
                  <a:off x="66643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矩形 35"/>
                <p:cNvSpPr/>
                <p:nvPr/>
              </p:nvSpPr>
              <p:spPr>
                <a:xfrm>
                  <a:off x="68137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矩形 36"/>
                <p:cNvSpPr/>
                <p:nvPr/>
              </p:nvSpPr>
              <p:spPr>
                <a:xfrm>
                  <a:off x="696312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矩形 37"/>
                <p:cNvSpPr/>
                <p:nvPr/>
              </p:nvSpPr>
              <p:spPr>
                <a:xfrm>
                  <a:off x="7112880" y="394308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6365520" y="4736520"/>
                <a:ext cx="806040" cy="144720"/>
                <a:chOff x="6365520" y="4736520"/>
                <a:chExt cx="806040" cy="144720"/>
              </a:xfrm>
            </p:grpSpPr>
            <p:sp>
              <p:nvSpPr>
                <p:cNvPr id="188" name="矩形 26"/>
                <p:cNvSpPr/>
                <p:nvPr/>
              </p:nvSpPr>
              <p:spPr>
                <a:xfrm>
                  <a:off x="63655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矩形 27"/>
                <p:cNvSpPr/>
                <p:nvPr/>
              </p:nvSpPr>
              <p:spPr>
                <a:xfrm>
                  <a:off x="65149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矩形 28"/>
                <p:cNvSpPr/>
                <p:nvPr/>
              </p:nvSpPr>
              <p:spPr>
                <a:xfrm>
                  <a:off x="66643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矩形 29"/>
                <p:cNvSpPr/>
                <p:nvPr/>
              </p:nvSpPr>
              <p:spPr>
                <a:xfrm>
                  <a:off x="68137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矩形 30"/>
                <p:cNvSpPr/>
                <p:nvPr/>
              </p:nvSpPr>
              <p:spPr>
                <a:xfrm>
                  <a:off x="696312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矩形 31"/>
                <p:cNvSpPr/>
                <p:nvPr/>
              </p:nvSpPr>
              <p:spPr>
                <a:xfrm>
                  <a:off x="7112880" y="4736520"/>
                  <a:ext cx="58680" cy="144720"/>
                </a:xfrm>
                <a:prstGeom prst="rect">
                  <a:avLst/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矩形 25"/>
              <p:cNvSpPr/>
              <p:nvPr/>
            </p:nvSpPr>
            <p:spPr>
              <a:xfrm>
                <a:off x="6365520" y="4120200"/>
                <a:ext cx="806040" cy="57672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2790720" y="2481120"/>
            <a:ext cx="1051200" cy="1135080"/>
            <a:chOff x="2790720" y="2481120"/>
            <a:chExt cx="1051200" cy="1135080"/>
          </a:xfrm>
        </p:grpSpPr>
        <p:grpSp>
          <p:nvGrpSpPr>
            <p:cNvPr id="196" name=""/>
            <p:cNvGrpSpPr/>
            <p:nvPr/>
          </p:nvGrpSpPr>
          <p:grpSpPr>
            <a:xfrm>
              <a:off x="2790720" y="2481120"/>
              <a:ext cx="1051200" cy="1135080"/>
              <a:chOff x="2790720" y="2481120"/>
              <a:chExt cx="1051200" cy="11350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2790720" y="2481120"/>
                <a:ext cx="1051200" cy="1077120"/>
                <a:chOff x="2790720" y="2481120"/>
                <a:chExt cx="1051200" cy="1077120"/>
              </a:xfrm>
            </p:grpSpPr>
            <p:sp>
              <p:nvSpPr>
                <p:cNvPr id="198" name="矩形 118"/>
                <p:cNvSpPr/>
                <p:nvPr/>
              </p:nvSpPr>
              <p:spPr>
                <a:xfrm>
                  <a:off x="2790720" y="2481120"/>
                  <a:ext cx="1051200" cy="107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2900880" y="2565720"/>
                  <a:ext cx="807120" cy="937800"/>
                  <a:chOff x="2900880" y="2565720"/>
                  <a:chExt cx="807120" cy="937800"/>
                </a:xfrm>
              </p:grpSpPr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2900880" y="2565720"/>
                    <a:ext cx="807120" cy="144360"/>
                    <a:chOff x="2900880" y="2565720"/>
                    <a:chExt cx="807120" cy="144360"/>
                  </a:xfrm>
                </p:grpSpPr>
                <p:sp>
                  <p:nvSpPr>
                    <p:cNvPr id="201" name="矩形 129"/>
                    <p:cNvSpPr/>
                    <p:nvPr/>
                  </p:nvSpPr>
                  <p:spPr>
                    <a:xfrm>
                      <a:off x="2900880" y="256572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矩形 130"/>
                    <p:cNvSpPr/>
                    <p:nvPr/>
                  </p:nvSpPr>
                  <p:spPr>
                    <a:xfrm>
                      <a:off x="3050280" y="256572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矩形 131"/>
                    <p:cNvSpPr/>
                    <p:nvPr/>
                  </p:nvSpPr>
                  <p:spPr>
                    <a:xfrm>
                      <a:off x="3200040" y="256572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矩形 132"/>
                    <p:cNvSpPr/>
                    <p:nvPr/>
                  </p:nvSpPr>
                  <p:spPr>
                    <a:xfrm>
                      <a:off x="3349800" y="256572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矩形 133"/>
                    <p:cNvSpPr/>
                    <p:nvPr/>
                  </p:nvSpPr>
                  <p:spPr>
                    <a:xfrm>
                      <a:off x="3499560" y="256572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矩形 134"/>
                    <p:cNvSpPr/>
                    <p:nvPr/>
                  </p:nvSpPr>
                  <p:spPr>
                    <a:xfrm>
                      <a:off x="3648960" y="256572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900880" y="3359160"/>
                    <a:ext cx="807120" cy="144360"/>
                    <a:chOff x="2900880" y="3359160"/>
                    <a:chExt cx="807120" cy="144360"/>
                  </a:xfrm>
                </p:grpSpPr>
                <p:sp>
                  <p:nvSpPr>
                    <p:cNvPr id="208" name="矩形 123"/>
                    <p:cNvSpPr/>
                    <p:nvPr/>
                  </p:nvSpPr>
                  <p:spPr>
                    <a:xfrm>
                      <a:off x="2900880" y="335916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矩形 124"/>
                    <p:cNvSpPr/>
                    <p:nvPr/>
                  </p:nvSpPr>
                  <p:spPr>
                    <a:xfrm>
                      <a:off x="3050280" y="335916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矩形 125"/>
                    <p:cNvSpPr/>
                    <p:nvPr/>
                  </p:nvSpPr>
                  <p:spPr>
                    <a:xfrm>
                      <a:off x="3200040" y="335916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矩形 126"/>
                    <p:cNvSpPr/>
                    <p:nvPr/>
                  </p:nvSpPr>
                  <p:spPr>
                    <a:xfrm>
                      <a:off x="3349800" y="335916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矩形 127"/>
                    <p:cNvSpPr/>
                    <p:nvPr/>
                  </p:nvSpPr>
                  <p:spPr>
                    <a:xfrm>
                      <a:off x="3499560" y="335916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矩形 128"/>
                    <p:cNvSpPr/>
                    <p:nvPr/>
                  </p:nvSpPr>
                  <p:spPr>
                    <a:xfrm>
                      <a:off x="3648960" y="3359160"/>
                      <a:ext cx="5904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4" name="矩形 122"/>
                  <p:cNvSpPr/>
                  <p:nvPr/>
                </p:nvSpPr>
                <p:spPr>
                  <a:xfrm>
                    <a:off x="2900880" y="2742840"/>
                    <a:ext cx="807120" cy="57636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5" name="矩形标注 117"/>
              <p:cNvSpPr/>
              <p:nvPr/>
            </p:nvSpPr>
            <p:spPr>
              <a:xfrm>
                <a:off x="2790720" y="3503520"/>
                <a:ext cx="1051200" cy="112680"/>
              </a:xfrm>
              <a:prstGeom prst="wedgeRectCallout">
                <a:avLst>
                  <a:gd name="adj1" fmla="val -30138"/>
                  <a:gd name="adj2" fmla="val 467393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矩形 28"/>
            <p:cNvSpPr/>
            <p:nvPr/>
          </p:nvSpPr>
          <p:spPr>
            <a:xfrm>
              <a:off x="2991960" y="264996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关于我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平行四边形 140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221" name="图片 13" descr=""/>
            <p:cNvPicPr/>
            <p:nvPr/>
          </p:nvPicPr>
          <p:blipFill>
            <a:blip r:embed="rId1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374920" y="2865600"/>
            <a:ext cx="3349440" cy="2579400"/>
            <a:chOff x="2374920" y="2865600"/>
            <a:chExt cx="3349440" cy="2579400"/>
          </a:xfrm>
        </p:grpSpPr>
        <p:grpSp>
          <p:nvGrpSpPr>
            <p:cNvPr id="225" name=""/>
            <p:cNvGrpSpPr/>
            <p:nvPr/>
          </p:nvGrpSpPr>
          <p:grpSpPr>
            <a:xfrm>
              <a:off x="2374920" y="2865600"/>
              <a:ext cx="3349440" cy="792000"/>
              <a:chOff x="2374920" y="2865600"/>
              <a:chExt cx="3349440" cy="792000"/>
            </a:xfrm>
          </p:grpSpPr>
          <p:sp>
            <p:nvSpPr>
              <p:cNvPr id="226" name="矩形 23"/>
              <p:cNvSpPr/>
              <p:nvPr/>
            </p:nvSpPr>
            <p:spPr>
              <a:xfrm>
                <a:off x="2374920" y="2865600"/>
                <a:ext cx="792360" cy="79200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矩形 24"/>
              <p:cNvSpPr/>
              <p:nvPr/>
            </p:nvSpPr>
            <p:spPr>
              <a:xfrm>
                <a:off x="4932000" y="2865600"/>
                <a:ext cx="792360" cy="79200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矩形 25"/>
              <p:cNvSpPr/>
              <p:nvPr/>
            </p:nvSpPr>
            <p:spPr>
              <a:xfrm>
                <a:off x="4079520" y="2865600"/>
                <a:ext cx="792360" cy="79200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矩形 26"/>
              <p:cNvSpPr/>
              <p:nvPr/>
            </p:nvSpPr>
            <p:spPr>
              <a:xfrm>
                <a:off x="3227040" y="2865600"/>
                <a:ext cx="792360" cy="79200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374920" y="3759120"/>
              <a:ext cx="3349440" cy="792000"/>
              <a:chOff x="2374920" y="3759120"/>
              <a:chExt cx="3349440" cy="792000"/>
            </a:xfrm>
          </p:grpSpPr>
          <p:sp>
            <p:nvSpPr>
              <p:cNvPr id="231" name="矩形 19"/>
              <p:cNvSpPr/>
              <p:nvPr/>
            </p:nvSpPr>
            <p:spPr>
              <a:xfrm>
                <a:off x="2374920" y="3759120"/>
                <a:ext cx="792360" cy="7920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矩形 20"/>
              <p:cNvSpPr/>
              <p:nvPr/>
            </p:nvSpPr>
            <p:spPr>
              <a:xfrm>
                <a:off x="4932000" y="3759120"/>
                <a:ext cx="792360" cy="79200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21"/>
              <p:cNvSpPr/>
              <p:nvPr/>
            </p:nvSpPr>
            <p:spPr>
              <a:xfrm>
                <a:off x="4079520" y="3759120"/>
                <a:ext cx="792360" cy="79200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22"/>
              <p:cNvSpPr/>
              <p:nvPr/>
            </p:nvSpPr>
            <p:spPr>
              <a:xfrm>
                <a:off x="3227040" y="3759120"/>
                <a:ext cx="792360" cy="79200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2374920" y="4653000"/>
              <a:ext cx="3349440" cy="792000"/>
              <a:chOff x="2374920" y="4653000"/>
              <a:chExt cx="3349440" cy="792000"/>
            </a:xfrm>
          </p:grpSpPr>
          <p:sp>
            <p:nvSpPr>
              <p:cNvPr id="236" name="矩形 11"/>
              <p:cNvSpPr/>
              <p:nvPr/>
            </p:nvSpPr>
            <p:spPr>
              <a:xfrm>
                <a:off x="2374920" y="4653000"/>
                <a:ext cx="792360" cy="79200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矩形 16"/>
              <p:cNvSpPr/>
              <p:nvPr/>
            </p:nvSpPr>
            <p:spPr>
              <a:xfrm>
                <a:off x="4932000" y="4653000"/>
                <a:ext cx="792360" cy="79200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矩形 17"/>
              <p:cNvSpPr/>
              <p:nvPr/>
            </p:nvSpPr>
            <p:spPr>
              <a:xfrm>
                <a:off x="4079520" y="4653000"/>
                <a:ext cx="792360" cy="79200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矩形 18"/>
              <p:cNvSpPr/>
              <p:nvPr/>
            </p:nvSpPr>
            <p:spPr>
              <a:xfrm>
                <a:off x="3227040" y="4653000"/>
                <a:ext cx="792360" cy="79200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3244680" y="1557360"/>
            <a:ext cx="1071720" cy="1135080"/>
            <a:chOff x="3244680" y="1557360"/>
            <a:chExt cx="1071720" cy="1135080"/>
          </a:xfrm>
        </p:grpSpPr>
        <p:grpSp>
          <p:nvGrpSpPr>
            <p:cNvPr id="241" name=""/>
            <p:cNvGrpSpPr/>
            <p:nvPr/>
          </p:nvGrpSpPr>
          <p:grpSpPr>
            <a:xfrm>
              <a:off x="3244680" y="1557360"/>
              <a:ext cx="1071720" cy="1135080"/>
              <a:chOff x="3244680" y="1557360"/>
              <a:chExt cx="1071720" cy="113508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3244680" y="1557360"/>
                <a:ext cx="1071720" cy="1077120"/>
                <a:chOff x="3244680" y="1557360"/>
                <a:chExt cx="1071720" cy="1077120"/>
              </a:xfrm>
            </p:grpSpPr>
            <p:sp>
              <p:nvSpPr>
                <p:cNvPr id="243" name="矩形 32"/>
                <p:cNvSpPr/>
                <p:nvPr/>
              </p:nvSpPr>
              <p:spPr>
                <a:xfrm>
                  <a:off x="3244680" y="1557360"/>
                  <a:ext cx="1071720" cy="107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4" name=""/>
                <p:cNvGrpSpPr/>
                <p:nvPr/>
              </p:nvGrpSpPr>
              <p:grpSpPr>
                <a:xfrm>
                  <a:off x="3357000" y="1641960"/>
                  <a:ext cx="822960" cy="937800"/>
                  <a:chOff x="3357000" y="1641960"/>
                  <a:chExt cx="822960" cy="937800"/>
                </a:xfrm>
              </p:grpSpPr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3357000" y="1641960"/>
                    <a:ext cx="822960" cy="144360"/>
                    <a:chOff x="3357000" y="1641960"/>
                    <a:chExt cx="822960" cy="144360"/>
                  </a:xfrm>
                </p:grpSpPr>
                <p:sp>
                  <p:nvSpPr>
                    <p:cNvPr id="246" name="矩形 43"/>
                    <p:cNvSpPr/>
                    <p:nvPr/>
                  </p:nvSpPr>
                  <p:spPr>
                    <a:xfrm>
                      <a:off x="3357000" y="164196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矩形 44"/>
                    <p:cNvSpPr/>
                    <p:nvPr/>
                  </p:nvSpPr>
                  <p:spPr>
                    <a:xfrm>
                      <a:off x="3509280" y="164196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矩形 45"/>
                    <p:cNvSpPr/>
                    <p:nvPr/>
                  </p:nvSpPr>
                  <p:spPr>
                    <a:xfrm>
                      <a:off x="3661920" y="164196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矩形 46"/>
                    <p:cNvSpPr/>
                    <p:nvPr/>
                  </p:nvSpPr>
                  <p:spPr>
                    <a:xfrm>
                      <a:off x="3814560" y="164196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矩形 47"/>
                    <p:cNvSpPr/>
                    <p:nvPr/>
                  </p:nvSpPr>
                  <p:spPr>
                    <a:xfrm>
                      <a:off x="3967200" y="164196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矩形 48"/>
                    <p:cNvSpPr/>
                    <p:nvPr/>
                  </p:nvSpPr>
                  <p:spPr>
                    <a:xfrm>
                      <a:off x="4119840" y="164196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3357000" y="2435400"/>
                    <a:ext cx="822960" cy="144360"/>
                    <a:chOff x="3357000" y="2435400"/>
                    <a:chExt cx="822960" cy="144360"/>
                  </a:xfrm>
                </p:grpSpPr>
                <p:sp>
                  <p:nvSpPr>
                    <p:cNvPr id="253" name="矩形 37"/>
                    <p:cNvSpPr/>
                    <p:nvPr/>
                  </p:nvSpPr>
                  <p:spPr>
                    <a:xfrm>
                      <a:off x="3357000" y="243540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矩形 38"/>
                    <p:cNvSpPr/>
                    <p:nvPr/>
                  </p:nvSpPr>
                  <p:spPr>
                    <a:xfrm>
                      <a:off x="3509280" y="243540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矩形 39"/>
                    <p:cNvSpPr/>
                    <p:nvPr/>
                  </p:nvSpPr>
                  <p:spPr>
                    <a:xfrm>
                      <a:off x="3661920" y="243540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矩形 40"/>
                    <p:cNvSpPr/>
                    <p:nvPr/>
                  </p:nvSpPr>
                  <p:spPr>
                    <a:xfrm>
                      <a:off x="3814560" y="243540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矩形 41"/>
                    <p:cNvSpPr/>
                    <p:nvPr/>
                  </p:nvSpPr>
                  <p:spPr>
                    <a:xfrm>
                      <a:off x="3967200" y="243540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矩形 42"/>
                    <p:cNvSpPr/>
                    <p:nvPr/>
                  </p:nvSpPr>
                  <p:spPr>
                    <a:xfrm>
                      <a:off x="4119840" y="2435400"/>
                      <a:ext cx="60120" cy="144360"/>
                    </a:xfrm>
                    <a:prstGeom prst="rect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9" name="矩形 36"/>
                  <p:cNvSpPr/>
                  <p:nvPr/>
                </p:nvSpPr>
                <p:spPr>
                  <a:xfrm>
                    <a:off x="3357000" y="1819080"/>
                    <a:ext cx="822960" cy="57636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" name="矩形标注 31"/>
              <p:cNvSpPr/>
              <p:nvPr/>
            </p:nvSpPr>
            <p:spPr>
              <a:xfrm>
                <a:off x="3244680" y="2579760"/>
                <a:ext cx="1071720" cy="112680"/>
              </a:xfrm>
              <a:prstGeom prst="wedgeRectCallout">
                <a:avLst>
                  <a:gd name="adj1" fmla="val -30138"/>
                  <a:gd name="adj2" fmla="val 467393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矩形 28"/>
            <p:cNvSpPr/>
            <p:nvPr/>
          </p:nvSpPr>
          <p:spPr>
            <a:xfrm>
              <a:off x="3455640" y="1726200"/>
              <a:ext cx="6073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关于我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弦形 43"/>
          <p:cNvSpPr/>
          <p:nvPr/>
        </p:nvSpPr>
        <p:spPr>
          <a:xfrm rot="20498400">
            <a:off x="6921360" y="525600"/>
            <a:ext cx="1632240" cy="1958760"/>
          </a:xfrm>
          <a:custGeom>
            <a:avLst/>
            <a:gdLst>
              <a:gd name="textAreaLeft" fmla="*/ 0 w 1632240"/>
              <a:gd name="textAreaRight" fmla="*/ 1632600 w 163224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631899" h="1958692">
                <a:moveTo>
                  <a:pt x="176564" y="0"/>
                </a:moveTo>
                <a:lnTo>
                  <a:pt x="1631899" y="482805"/>
                </a:lnTo>
                <a:lnTo>
                  <a:pt x="1142276" y="1958692"/>
                </a:lnTo>
                <a:cubicBezTo>
                  <a:pt x="974900" y="1937485"/>
                  <a:pt x="810007" y="1882959"/>
                  <a:pt x="657064" y="1794658"/>
                </a:cubicBezTo>
                <a:cubicBezTo>
                  <a:pt x="142061" y="1497321"/>
                  <a:pt x="-109025" y="891146"/>
                  <a:pt x="44889" y="316734"/>
                </a:cubicBezTo>
                <a:cubicBezTo>
                  <a:pt x="75170" y="203720"/>
                  <a:pt x="119644" y="97480"/>
                  <a:pt x="176564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6661080" y="620640"/>
            <a:ext cx="1539720" cy="1099440"/>
            <a:chOff x="6661080" y="620640"/>
            <a:chExt cx="1539720" cy="1099440"/>
          </a:xfrm>
        </p:grpSpPr>
        <p:sp>
          <p:nvSpPr>
            <p:cNvPr id="264" name="TextBox 52"/>
            <p:cNvSpPr/>
            <p:nvPr/>
          </p:nvSpPr>
          <p:spPr>
            <a:xfrm>
              <a:off x="6661080" y="620640"/>
              <a:ext cx="1079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Broadway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28"/>
            <p:cNvSpPr/>
            <p:nvPr/>
          </p:nvSpPr>
          <p:spPr>
            <a:xfrm>
              <a:off x="7410600" y="103068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关于我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平行四边形 54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270" name="图片 13" descr=""/>
            <p:cNvPicPr/>
            <p:nvPr/>
          </p:nvPicPr>
          <p:blipFill>
            <a:blip r:embed="rId1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203640" y="836640"/>
            <a:ext cx="3384360" cy="1122480"/>
            <a:chOff x="3203640" y="836640"/>
            <a:chExt cx="3384360" cy="1122480"/>
          </a:xfrm>
        </p:grpSpPr>
        <p:sp>
          <p:nvSpPr>
            <p:cNvPr id="274" name="矩形 8"/>
            <p:cNvSpPr/>
            <p:nvPr/>
          </p:nvSpPr>
          <p:spPr>
            <a:xfrm>
              <a:off x="3203640" y="836640"/>
              <a:ext cx="3384360" cy="112248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直接连接符 9"/>
            <p:cNvSpPr/>
            <p:nvPr/>
          </p:nvSpPr>
          <p:spPr>
            <a:xfrm>
              <a:off x="4643640" y="908640"/>
              <a:ext cx="0" cy="97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643640" y="935640"/>
              <a:ext cx="1620360" cy="916920"/>
              <a:chOff x="4643640" y="935640"/>
              <a:chExt cx="1620360" cy="916920"/>
            </a:xfrm>
          </p:grpSpPr>
          <p:sp>
            <p:nvSpPr>
              <p:cNvPr id="277" name="矩形 28"/>
              <p:cNvSpPr/>
              <p:nvPr/>
            </p:nvSpPr>
            <p:spPr>
              <a:xfrm>
                <a:off x="5351760" y="1091520"/>
                <a:ext cx="912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关于我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Box 16"/>
              <p:cNvSpPr/>
              <p:nvPr/>
            </p:nvSpPr>
            <p:spPr>
              <a:xfrm>
                <a:off x="4643640" y="935640"/>
                <a:ext cx="1080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Broadway"/>
                  </a:rPr>
                  <a:t>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"/>
          <p:cNvGrpSpPr/>
          <p:nvPr/>
        </p:nvGrpSpPr>
        <p:grpSpPr>
          <a:xfrm>
            <a:off x="3203640" y="3327480"/>
            <a:ext cx="3384360" cy="1122120"/>
            <a:chOff x="3203640" y="3327480"/>
            <a:chExt cx="3384360" cy="1122120"/>
          </a:xfrm>
        </p:grpSpPr>
        <p:sp>
          <p:nvSpPr>
            <p:cNvPr id="280" name="矩形 18"/>
            <p:cNvSpPr/>
            <p:nvPr/>
          </p:nvSpPr>
          <p:spPr>
            <a:xfrm>
              <a:off x="3203640" y="3327480"/>
              <a:ext cx="3384360" cy="112212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19"/>
            <p:cNvSpPr/>
            <p:nvPr/>
          </p:nvSpPr>
          <p:spPr>
            <a:xfrm>
              <a:off x="4643640" y="3399480"/>
              <a:ext cx="0" cy="97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4643640" y="3426480"/>
              <a:ext cx="1620360" cy="916920"/>
              <a:chOff x="4643640" y="3426480"/>
              <a:chExt cx="1620360" cy="916920"/>
            </a:xfrm>
          </p:grpSpPr>
          <p:sp>
            <p:nvSpPr>
              <p:cNvPr id="283" name="矩形 28"/>
              <p:cNvSpPr/>
              <p:nvPr/>
            </p:nvSpPr>
            <p:spPr>
              <a:xfrm>
                <a:off x="5351760" y="3582360"/>
                <a:ext cx="912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团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Box 22"/>
              <p:cNvSpPr/>
              <p:nvPr/>
            </p:nvSpPr>
            <p:spPr>
              <a:xfrm>
                <a:off x="4643640" y="3426480"/>
                <a:ext cx="1080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Broadway"/>
                  </a:rPr>
                  <a:t>3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5" name=""/>
          <p:cNvGrpSpPr/>
          <p:nvPr/>
        </p:nvGrpSpPr>
        <p:grpSpPr>
          <a:xfrm>
            <a:off x="3203640" y="4573440"/>
            <a:ext cx="3384360" cy="1121040"/>
            <a:chOff x="3203640" y="4573440"/>
            <a:chExt cx="3384360" cy="1121040"/>
          </a:xfrm>
        </p:grpSpPr>
        <p:sp>
          <p:nvSpPr>
            <p:cNvPr id="286" name="矩形 24"/>
            <p:cNvSpPr/>
            <p:nvPr/>
          </p:nvSpPr>
          <p:spPr>
            <a:xfrm>
              <a:off x="3203640" y="4573440"/>
              <a:ext cx="3384360" cy="112104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直接连接符 25"/>
            <p:cNvSpPr/>
            <p:nvPr/>
          </p:nvSpPr>
          <p:spPr>
            <a:xfrm>
              <a:off x="4643640" y="4645440"/>
              <a:ext cx="0" cy="97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4643640" y="4672080"/>
              <a:ext cx="1620360" cy="916920"/>
              <a:chOff x="4643640" y="4672080"/>
              <a:chExt cx="1620360" cy="916920"/>
            </a:xfrm>
          </p:grpSpPr>
          <p:sp>
            <p:nvSpPr>
              <p:cNvPr id="289" name="矩形 28"/>
              <p:cNvSpPr/>
              <p:nvPr/>
            </p:nvSpPr>
            <p:spPr>
              <a:xfrm>
                <a:off x="5351760" y="4827960"/>
                <a:ext cx="912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资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Box 28"/>
              <p:cNvSpPr/>
              <p:nvPr/>
            </p:nvSpPr>
            <p:spPr>
              <a:xfrm>
                <a:off x="4643640" y="4672080"/>
                <a:ext cx="1080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Broadway"/>
                  </a:rPr>
                  <a:t>4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3203640" y="2082960"/>
            <a:ext cx="3384360" cy="1120680"/>
            <a:chOff x="3203640" y="2082960"/>
            <a:chExt cx="3384360" cy="1120680"/>
          </a:xfrm>
        </p:grpSpPr>
        <p:sp>
          <p:nvSpPr>
            <p:cNvPr id="292" name="矩形 30"/>
            <p:cNvSpPr/>
            <p:nvPr/>
          </p:nvSpPr>
          <p:spPr>
            <a:xfrm>
              <a:off x="3203640" y="2082960"/>
              <a:ext cx="3384360" cy="112068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31"/>
            <p:cNvSpPr/>
            <p:nvPr/>
          </p:nvSpPr>
          <p:spPr>
            <a:xfrm>
              <a:off x="4643640" y="2154960"/>
              <a:ext cx="0" cy="97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643640" y="2181600"/>
              <a:ext cx="1620360" cy="916920"/>
              <a:chOff x="4643640" y="2181600"/>
              <a:chExt cx="1620360" cy="916920"/>
            </a:xfrm>
          </p:grpSpPr>
          <p:sp>
            <p:nvSpPr>
              <p:cNvPr id="295" name="矩形 28"/>
              <p:cNvSpPr/>
              <p:nvPr/>
            </p:nvSpPr>
            <p:spPr>
              <a:xfrm>
                <a:off x="5351760" y="2337480"/>
                <a:ext cx="912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荣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Box 34"/>
              <p:cNvSpPr/>
              <p:nvPr/>
            </p:nvSpPr>
            <p:spPr>
              <a:xfrm>
                <a:off x="4643640" y="2181600"/>
                <a:ext cx="10803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Broadway"/>
                  </a:rPr>
                  <a:t>2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3387600" y="836640"/>
            <a:ext cx="1114560" cy="4849920"/>
            <a:chOff x="3387600" y="836640"/>
            <a:chExt cx="1114560" cy="4849920"/>
          </a:xfrm>
        </p:grpSpPr>
        <p:pic>
          <p:nvPicPr>
            <p:cNvPr id="298" name="Picture 2" descr=""/>
            <p:cNvPicPr/>
            <p:nvPr/>
          </p:nvPicPr>
          <p:blipFill>
            <a:blip r:embed="rId2"/>
            <a:srcRect l="0" t="21006" r="45739" b="0"/>
            <a:stretch/>
          </p:blipFill>
          <p:spPr>
            <a:xfrm>
              <a:off x="3387600" y="836640"/>
              <a:ext cx="111204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3" descr=""/>
            <p:cNvPicPr/>
            <p:nvPr/>
          </p:nvPicPr>
          <p:blipFill>
            <a:blip r:embed="rId3"/>
            <a:stretch/>
          </p:blipFill>
          <p:spPr>
            <a:xfrm>
              <a:off x="3387600" y="3322440"/>
              <a:ext cx="111204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4" descr=""/>
            <p:cNvPicPr/>
            <p:nvPr/>
          </p:nvPicPr>
          <p:blipFill>
            <a:blip r:embed="rId4"/>
            <a:stretch/>
          </p:blipFill>
          <p:spPr>
            <a:xfrm>
              <a:off x="3387600" y="2079360"/>
              <a:ext cx="111204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5" descr=""/>
            <p:cNvPicPr/>
            <p:nvPr/>
          </p:nvPicPr>
          <p:blipFill>
            <a:blip r:embed="rId5"/>
            <a:stretch/>
          </p:blipFill>
          <p:spPr>
            <a:xfrm>
              <a:off x="3387600" y="4565520"/>
              <a:ext cx="1114560" cy="112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平行四边形 41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右箭头 3"/>
          <p:cNvSpPr/>
          <p:nvPr/>
        </p:nvSpPr>
        <p:spPr>
          <a:xfrm rot="18945600">
            <a:off x="6883200" y="325440"/>
            <a:ext cx="1720800" cy="214632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2146320"/>
              <a:gd name="textAreaBottom" fmla="*/ 2146680 h 2146320"/>
            </a:gdLst>
            <a:ahLst/>
            <a:rect l="textAreaLeft" t="textAreaTop" r="textAreaRight" b="textAreaBottom"/>
            <a:pathLst>
              <a:path w="1720669" h="2146640">
                <a:moveTo>
                  <a:pt x="1720669" y="1044647"/>
                </a:moveTo>
                <a:lnTo>
                  <a:pt x="647732" y="2146640"/>
                </a:lnTo>
                <a:lnTo>
                  <a:pt x="647731" y="1799292"/>
                </a:lnTo>
                <a:lnTo>
                  <a:pt x="242" y="1799292"/>
                </a:lnTo>
                <a:lnTo>
                  <a:pt x="0" y="411603"/>
                </a:lnTo>
                <a:lnTo>
                  <a:pt x="647731" y="411603"/>
                </a:lnTo>
                <a:lnTo>
                  <a:pt x="6477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3"/>
          <p:cNvSpPr/>
          <p:nvPr/>
        </p:nvSpPr>
        <p:spPr>
          <a:xfrm rot="2748000">
            <a:off x="6650640" y="16592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关于我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4"/>
          <p:cNvSpPr/>
          <p:nvPr/>
        </p:nvSpPr>
        <p:spPr>
          <a:xfrm rot="2632200">
            <a:off x="7538760" y="728280"/>
            <a:ext cx="96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000"/>
                </a:solidFill>
                <a:latin typeface="Broadway"/>
                <a:ea typeface="微软雅黑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2"/>
          <p:cNvSpPr/>
          <p:nvPr/>
        </p:nvSpPr>
        <p:spPr>
          <a:xfrm>
            <a:off x="7223040" y="1092240"/>
            <a:ext cx="949320" cy="922320"/>
          </a:xfrm>
          <a:prstGeom prst="line">
            <a:avLst/>
          </a:prstGeom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2960" y="6319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311" name="图片 13" descr=""/>
            <p:cNvPicPr/>
            <p:nvPr/>
          </p:nvPicPr>
          <p:blipFill>
            <a:blip r:embed="rId1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9"/>
          <p:cNvSpPr/>
          <p:nvPr/>
        </p:nvSpPr>
        <p:spPr>
          <a:xfrm>
            <a:off x="571680" y="1268280"/>
            <a:ext cx="7930800" cy="40687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10"/>
          <p:cNvSpPr/>
          <p:nvPr/>
        </p:nvSpPr>
        <p:spPr>
          <a:xfrm>
            <a:off x="822240" y="2435400"/>
            <a:ext cx="1800" cy="27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11"/>
          <p:cNvSpPr/>
          <p:nvPr/>
        </p:nvSpPr>
        <p:spPr>
          <a:xfrm>
            <a:off x="2266920" y="2435400"/>
            <a:ext cx="1440" cy="27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6"/>
          <p:cNvSpPr/>
          <p:nvPr/>
        </p:nvSpPr>
        <p:spPr>
          <a:xfrm>
            <a:off x="3851280" y="2435400"/>
            <a:ext cx="1440" cy="27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17"/>
          <p:cNvSpPr/>
          <p:nvPr/>
        </p:nvSpPr>
        <p:spPr>
          <a:xfrm>
            <a:off x="5292720" y="2435400"/>
            <a:ext cx="0" cy="27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18"/>
          <p:cNvSpPr/>
          <p:nvPr/>
        </p:nvSpPr>
        <p:spPr>
          <a:xfrm>
            <a:off x="6732720" y="2435400"/>
            <a:ext cx="0" cy="27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9"/>
          <p:cNvSpPr/>
          <p:nvPr/>
        </p:nvSpPr>
        <p:spPr>
          <a:xfrm>
            <a:off x="8101080" y="2435400"/>
            <a:ext cx="0" cy="2733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0"/>
          <p:cNvSpPr/>
          <p:nvPr/>
        </p:nvSpPr>
        <p:spPr>
          <a:xfrm>
            <a:off x="611280" y="17654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1"/>
          <p:cNvSpPr/>
          <p:nvPr/>
        </p:nvSpPr>
        <p:spPr>
          <a:xfrm>
            <a:off x="3579840" y="176220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2"/>
          <p:cNvSpPr/>
          <p:nvPr/>
        </p:nvSpPr>
        <p:spPr>
          <a:xfrm>
            <a:off x="2028960" y="176544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3"/>
          <p:cNvSpPr/>
          <p:nvPr/>
        </p:nvSpPr>
        <p:spPr>
          <a:xfrm>
            <a:off x="6445080" y="1765440"/>
            <a:ext cx="7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4"/>
          <p:cNvSpPr/>
          <p:nvPr/>
        </p:nvSpPr>
        <p:spPr>
          <a:xfrm>
            <a:off x="5014800" y="176544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5"/>
          <p:cNvSpPr/>
          <p:nvPr/>
        </p:nvSpPr>
        <p:spPr>
          <a:xfrm>
            <a:off x="7775640" y="17654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接连接符 26"/>
          <p:cNvSpPr/>
          <p:nvPr/>
        </p:nvSpPr>
        <p:spPr>
          <a:xfrm>
            <a:off x="571680" y="2203560"/>
            <a:ext cx="78595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27"/>
          <p:cNvSpPr/>
          <p:nvPr/>
        </p:nvSpPr>
        <p:spPr>
          <a:xfrm>
            <a:off x="571680" y="5160960"/>
            <a:ext cx="785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28"/>
          <p:cNvSpPr/>
          <p:nvPr/>
        </p:nvSpPr>
        <p:spPr>
          <a:xfrm>
            <a:off x="2477520" y="2538360"/>
            <a:ext cx="790200" cy="551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我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8"/>
          <p:cNvSpPr/>
          <p:nvPr/>
        </p:nvSpPr>
        <p:spPr>
          <a:xfrm>
            <a:off x="4061880" y="3179880"/>
            <a:ext cx="790200" cy="5511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远星荣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28"/>
          <p:cNvSpPr/>
          <p:nvPr/>
        </p:nvSpPr>
        <p:spPr>
          <a:xfrm>
            <a:off x="5502240" y="3692520"/>
            <a:ext cx="790200" cy="5511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远星团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8"/>
          <p:cNvSpPr/>
          <p:nvPr/>
        </p:nvSpPr>
        <p:spPr>
          <a:xfrm>
            <a:off x="6942240" y="4154400"/>
            <a:ext cx="790200" cy="5511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远星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28"/>
          <p:cNvSpPr/>
          <p:nvPr/>
        </p:nvSpPr>
        <p:spPr>
          <a:xfrm>
            <a:off x="1037520" y="2289240"/>
            <a:ext cx="790200" cy="5511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准备起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平行四边形 7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表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338" name="图片 13" descr=""/>
            <p:cNvPicPr/>
            <p:nvPr/>
          </p:nvPicPr>
          <p:blipFill>
            <a:blip r:embed="rId1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8"/>
          <p:cNvSpPr/>
          <p:nvPr/>
        </p:nvSpPr>
        <p:spPr>
          <a:xfrm>
            <a:off x="1943280" y="1231920"/>
            <a:ext cx="5257800" cy="40924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406960" y="1762200"/>
            <a:ext cx="4539960" cy="3333600"/>
            <a:chOff x="2406960" y="1762200"/>
            <a:chExt cx="4539960" cy="3333600"/>
          </a:xfrm>
        </p:grpSpPr>
        <p:grpSp>
          <p:nvGrpSpPr>
            <p:cNvPr id="343" name=""/>
            <p:cNvGrpSpPr/>
            <p:nvPr/>
          </p:nvGrpSpPr>
          <p:grpSpPr>
            <a:xfrm>
              <a:off x="3095640" y="1762200"/>
              <a:ext cx="3851280" cy="3333600"/>
              <a:chOff x="3095640" y="1762200"/>
              <a:chExt cx="3851280" cy="333360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3347280" y="2144160"/>
                <a:ext cx="3023640" cy="2951640"/>
                <a:chOff x="3347280" y="2144160"/>
                <a:chExt cx="3023640" cy="2951640"/>
              </a:xfrm>
            </p:grpSpPr>
            <p:sp>
              <p:nvSpPr>
                <p:cNvPr id="345" name="直接连接符 33"/>
                <p:cNvSpPr/>
                <p:nvPr/>
              </p:nvSpPr>
              <p:spPr>
                <a:xfrm>
                  <a:off x="3347280" y="2144160"/>
                  <a:ext cx="0" cy="2951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直接连接符 34"/>
                <p:cNvSpPr/>
                <p:nvPr/>
              </p:nvSpPr>
              <p:spPr>
                <a:xfrm>
                  <a:off x="3922920" y="2144160"/>
                  <a:ext cx="0" cy="2951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直接连接符 35"/>
                <p:cNvSpPr/>
                <p:nvPr/>
              </p:nvSpPr>
              <p:spPr>
                <a:xfrm>
                  <a:off x="4498920" y="2144160"/>
                  <a:ext cx="0" cy="2951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直接连接符 36"/>
                <p:cNvSpPr/>
                <p:nvPr/>
              </p:nvSpPr>
              <p:spPr>
                <a:xfrm>
                  <a:off x="5074920" y="2144160"/>
                  <a:ext cx="0" cy="2951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直接连接符 37"/>
                <p:cNvSpPr/>
                <p:nvPr/>
              </p:nvSpPr>
              <p:spPr>
                <a:xfrm>
                  <a:off x="5722920" y="2144160"/>
                  <a:ext cx="0" cy="2951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直接连接符 38"/>
                <p:cNvSpPr/>
                <p:nvPr/>
              </p:nvSpPr>
              <p:spPr>
                <a:xfrm>
                  <a:off x="6370920" y="2144160"/>
                  <a:ext cx="0" cy="2951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3095640" y="1762200"/>
                <a:ext cx="3851280" cy="371520"/>
                <a:chOff x="3095640" y="1762200"/>
                <a:chExt cx="3851280" cy="371520"/>
              </a:xfrm>
            </p:grpSpPr>
            <p:sp>
              <p:nvSpPr>
                <p:cNvPr id="352" name="TextBox 27"/>
                <p:cNvSpPr/>
                <p:nvPr/>
              </p:nvSpPr>
              <p:spPr>
                <a:xfrm>
                  <a:off x="3095640" y="1765440"/>
                  <a:ext cx="647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Broadway"/>
                    </a:rPr>
                    <a:t>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TextBox 28"/>
                <p:cNvSpPr/>
                <p:nvPr/>
              </p:nvSpPr>
              <p:spPr>
                <a:xfrm>
                  <a:off x="4209120" y="1762200"/>
                  <a:ext cx="664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Broadway"/>
                    </a:rPr>
                    <a:t>4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TextBox 29"/>
                <p:cNvSpPr/>
                <p:nvPr/>
              </p:nvSpPr>
              <p:spPr>
                <a:xfrm>
                  <a:off x="3586320" y="1762200"/>
                  <a:ext cx="780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Broadway"/>
                    </a:rPr>
                    <a:t>2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TextBox 30"/>
                <p:cNvSpPr/>
                <p:nvPr/>
              </p:nvSpPr>
              <p:spPr>
                <a:xfrm>
                  <a:off x="5435280" y="1762200"/>
                  <a:ext cx="79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Broadway"/>
                    </a:rPr>
                    <a:t>8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TextBox 31"/>
                <p:cNvSpPr/>
                <p:nvPr/>
              </p:nvSpPr>
              <p:spPr>
                <a:xfrm>
                  <a:off x="4847760" y="1765440"/>
                  <a:ext cx="659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Broadway"/>
                    </a:rPr>
                    <a:t>6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TextBox 32"/>
                <p:cNvSpPr/>
                <p:nvPr/>
              </p:nvSpPr>
              <p:spPr>
                <a:xfrm>
                  <a:off x="6047280" y="1765440"/>
                  <a:ext cx="899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Broadway"/>
                    </a:rPr>
                    <a:t>100%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2406960" y="2046600"/>
              <a:ext cx="790200" cy="3000600"/>
              <a:chOff x="2406960" y="2046600"/>
              <a:chExt cx="790200" cy="3000600"/>
            </a:xfrm>
          </p:grpSpPr>
          <p:sp>
            <p:nvSpPr>
              <p:cNvPr id="359" name="矩形 28"/>
              <p:cNvSpPr/>
              <p:nvPr/>
            </p:nvSpPr>
            <p:spPr>
              <a:xfrm>
                <a:off x="2406960" y="204660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关于我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矩形 28"/>
              <p:cNvSpPr/>
              <p:nvPr/>
            </p:nvSpPr>
            <p:spPr>
              <a:xfrm>
                <a:off x="2406960" y="286308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荣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矩形 28"/>
              <p:cNvSpPr/>
              <p:nvPr/>
            </p:nvSpPr>
            <p:spPr>
              <a:xfrm>
                <a:off x="2406960" y="367956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团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矩形 28"/>
              <p:cNvSpPr/>
              <p:nvPr/>
            </p:nvSpPr>
            <p:spPr>
              <a:xfrm>
                <a:off x="2406960" y="449604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远星资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3347280" y="2238840"/>
              <a:ext cx="3023640" cy="2682720"/>
              <a:chOff x="3347280" y="2238840"/>
              <a:chExt cx="3023640" cy="2682720"/>
            </a:xfrm>
          </p:grpSpPr>
          <p:sp>
            <p:nvSpPr>
              <p:cNvPr id="364" name="矩形 17"/>
              <p:cNvSpPr/>
              <p:nvPr/>
            </p:nvSpPr>
            <p:spPr>
              <a:xfrm>
                <a:off x="3347280" y="2238840"/>
                <a:ext cx="861480" cy="22536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矩形 18"/>
              <p:cNvSpPr/>
              <p:nvPr/>
            </p:nvSpPr>
            <p:spPr>
              <a:xfrm>
                <a:off x="3347280" y="3089520"/>
                <a:ext cx="150012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矩形 19"/>
              <p:cNvSpPr/>
              <p:nvPr/>
            </p:nvSpPr>
            <p:spPr>
              <a:xfrm>
                <a:off x="3347280" y="3894840"/>
                <a:ext cx="208800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矩形 20"/>
              <p:cNvSpPr/>
              <p:nvPr/>
            </p:nvSpPr>
            <p:spPr>
              <a:xfrm>
                <a:off x="3347280" y="4696200"/>
                <a:ext cx="3023640" cy="22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8" name="平行四边形 7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表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372" name="图片 13" descr=""/>
            <p:cNvPicPr/>
            <p:nvPr/>
          </p:nvPicPr>
          <p:blipFill>
            <a:blip r:embed="rId1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平行四边形 9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847160" y="1871640"/>
            <a:ext cx="5317200" cy="2413800"/>
            <a:chOff x="1847160" y="1871640"/>
            <a:chExt cx="5317200" cy="2413800"/>
          </a:xfrm>
        </p:grpSpPr>
        <p:sp>
          <p:nvSpPr>
            <p:cNvPr id="377" name="矩形 1"/>
            <p:cNvSpPr/>
            <p:nvPr/>
          </p:nvSpPr>
          <p:spPr>
            <a:xfrm>
              <a:off x="1847160" y="2527560"/>
              <a:ext cx="1245960" cy="1498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21"/>
            <p:cNvSpPr/>
            <p:nvPr/>
          </p:nvSpPr>
          <p:spPr>
            <a:xfrm>
              <a:off x="3107520" y="2527560"/>
              <a:ext cx="1245960" cy="14986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22"/>
            <p:cNvSpPr/>
            <p:nvPr/>
          </p:nvSpPr>
          <p:spPr>
            <a:xfrm>
              <a:off x="4366440" y="2527560"/>
              <a:ext cx="1247760" cy="14986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23"/>
            <p:cNvSpPr/>
            <p:nvPr/>
          </p:nvSpPr>
          <p:spPr>
            <a:xfrm>
              <a:off x="5627160" y="2527560"/>
              <a:ext cx="1247760" cy="14986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28"/>
            <p:cNvSpPr/>
            <p:nvPr/>
          </p:nvSpPr>
          <p:spPr>
            <a:xfrm>
              <a:off x="3325320" y="254808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远星荣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29"/>
            <p:cNvSpPr/>
            <p:nvPr/>
          </p:nvSpPr>
          <p:spPr>
            <a:xfrm>
              <a:off x="4586040" y="254808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远星团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30"/>
            <p:cNvSpPr/>
            <p:nvPr/>
          </p:nvSpPr>
          <p:spPr>
            <a:xfrm>
              <a:off x="5846400" y="254808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远星资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20"/>
            <p:cNvSpPr/>
            <p:nvPr/>
          </p:nvSpPr>
          <p:spPr>
            <a:xfrm>
              <a:off x="2547000" y="327708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Broadway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直接连接符 7167"/>
            <p:cNvSpPr/>
            <p:nvPr/>
          </p:nvSpPr>
          <p:spPr>
            <a:xfrm>
              <a:off x="1869120" y="2406960"/>
              <a:ext cx="529524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38"/>
            <p:cNvSpPr/>
            <p:nvPr/>
          </p:nvSpPr>
          <p:spPr>
            <a:xfrm>
              <a:off x="3818520" y="327708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Broadway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39"/>
            <p:cNvSpPr/>
            <p:nvPr/>
          </p:nvSpPr>
          <p:spPr>
            <a:xfrm>
              <a:off x="5090040" y="327708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Broadway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Box 40"/>
            <p:cNvSpPr/>
            <p:nvPr/>
          </p:nvSpPr>
          <p:spPr>
            <a:xfrm>
              <a:off x="6284160" y="327708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Broadway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直接连接符 7172"/>
            <p:cNvSpPr/>
            <p:nvPr/>
          </p:nvSpPr>
          <p:spPr>
            <a:xfrm>
              <a:off x="1869120" y="2251440"/>
              <a:ext cx="0" cy="20952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直接连接符 50"/>
            <p:cNvSpPr/>
            <p:nvPr/>
          </p:nvSpPr>
          <p:spPr>
            <a:xfrm>
              <a:off x="3123360" y="2251440"/>
              <a:ext cx="0" cy="20952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直接连接符 51"/>
            <p:cNvSpPr/>
            <p:nvPr/>
          </p:nvSpPr>
          <p:spPr>
            <a:xfrm>
              <a:off x="4377600" y="2251440"/>
              <a:ext cx="0" cy="20952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直接连接符 52"/>
            <p:cNvSpPr/>
            <p:nvPr/>
          </p:nvSpPr>
          <p:spPr>
            <a:xfrm>
              <a:off x="5631840" y="2251440"/>
              <a:ext cx="0" cy="20952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直接连接符 53"/>
            <p:cNvSpPr/>
            <p:nvPr/>
          </p:nvSpPr>
          <p:spPr>
            <a:xfrm>
              <a:off x="6886080" y="2251440"/>
              <a:ext cx="0" cy="20952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Box 7177"/>
            <p:cNvSpPr/>
            <p:nvPr/>
          </p:nvSpPr>
          <p:spPr>
            <a:xfrm>
              <a:off x="1929960" y="1871640"/>
              <a:ext cx="86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Broadway"/>
                </a:rPr>
                <a:t>Part   </a:t>
              </a:r>
              <a:r>
                <a:rPr b="0" lang="en-US" sz="2800" spc="-1" strike="noStrike">
                  <a:solidFill>
                    <a:srgbClr val="7f7f7f"/>
                  </a:solidFill>
                  <a:latin typeface="Broadway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Box 7177"/>
            <p:cNvSpPr/>
            <p:nvPr/>
          </p:nvSpPr>
          <p:spPr>
            <a:xfrm>
              <a:off x="3211200" y="1871640"/>
              <a:ext cx="86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Broadway"/>
                </a:rPr>
                <a:t>Part   </a:t>
              </a:r>
              <a:r>
                <a:rPr b="0" lang="en-US" sz="2800" spc="-1" strike="noStrike">
                  <a:solidFill>
                    <a:srgbClr val="7f7f7f"/>
                  </a:solidFill>
                  <a:latin typeface="Broadway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7177"/>
            <p:cNvSpPr/>
            <p:nvPr/>
          </p:nvSpPr>
          <p:spPr>
            <a:xfrm>
              <a:off x="4489920" y="18716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Broadway"/>
                </a:rPr>
                <a:t>Part  </a:t>
              </a:r>
              <a:r>
                <a:rPr b="0" lang="en-US" sz="2800" spc="-1" strike="noStrike">
                  <a:solidFill>
                    <a:srgbClr val="7f7f7f"/>
                  </a:solidFill>
                  <a:latin typeface="Broadway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Box 7177"/>
            <p:cNvSpPr/>
            <p:nvPr/>
          </p:nvSpPr>
          <p:spPr>
            <a:xfrm>
              <a:off x="5675400" y="18716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Broadway"/>
                </a:rPr>
                <a:t>Part  </a:t>
              </a:r>
              <a:r>
                <a:rPr b="0" lang="en-US" sz="2800" spc="-1" strike="noStrike">
                  <a:solidFill>
                    <a:srgbClr val="7f7f7f"/>
                  </a:solidFill>
                  <a:latin typeface="Broadway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8"/>
            <p:cNvSpPr/>
            <p:nvPr/>
          </p:nvSpPr>
          <p:spPr>
            <a:xfrm>
              <a:off x="2056320" y="25862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关于我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矩形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4"/>
          <p:cNvSpPr/>
          <p:nvPr/>
        </p:nvSpPr>
        <p:spPr>
          <a:xfrm>
            <a:off x="826920" y="800280"/>
            <a:ext cx="74883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86440" y="5324400"/>
            <a:ext cx="1616040" cy="765360"/>
            <a:chOff x="6886440" y="5324400"/>
            <a:chExt cx="1616040" cy="765360"/>
          </a:xfrm>
        </p:grpSpPr>
        <p:pic>
          <p:nvPicPr>
            <p:cNvPr id="402" name="图片 13" descr=""/>
            <p:cNvPicPr/>
            <p:nvPr/>
          </p:nvPicPr>
          <p:blipFill>
            <a:blip r:embed="rId1"/>
            <a:stretch/>
          </p:blipFill>
          <p:spPr>
            <a:xfrm>
              <a:off x="6886440" y="5324400"/>
              <a:ext cx="67428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TextBox 14"/>
            <p:cNvSpPr/>
            <p:nvPr/>
          </p:nvSpPr>
          <p:spPr>
            <a:xfrm>
              <a:off x="7423200" y="55443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小小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直接连接符 15"/>
          <p:cNvSpPr/>
          <p:nvPr/>
        </p:nvSpPr>
        <p:spPr>
          <a:xfrm>
            <a:off x="826920" y="5745240"/>
            <a:ext cx="6059520" cy="0"/>
          </a:xfrm>
          <a:prstGeom prst="line">
            <a:avLst/>
          </a:prstGeom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平行四边形 9"/>
          <p:cNvSpPr/>
          <p:nvPr/>
        </p:nvSpPr>
        <p:spPr>
          <a:xfrm>
            <a:off x="225360" y="1017720"/>
            <a:ext cx="2930760" cy="823680"/>
          </a:xfrm>
          <a:prstGeom prst="parallelogram">
            <a:avLst>
              <a:gd name="adj" fmla="val 250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</a:t>
            </a:r>
            <a:r>
              <a:rPr b="1" lang="en-US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|</a:t>
            </a: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创意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974880" y="2852640"/>
            <a:ext cx="7226280" cy="1348920"/>
            <a:chOff x="974880" y="2852640"/>
            <a:chExt cx="7226280" cy="1348920"/>
          </a:xfrm>
        </p:grpSpPr>
        <p:grpSp>
          <p:nvGrpSpPr>
            <p:cNvPr id="407" name=""/>
            <p:cNvGrpSpPr/>
            <p:nvPr/>
          </p:nvGrpSpPr>
          <p:grpSpPr>
            <a:xfrm>
              <a:off x="1143720" y="2852640"/>
              <a:ext cx="7057440" cy="1008000"/>
              <a:chOff x="1143720" y="2852640"/>
              <a:chExt cx="7057440" cy="1008000"/>
            </a:xfrm>
          </p:grpSpPr>
          <p:sp>
            <p:nvSpPr>
              <p:cNvPr id="408" name="五边形 29"/>
              <p:cNvSpPr/>
              <p:nvPr/>
            </p:nvSpPr>
            <p:spPr>
              <a:xfrm>
                <a:off x="1143720" y="2852640"/>
                <a:ext cx="2016360" cy="1008000"/>
              </a:xfrm>
              <a:custGeom>
                <a:avLst/>
                <a:gdLst>
                  <a:gd name="textAreaLeft" fmla="*/ 0 w 2016360"/>
                  <a:gd name="textAreaRight" fmla="*/ 2016720 w 201636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燕尾形 30"/>
              <p:cNvSpPr/>
              <p:nvPr/>
            </p:nvSpPr>
            <p:spPr>
              <a:xfrm>
                <a:off x="2823840" y="2852640"/>
                <a:ext cx="2016360" cy="1008000"/>
              </a:xfrm>
              <a:custGeom>
                <a:avLst/>
                <a:gdLst>
                  <a:gd name="textAreaLeft" fmla="*/ 0 w 2016360"/>
                  <a:gd name="textAreaRight" fmla="*/ 2016720 w 201636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燕尾形 31"/>
              <p:cNvSpPr/>
              <p:nvPr/>
            </p:nvSpPr>
            <p:spPr>
              <a:xfrm>
                <a:off x="4504320" y="2852640"/>
                <a:ext cx="2016360" cy="1008000"/>
              </a:xfrm>
              <a:custGeom>
                <a:avLst/>
                <a:gdLst>
                  <a:gd name="textAreaLeft" fmla="*/ 0 w 2016360"/>
                  <a:gd name="textAreaRight" fmla="*/ 2016720 w 201636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燕尾形 32"/>
              <p:cNvSpPr/>
              <p:nvPr/>
            </p:nvSpPr>
            <p:spPr>
              <a:xfrm>
                <a:off x="6184800" y="2852640"/>
                <a:ext cx="2016360" cy="1008000"/>
              </a:xfrm>
              <a:custGeom>
                <a:avLst/>
                <a:gdLst>
                  <a:gd name="textAreaLeft" fmla="*/ 0 w 2016360"/>
                  <a:gd name="textAreaRight" fmla="*/ 2016720 w 201636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974880" y="2852640"/>
              <a:ext cx="1232640" cy="1348920"/>
              <a:chOff x="974880" y="2852640"/>
              <a:chExt cx="1232640" cy="1348920"/>
            </a:xfrm>
          </p:grpSpPr>
          <p:sp>
            <p:nvSpPr>
              <p:cNvPr id="413" name="TextBox 27"/>
              <p:cNvSpPr/>
              <p:nvPr/>
            </p:nvSpPr>
            <p:spPr>
              <a:xfrm>
                <a:off x="974880" y="3102120"/>
                <a:ext cx="108000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1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矩形 28"/>
              <p:cNvSpPr/>
              <p:nvPr/>
            </p:nvSpPr>
            <p:spPr>
              <a:xfrm>
                <a:off x="1417320" y="285264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关于我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3160080" y="2852640"/>
              <a:ext cx="1134000" cy="1322640"/>
              <a:chOff x="3160080" y="2852640"/>
              <a:chExt cx="1134000" cy="1322640"/>
            </a:xfrm>
          </p:grpSpPr>
          <p:sp>
            <p:nvSpPr>
              <p:cNvPr id="416" name="TextBox 25"/>
              <p:cNvSpPr/>
              <p:nvPr/>
            </p:nvSpPr>
            <p:spPr>
              <a:xfrm>
                <a:off x="3160080" y="3075840"/>
                <a:ext cx="1080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2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矩形 28"/>
              <p:cNvSpPr/>
              <p:nvPr/>
            </p:nvSpPr>
            <p:spPr>
              <a:xfrm>
                <a:off x="3503880" y="285264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远星荣誉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4910400" y="2852640"/>
              <a:ext cx="1134000" cy="1322640"/>
              <a:chOff x="4910400" y="2852640"/>
              <a:chExt cx="1134000" cy="1322640"/>
            </a:xfrm>
          </p:grpSpPr>
          <p:sp>
            <p:nvSpPr>
              <p:cNvPr id="419" name="TextBox 23"/>
              <p:cNvSpPr/>
              <p:nvPr/>
            </p:nvSpPr>
            <p:spPr>
              <a:xfrm>
                <a:off x="4910400" y="3075840"/>
                <a:ext cx="1080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3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矩形 28"/>
              <p:cNvSpPr/>
              <p:nvPr/>
            </p:nvSpPr>
            <p:spPr>
              <a:xfrm>
                <a:off x="5254200" y="285264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远星团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6521040" y="2852640"/>
              <a:ext cx="1134000" cy="1322640"/>
              <a:chOff x="6521040" y="2852640"/>
              <a:chExt cx="1134000" cy="1322640"/>
            </a:xfrm>
          </p:grpSpPr>
          <p:sp>
            <p:nvSpPr>
              <p:cNvPr id="422" name="TextBox 21"/>
              <p:cNvSpPr/>
              <p:nvPr/>
            </p:nvSpPr>
            <p:spPr>
              <a:xfrm>
                <a:off x="6521040" y="3075840"/>
                <a:ext cx="1080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ffffff"/>
                    </a:solidFill>
                    <a:latin typeface="Broadway"/>
                  </a:rPr>
                  <a:t>4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矩形 28"/>
              <p:cNvSpPr/>
              <p:nvPr/>
            </p:nvSpPr>
            <p:spPr>
              <a:xfrm>
                <a:off x="6864840" y="2852640"/>
                <a:ext cx="7902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远星资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3:11:00Z</dcterms:created>
  <dc:creator>微软用户</dc:creator>
  <dc:description/>
  <dc:language>en-US</dc:language>
  <cp:lastModifiedBy>微软用户</cp:lastModifiedBy>
  <dcterms:modified xsi:type="dcterms:W3CDTF">2015-06-13T08:40:33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