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B2C-7BC0-49A4-8ED2-15F745DA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15C-50B6-45EA-B9DF-C76F672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3D4-6E42-47C4-BC20-DAC2870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D02-D01F-4C8A-895B-F6826CB6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B34-C35B-4470-8C42-F8DF9171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2F6-3628-4DA1-A413-637CA2F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87C-3D48-48F7-9CB2-AD92498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0AE-FF0A-494F-A6B3-E472A494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6CF-36DE-4761-B0C8-713424E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D5D-3CC5-44B2-8F42-0A400B7A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171-016B-4EC6-84A6-55555E3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03C-2E0B-40E4-8BB5-8397112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692-5757-4E55-AC40-EAB897B1D18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634A-E888-4BF5-97BC-8A2D7FBBB0B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11"/>
          <p:cNvSpPr/>
          <p:nvPr/>
        </p:nvSpPr>
        <p:spPr>
          <a:xfrm>
            <a:off x="3783240" y="33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击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添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加</a:t>
            </a:r>
            <a:r>
              <a:rPr b="1" lang="zh-CN" sz="3600" spc="-1" strike="noStrike">
                <a:solidFill>
                  <a:srgbClr val="e36c09"/>
                </a:solidFill>
                <a:latin typeface="华文楷体"/>
                <a:ea typeface="华文楷体"/>
              </a:rPr>
              <a:t>标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43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49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饼形 19"/>
            <p:cNvSpPr/>
            <p:nvPr/>
          </p:nvSpPr>
          <p:spPr>
            <a:xfrm flipH="1" rot="10800000">
              <a:off x="3686400" y="278424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800080" y="1928160"/>
            <a:ext cx="3522600" cy="3522600"/>
            <a:chOff x="2800080" y="1928160"/>
            <a:chExt cx="3522600" cy="3522600"/>
          </a:xfrm>
        </p:grpSpPr>
        <p:sp>
          <p:nvSpPr>
            <p:cNvPr id="55" name="饼形 24"/>
            <p:cNvSpPr/>
            <p:nvPr/>
          </p:nvSpPr>
          <p:spPr>
            <a:xfrm flipV="1" rot="10800000">
              <a:off x="2800080" y="192780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饼形 25"/>
            <p:cNvSpPr/>
            <p:nvPr/>
          </p:nvSpPr>
          <p:spPr>
            <a:xfrm flipV="1" rot="10800000">
              <a:off x="3176280" y="231192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饼形 26"/>
            <p:cNvSpPr/>
            <p:nvPr/>
          </p:nvSpPr>
          <p:spPr>
            <a:xfrm flipV="1" rot="10800000">
              <a:off x="3426840" y="25722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饼形 27"/>
            <p:cNvSpPr/>
            <p:nvPr/>
          </p:nvSpPr>
          <p:spPr>
            <a:xfrm flipV="1" rot="10800000">
              <a:off x="3669840" y="28245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饼形 28"/>
            <p:cNvSpPr/>
            <p:nvPr/>
          </p:nvSpPr>
          <p:spPr>
            <a:xfrm flipV="1" rot="10800000">
              <a:off x="3827520" y="29700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61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饼形 34"/>
            <p:cNvSpPr/>
            <p:nvPr/>
          </p:nvSpPr>
          <p:spPr>
            <a:xfrm flipH="1" flipV="1" rot="10800000">
              <a:off x="3681720" y="282456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饼形 35"/>
            <p:cNvSpPr/>
            <p:nvPr/>
          </p:nvSpPr>
          <p:spPr>
            <a:xfrm flipH="1" flipV="1" rot="10800000">
              <a:off x="3836880" y="29700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95040" y="1929240"/>
            <a:ext cx="3522600" cy="3522600"/>
            <a:chOff x="2795040" y="1929240"/>
            <a:chExt cx="3522600" cy="3522600"/>
          </a:xfrm>
        </p:grpSpPr>
        <p:sp>
          <p:nvSpPr>
            <p:cNvPr id="67" name="饼形 38"/>
            <p:cNvSpPr/>
            <p:nvPr/>
          </p:nvSpPr>
          <p:spPr>
            <a:xfrm flipH="1" flipV="1" rot="5400000">
              <a:off x="2794680" y="192888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饼形 39"/>
            <p:cNvSpPr/>
            <p:nvPr/>
          </p:nvSpPr>
          <p:spPr>
            <a:xfrm flipH="1" flipV="1" rot="5400000">
              <a:off x="3178800" y="230508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饼形 40"/>
            <p:cNvSpPr/>
            <p:nvPr/>
          </p:nvSpPr>
          <p:spPr>
            <a:xfrm flipH="1" flipV="1" rot="5400000">
              <a:off x="3439080" y="255600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饼形 41"/>
            <p:cNvSpPr/>
            <p:nvPr/>
          </p:nvSpPr>
          <p:spPr>
            <a:xfrm flipH="1" flipV="1" rot="5400000">
              <a:off x="3691440" y="279900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饼形 42"/>
            <p:cNvSpPr/>
            <p:nvPr/>
          </p:nvSpPr>
          <p:spPr>
            <a:xfrm flipH="1" flipV="1" rot="5400000">
              <a:off x="3836880" y="2955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01520" y="1928880"/>
            <a:ext cx="3522600" cy="3522600"/>
            <a:chOff x="2801520" y="1928880"/>
            <a:chExt cx="3522600" cy="3522600"/>
          </a:xfrm>
        </p:grpSpPr>
        <p:sp>
          <p:nvSpPr>
            <p:cNvPr id="73" name="饼形 45"/>
            <p:cNvSpPr/>
            <p:nvPr/>
          </p:nvSpPr>
          <p:spPr>
            <a:xfrm rot="5400000">
              <a:off x="2801520" y="19285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饼形 46"/>
            <p:cNvSpPr/>
            <p:nvPr/>
          </p:nvSpPr>
          <p:spPr>
            <a:xfrm rot="5400000">
              <a:off x="3169800" y="230472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饼形 47"/>
            <p:cNvSpPr/>
            <p:nvPr/>
          </p:nvSpPr>
          <p:spPr>
            <a:xfrm rot="5400000">
              <a:off x="3420360" y="25650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饼形 48"/>
            <p:cNvSpPr/>
            <p:nvPr/>
          </p:nvSpPr>
          <p:spPr>
            <a:xfrm rot="5400000">
              <a:off x="3657240" y="28112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饼形 49"/>
            <p:cNvSpPr/>
            <p:nvPr/>
          </p:nvSpPr>
          <p:spPr>
            <a:xfrm rot="5400000">
              <a:off x="3824280" y="29653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79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饼形 55"/>
            <p:cNvSpPr/>
            <p:nvPr/>
          </p:nvSpPr>
          <p:spPr>
            <a:xfrm flipH="1" rot="16200000">
              <a:off x="3694320" y="281124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00080" y="1920600"/>
            <a:ext cx="3522600" cy="3522600"/>
            <a:chOff x="2800080" y="1920600"/>
            <a:chExt cx="3522600" cy="3522600"/>
          </a:xfrm>
        </p:grpSpPr>
        <p:sp>
          <p:nvSpPr>
            <p:cNvPr id="85" name="饼形 60"/>
            <p:cNvSpPr/>
            <p:nvPr/>
          </p:nvSpPr>
          <p:spPr>
            <a:xfrm flipV="1" rot="16200000">
              <a:off x="2800080" y="192024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61"/>
            <p:cNvSpPr/>
            <p:nvPr/>
          </p:nvSpPr>
          <p:spPr>
            <a:xfrm flipV="1" rot="16200000">
              <a:off x="3168360" y="2296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62"/>
            <p:cNvSpPr/>
            <p:nvPr/>
          </p:nvSpPr>
          <p:spPr>
            <a:xfrm flipV="1" rot="16200000">
              <a:off x="3418920" y="25470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3"/>
            <p:cNvSpPr/>
            <p:nvPr/>
          </p:nvSpPr>
          <p:spPr>
            <a:xfrm flipV="1" rot="16200000">
              <a:off x="3655800" y="279000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饼形 64"/>
            <p:cNvSpPr/>
            <p:nvPr/>
          </p:nvSpPr>
          <p:spPr>
            <a:xfrm flipV="1" rot="16200000">
              <a:off x="3822840" y="2948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625320"/>
            <a:ext cx="53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感彩虹多色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93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99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105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111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117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123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129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135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Box 50"/>
          <p:cNvSpPr/>
          <p:nvPr/>
        </p:nvSpPr>
        <p:spPr>
          <a:xfrm>
            <a:off x="3635640" y="299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点击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142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148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154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160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166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172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178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184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190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58"/>
            <p:cNvSpPr/>
            <p:nvPr/>
          </p:nvSpPr>
          <p:spPr>
            <a:xfrm rot="10800000">
              <a:off x="2278800" y="2060640"/>
              <a:ext cx="993960" cy="99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59"/>
            <p:cNvSpPr/>
            <p:nvPr/>
          </p:nvSpPr>
          <p:spPr>
            <a:xfrm rot="10800000">
              <a:off x="2368800" y="2150640"/>
              <a:ext cx="810360" cy="81036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65"/>
            <p:cNvSpPr/>
            <p:nvPr/>
          </p:nvSpPr>
          <p:spPr>
            <a:xfrm rot="10800000">
              <a:off x="2455200" y="2235600"/>
              <a:ext cx="635040" cy="6350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饼形 66"/>
            <p:cNvSpPr/>
            <p:nvPr/>
          </p:nvSpPr>
          <p:spPr>
            <a:xfrm rot="10800000">
              <a:off x="2511360" y="2295360"/>
              <a:ext cx="523440" cy="52344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矩形 67"/>
          <p:cNvSpPr/>
          <p:nvPr/>
        </p:nvSpPr>
        <p:spPr>
          <a:xfrm>
            <a:off x="2857680" y="1928880"/>
            <a:ext cx="3429000" cy="64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43080" y="2857680"/>
            <a:ext cx="1279440" cy="1279440"/>
            <a:chOff x="2143080" y="2857680"/>
            <a:chExt cx="1279440" cy="1279440"/>
          </a:xfrm>
        </p:grpSpPr>
        <p:sp>
          <p:nvSpPr>
            <p:cNvPr id="197" name="饼形 82"/>
            <p:cNvSpPr/>
            <p:nvPr/>
          </p:nvSpPr>
          <p:spPr>
            <a:xfrm rot="10800000">
              <a:off x="2143080" y="2857680"/>
              <a:ext cx="1279440" cy="1279440"/>
            </a:xfrm>
            <a:custGeom>
              <a:avLst/>
              <a:gdLst>
                <a:gd name="textAreaLeft" fmla="*/ 0 w 1279440"/>
                <a:gd name="textAreaRight" fmla="*/ 1279800 w 127944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83"/>
            <p:cNvSpPr/>
            <p:nvPr/>
          </p:nvSpPr>
          <p:spPr>
            <a:xfrm rot="10800000">
              <a:off x="2279160" y="2990880"/>
              <a:ext cx="1006200" cy="100620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84"/>
            <p:cNvSpPr/>
            <p:nvPr/>
          </p:nvSpPr>
          <p:spPr>
            <a:xfrm rot="10800000">
              <a:off x="2370240" y="3081960"/>
              <a:ext cx="820440" cy="820440"/>
            </a:xfrm>
            <a:custGeom>
              <a:avLst/>
              <a:gdLst>
                <a:gd name="textAreaLeft" fmla="*/ 0 w 820440"/>
                <a:gd name="textAreaRight" fmla="*/ 820800 w 82044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85"/>
            <p:cNvSpPr/>
            <p:nvPr/>
          </p:nvSpPr>
          <p:spPr>
            <a:xfrm rot="10800000">
              <a:off x="2458800" y="3168360"/>
              <a:ext cx="642960" cy="6429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饼形 86"/>
            <p:cNvSpPr/>
            <p:nvPr/>
          </p:nvSpPr>
          <p:spPr>
            <a:xfrm rot="10800000">
              <a:off x="2516040" y="3228840"/>
              <a:ext cx="529920" cy="5299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矩形 87"/>
          <p:cNvSpPr/>
          <p:nvPr/>
        </p:nvSpPr>
        <p:spPr>
          <a:xfrm>
            <a:off x="2857680" y="286380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04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96"/>
            <p:cNvSpPr/>
            <p:nvPr/>
          </p:nvSpPr>
          <p:spPr>
            <a:xfrm rot="10800000">
              <a:off x="2283120" y="3924720"/>
              <a:ext cx="1035000" cy="10350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97"/>
            <p:cNvSpPr/>
            <p:nvPr/>
          </p:nvSpPr>
          <p:spPr>
            <a:xfrm rot="10800000">
              <a:off x="2376720" y="4017960"/>
              <a:ext cx="844200" cy="84420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844200"/>
                <a:gd name="textAreaBottom" fmla="*/ 844560 h 8442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饼形 98"/>
            <p:cNvSpPr/>
            <p:nvPr/>
          </p:nvSpPr>
          <p:spPr>
            <a:xfrm rot="10800000">
              <a:off x="2467800" y="4106520"/>
              <a:ext cx="661320" cy="6613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饼形 99"/>
            <p:cNvSpPr/>
            <p:nvPr/>
          </p:nvSpPr>
          <p:spPr>
            <a:xfrm rot="10800000">
              <a:off x="2526840" y="4168080"/>
              <a:ext cx="545040" cy="54504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矩形 100"/>
          <p:cNvSpPr/>
          <p:nvPr/>
        </p:nvSpPr>
        <p:spPr>
          <a:xfrm>
            <a:off x="2857680" y="378612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107"/>
          <p:cNvSpPr/>
          <p:nvPr/>
        </p:nvSpPr>
        <p:spPr>
          <a:xfrm>
            <a:off x="1714680" y="1857240"/>
            <a:ext cx="5643360" cy="3857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212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218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224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230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236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242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248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254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260" name="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261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饼形 72"/>
              <p:cNvSpPr/>
              <p:nvPr/>
            </p:nvSpPr>
            <p:spPr>
              <a:xfrm rot="12161400">
                <a:off x="3991680" y="1560960"/>
                <a:ext cx="1045080" cy="104400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饼形 73"/>
              <p:cNvSpPr/>
              <p:nvPr/>
            </p:nvSpPr>
            <p:spPr>
              <a:xfrm rot="12161400">
                <a:off x="4087080" y="1654920"/>
                <a:ext cx="852120" cy="851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饼形 74"/>
              <p:cNvSpPr/>
              <p:nvPr/>
            </p:nvSpPr>
            <p:spPr>
              <a:xfrm rot="12161400">
                <a:off x="4179960" y="1743840"/>
                <a:ext cx="667800" cy="66708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饼形 75"/>
              <p:cNvSpPr/>
              <p:nvPr/>
            </p:nvSpPr>
            <p:spPr>
              <a:xfrm rot="12161400">
                <a:off x="4237560" y="1806840"/>
                <a:ext cx="550440" cy="5497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267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饼形 78"/>
              <p:cNvSpPr/>
              <p:nvPr/>
            </p:nvSpPr>
            <p:spPr>
              <a:xfrm flipH="1" rot="12160800">
                <a:off x="3990960" y="1560600"/>
                <a:ext cx="1045080" cy="1044000"/>
              </a:xfrm>
              <a:custGeom>
                <a:avLst/>
                <a:gdLst>
                  <a:gd name="textAreaLeft" fmla="*/ -360 w 1045080"/>
                  <a:gd name="textAreaRight" fmla="*/ 104508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饼形 79"/>
              <p:cNvSpPr/>
              <p:nvPr/>
            </p:nvSpPr>
            <p:spPr>
              <a:xfrm flipH="1" rot="12160800">
                <a:off x="4089960" y="1655280"/>
                <a:ext cx="852120" cy="851400"/>
              </a:xfrm>
              <a:custGeom>
                <a:avLst/>
                <a:gdLst>
                  <a:gd name="textAreaLeft" fmla="*/ -360 w 852120"/>
                  <a:gd name="textAreaRight" fmla="*/ 85212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饼形 80"/>
              <p:cNvSpPr/>
              <p:nvPr/>
            </p:nvSpPr>
            <p:spPr>
              <a:xfrm flipH="1" rot="12160800">
                <a:off x="4183920" y="1745280"/>
                <a:ext cx="667800" cy="667080"/>
              </a:xfrm>
              <a:custGeom>
                <a:avLst/>
                <a:gdLst>
                  <a:gd name="textAreaLeft" fmla="*/ -360 w 667800"/>
                  <a:gd name="textAreaRight" fmla="*/ 66780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饼形 81"/>
              <p:cNvSpPr/>
              <p:nvPr/>
            </p:nvSpPr>
            <p:spPr>
              <a:xfrm flipH="1" rot="12160800">
                <a:off x="4240440" y="1807200"/>
                <a:ext cx="550440" cy="549720"/>
              </a:xfrm>
              <a:custGeom>
                <a:avLst/>
                <a:gdLst>
                  <a:gd name="textAreaLeft" fmla="*/ -360 w 550440"/>
                  <a:gd name="textAreaRight" fmla="*/ 55044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273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1328760"/>
                  <a:gd name="textAreaBottom" fmla="*/ 1328760 h 1328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饼形 102"/>
              <p:cNvSpPr/>
              <p:nvPr/>
            </p:nvSpPr>
            <p:spPr>
              <a:xfrm flipV="1" rot="17560800">
                <a:off x="3988080" y="1558440"/>
                <a:ext cx="1044000" cy="104508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-360 h 1045080"/>
                  <a:gd name="textAreaBottom" fmla="*/ 1045080 h 10450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饼形 103"/>
              <p:cNvSpPr/>
              <p:nvPr/>
            </p:nvSpPr>
            <p:spPr>
              <a:xfrm flipV="1" rot="17560800">
                <a:off x="4083120" y="1651680"/>
                <a:ext cx="851400" cy="85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-360 h 852120"/>
                  <a:gd name="textAreaBottom" fmla="*/ 852120 h 8521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饼形 104"/>
              <p:cNvSpPr/>
              <p:nvPr/>
            </p:nvSpPr>
            <p:spPr>
              <a:xfrm flipV="1" rot="17560800">
                <a:off x="4172760" y="1742040"/>
                <a:ext cx="667080" cy="6678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-360 h 667800"/>
                  <a:gd name="textAreaBottom" fmla="*/ 667800 h 6678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饼形 105"/>
              <p:cNvSpPr/>
              <p:nvPr/>
            </p:nvSpPr>
            <p:spPr>
              <a:xfrm flipV="1" rot="17560800">
                <a:off x="4235040" y="1802880"/>
                <a:ext cx="549720" cy="550440"/>
              </a:xfrm>
              <a:custGeom>
                <a:avLst/>
                <a:gdLst>
                  <a:gd name="textAreaLeft" fmla="*/ 0 w 549720"/>
                  <a:gd name="textAreaRight" fmla="*/ 550080 w 54972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07"/>
          <p:cNvSpPr/>
          <p:nvPr/>
        </p:nvSpPr>
        <p:spPr>
          <a:xfrm>
            <a:off x="1714680" y="1857240"/>
            <a:ext cx="5643360" cy="3857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280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286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292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298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304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310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316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322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28" name="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29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饼形 72"/>
              <p:cNvSpPr/>
              <p:nvPr/>
            </p:nvSpPr>
            <p:spPr>
              <a:xfrm rot="12161400">
                <a:off x="3991680" y="1560960"/>
                <a:ext cx="1045080" cy="104400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饼形 73"/>
              <p:cNvSpPr/>
              <p:nvPr/>
            </p:nvSpPr>
            <p:spPr>
              <a:xfrm rot="12161400">
                <a:off x="4087080" y="1654920"/>
                <a:ext cx="852120" cy="851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饼形 74"/>
              <p:cNvSpPr/>
              <p:nvPr/>
            </p:nvSpPr>
            <p:spPr>
              <a:xfrm rot="12161400">
                <a:off x="4179960" y="1743840"/>
                <a:ext cx="667800" cy="66708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饼形 75"/>
              <p:cNvSpPr/>
              <p:nvPr/>
            </p:nvSpPr>
            <p:spPr>
              <a:xfrm rot="12161400">
                <a:off x="4237560" y="1806840"/>
                <a:ext cx="550440" cy="5497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35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饼形 78"/>
              <p:cNvSpPr/>
              <p:nvPr/>
            </p:nvSpPr>
            <p:spPr>
              <a:xfrm flipH="1" rot="12160800">
                <a:off x="3990960" y="1560600"/>
                <a:ext cx="1045080" cy="1044000"/>
              </a:xfrm>
              <a:custGeom>
                <a:avLst/>
                <a:gdLst>
                  <a:gd name="textAreaLeft" fmla="*/ -360 w 1045080"/>
                  <a:gd name="textAreaRight" fmla="*/ 104508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饼形 79"/>
              <p:cNvSpPr/>
              <p:nvPr/>
            </p:nvSpPr>
            <p:spPr>
              <a:xfrm flipH="1" rot="12160800">
                <a:off x="4089960" y="1655280"/>
                <a:ext cx="852120" cy="851400"/>
              </a:xfrm>
              <a:custGeom>
                <a:avLst/>
                <a:gdLst>
                  <a:gd name="textAreaLeft" fmla="*/ -360 w 852120"/>
                  <a:gd name="textAreaRight" fmla="*/ 85212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饼形 80"/>
              <p:cNvSpPr/>
              <p:nvPr/>
            </p:nvSpPr>
            <p:spPr>
              <a:xfrm flipH="1" rot="12160800">
                <a:off x="4183920" y="1745280"/>
                <a:ext cx="667800" cy="667080"/>
              </a:xfrm>
              <a:custGeom>
                <a:avLst/>
                <a:gdLst>
                  <a:gd name="textAreaLeft" fmla="*/ -360 w 667800"/>
                  <a:gd name="textAreaRight" fmla="*/ 66780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饼形 81"/>
              <p:cNvSpPr/>
              <p:nvPr/>
            </p:nvSpPr>
            <p:spPr>
              <a:xfrm flipH="1" rot="12160800">
                <a:off x="4240440" y="1807200"/>
                <a:ext cx="550440" cy="549720"/>
              </a:xfrm>
              <a:custGeom>
                <a:avLst/>
                <a:gdLst>
                  <a:gd name="textAreaLeft" fmla="*/ -360 w 550440"/>
                  <a:gd name="textAreaRight" fmla="*/ 55044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41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1328760"/>
                  <a:gd name="textAreaBottom" fmla="*/ 1328760 h 1328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饼形 102"/>
              <p:cNvSpPr/>
              <p:nvPr/>
            </p:nvSpPr>
            <p:spPr>
              <a:xfrm flipV="1" rot="17560800">
                <a:off x="3988080" y="1558440"/>
                <a:ext cx="1044000" cy="104508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-360 h 1045080"/>
                  <a:gd name="textAreaBottom" fmla="*/ 1045080 h 10450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饼形 103"/>
              <p:cNvSpPr/>
              <p:nvPr/>
            </p:nvSpPr>
            <p:spPr>
              <a:xfrm flipV="1" rot="17560800">
                <a:off x="4083120" y="1651680"/>
                <a:ext cx="851400" cy="85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-360 h 852120"/>
                  <a:gd name="textAreaBottom" fmla="*/ 852120 h 8521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饼形 104"/>
              <p:cNvSpPr/>
              <p:nvPr/>
            </p:nvSpPr>
            <p:spPr>
              <a:xfrm flipV="1" rot="17560800">
                <a:off x="4172760" y="1742040"/>
                <a:ext cx="667080" cy="6678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-360 h 667800"/>
                  <a:gd name="textAreaBottom" fmla="*/ 667800 h 6678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饼形 105"/>
              <p:cNvSpPr/>
              <p:nvPr/>
            </p:nvSpPr>
            <p:spPr>
              <a:xfrm flipV="1" rot="17560800">
                <a:off x="4235040" y="1802880"/>
                <a:ext cx="549720" cy="550440"/>
              </a:xfrm>
              <a:custGeom>
                <a:avLst/>
                <a:gdLst>
                  <a:gd name="textAreaLeft" fmla="*/ 0 w 549720"/>
                  <a:gd name="textAreaRight" fmla="*/ 550080 w 54972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矩形 69"/>
          <p:cNvSpPr/>
          <p:nvPr/>
        </p:nvSpPr>
        <p:spPr>
          <a:xfrm>
            <a:off x="2143080" y="2643120"/>
            <a:ext cx="157176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矩形 70"/>
          <p:cNvSpPr/>
          <p:nvPr/>
        </p:nvSpPr>
        <p:spPr>
          <a:xfrm flipH="1">
            <a:off x="3714120" y="2643120"/>
            <a:ext cx="157140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矩形 76"/>
          <p:cNvSpPr/>
          <p:nvPr/>
        </p:nvSpPr>
        <p:spPr>
          <a:xfrm>
            <a:off x="5286240" y="2643120"/>
            <a:ext cx="157176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350" name="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351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饼形 85"/>
              <p:cNvSpPr/>
              <p:nvPr/>
            </p:nvSpPr>
            <p:spPr>
              <a:xfrm rot="10800000">
                <a:off x="1869840" y="2364120"/>
                <a:ext cx="529560" cy="53028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饼形 86"/>
              <p:cNvSpPr/>
              <p:nvPr/>
            </p:nvSpPr>
            <p:spPr>
              <a:xfrm rot="10800000">
                <a:off x="1918080" y="2412360"/>
                <a:ext cx="431640" cy="43236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饼形 87"/>
              <p:cNvSpPr/>
              <p:nvPr/>
            </p:nvSpPr>
            <p:spPr>
              <a:xfrm rot="10800000">
                <a:off x="1964880" y="2457720"/>
                <a:ext cx="338400" cy="3387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饼形 88"/>
              <p:cNvSpPr/>
              <p:nvPr/>
            </p:nvSpPr>
            <p:spPr>
              <a:xfrm rot="10800000">
                <a:off x="1994760" y="2489760"/>
                <a:ext cx="278640" cy="2793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357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>
                  <a:gd name="textAreaLeft" fmla="*/ 360 w 673200"/>
                  <a:gd name="textAreaRight" fmla="*/ 673920 w 673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饼形 91"/>
              <p:cNvSpPr/>
              <p:nvPr/>
            </p:nvSpPr>
            <p:spPr>
              <a:xfrm flipH="1" rot="10800000">
                <a:off x="1869120" y="2363760"/>
                <a:ext cx="529560" cy="530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饼形 92"/>
              <p:cNvSpPr/>
              <p:nvPr/>
            </p:nvSpPr>
            <p:spPr>
              <a:xfrm flipH="1" rot="10800000">
                <a:off x="1919160" y="2412000"/>
                <a:ext cx="431640" cy="432360"/>
              </a:xfrm>
              <a:custGeom>
                <a:avLst/>
                <a:gdLst>
                  <a:gd name="textAreaLeft" fmla="*/ -360 w 431640"/>
                  <a:gd name="textAreaRight" fmla="*/ 431640 w 43164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饼形 93"/>
              <p:cNvSpPr/>
              <p:nvPr/>
            </p:nvSpPr>
            <p:spPr>
              <a:xfrm flipH="1" rot="10800000">
                <a:off x="1967040" y="2457360"/>
                <a:ext cx="338400" cy="338760"/>
              </a:xfrm>
              <a:custGeom>
                <a:avLst/>
                <a:gdLst>
                  <a:gd name="textAreaLeft" fmla="*/ 360 w 338400"/>
                  <a:gd name="textAreaRight" fmla="*/ 339120 w 33840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饼形 94"/>
              <p:cNvSpPr/>
              <p:nvPr/>
            </p:nvSpPr>
            <p:spPr>
              <a:xfrm flipH="1" rot="10800000">
                <a:off x="1996560" y="2489400"/>
                <a:ext cx="278640" cy="279360"/>
              </a:xfrm>
              <a:custGeom>
                <a:avLst/>
                <a:gdLst>
                  <a:gd name="textAreaLeft" fmla="*/ 360 w 278640"/>
                  <a:gd name="textAreaRight" fmla="*/ 279360 w 278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363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97"/>
              <p:cNvSpPr/>
              <p:nvPr/>
            </p:nvSpPr>
            <p:spPr>
              <a:xfrm flipV="1" rot="10800000">
                <a:off x="1869120" y="2366280"/>
                <a:ext cx="529560" cy="53028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-360 h 530280"/>
                  <a:gd name="textAreaBottom" fmla="*/ 53028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98"/>
              <p:cNvSpPr/>
              <p:nvPr/>
            </p:nvSpPr>
            <p:spPr>
              <a:xfrm flipV="1" rot="10800000">
                <a:off x="1917360" y="2415960"/>
                <a:ext cx="431640" cy="43236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-360 h 432360"/>
                  <a:gd name="textAreaBottom" fmla="*/ 43236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饼形 99"/>
              <p:cNvSpPr/>
              <p:nvPr/>
            </p:nvSpPr>
            <p:spPr>
              <a:xfrm flipV="1" rot="10800000">
                <a:off x="1964160" y="2464560"/>
                <a:ext cx="338400" cy="3387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-360 h 338760"/>
                  <a:gd name="textAreaBottom" fmla="*/ 33876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饼形 100"/>
              <p:cNvSpPr/>
              <p:nvPr/>
            </p:nvSpPr>
            <p:spPr>
              <a:xfrm flipV="1" rot="10800000">
                <a:off x="1994040" y="2493360"/>
                <a:ext cx="278640" cy="2793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360 h 279360"/>
                  <a:gd name="textAreaBottom" fmla="*/ 28008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369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115"/>
              <p:cNvSpPr/>
              <p:nvPr/>
            </p:nvSpPr>
            <p:spPr>
              <a:xfrm flipH="1" flipV="1" rot="5400000">
                <a:off x="1869120" y="2366280"/>
                <a:ext cx="530280" cy="52956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-360 h 529560"/>
                  <a:gd name="textAreaBottom" fmla="*/ 52956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116"/>
              <p:cNvSpPr/>
              <p:nvPr/>
            </p:nvSpPr>
            <p:spPr>
              <a:xfrm flipH="1" flipV="1" rot="5400000">
                <a:off x="1918800" y="2414520"/>
                <a:ext cx="432360" cy="43164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-360 h 431640"/>
                  <a:gd name="textAreaBottom" fmla="*/ 43164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117"/>
              <p:cNvSpPr/>
              <p:nvPr/>
            </p:nvSpPr>
            <p:spPr>
              <a:xfrm flipH="1" flipV="1" rot="5400000">
                <a:off x="1968120" y="2460600"/>
                <a:ext cx="338760" cy="33840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360 h 338400"/>
                  <a:gd name="textAreaBottom" fmla="*/ 33912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饼形 118"/>
              <p:cNvSpPr/>
              <p:nvPr/>
            </p:nvSpPr>
            <p:spPr>
              <a:xfrm flipH="1" flipV="1" rot="5400000">
                <a:off x="1995840" y="2490480"/>
                <a:ext cx="279360" cy="27864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360 h 278640"/>
                  <a:gd name="textAreaBottom" fmla="*/ 27936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375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73200"/>
                  <a:gd name="textAreaBottom" fmla="*/ 67356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121"/>
              <p:cNvSpPr/>
              <p:nvPr/>
            </p:nvSpPr>
            <p:spPr>
              <a:xfrm rot="5400000">
                <a:off x="1867320" y="2366280"/>
                <a:ext cx="530280" cy="529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122"/>
              <p:cNvSpPr/>
              <p:nvPr/>
            </p:nvSpPr>
            <p:spPr>
              <a:xfrm rot="5400000">
                <a:off x="1915200" y="2415960"/>
                <a:ext cx="432360" cy="43164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123"/>
              <p:cNvSpPr/>
              <p:nvPr/>
            </p:nvSpPr>
            <p:spPr>
              <a:xfrm rot="5400000">
                <a:off x="1960920" y="2462760"/>
                <a:ext cx="338760" cy="33840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饼形 124"/>
              <p:cNvSpPr/>
              <p:nvPr/>
            </p:nvSpPr>
            <p:spPr>
              <a:xfrm rot="5400000">
                <a:off x="1992960" y="2492640"/>
                <a:ext cx="279360" cy="2786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381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33"/>
              <p:cNvSpPr/>
              <p:nvPr/>
            </p:nvSpPr>
            <p:spPr>
              <a:xfrm flipV="1" rot="16200000">
                <a:off x="1867320" y="2364120"/>
                <a:ext cx="530280" cy="529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-360 h 529560"/>
                  <a:gd name="textAreaBottom" fmla="*/ 52956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34"/>
              <p:cNvSpPr/>
              <p:nvPr/>
            </p:nvSpPr>
            <p:spPr>
              <a:xfrm flipV="1" rot="16200000">
                <a:off x="1915200" y="2412000"/>
                <a:ext cx="432360" cy="43164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-360 h 431640"/>
                  <a:gd name="textAreaBottom" fmla="*/ 43164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35"/>
              <p:cNvSpPr/>
              <p:nvPr/>
            </p:nvSpPr>
            <p:spPr>
              <a:xfrm flipV="1" rot="16200000">
                <a:off x="1960920" y="2458080"/>
                <a:ext cx="338760" cy="33840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360 h 338400"/>
                  <a:gd name="textAreaBottom" fmla="*/ 33912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饼形 136"/>
              <p:cNvSpPr/>
              <p:nvPr/>
            </p:nvSpPr>
            <p:spPr>
              <a:xfrm flipV="1" rot="16200000">
                <a:off x="1992960" y="2489400"/>
                <a:ext cx="279360" cy="2786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360 h 278640"/>
                  <a:gd name="textAreaBottom" fmla="*/ 27936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387" name="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388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171"/>
              <p:cNvSpPr/>
              <p:nvPr/>
            </p:nvSpPr>
            <p:spPr>
              <a:xfrm flipH="1" rot="10800000">
                <a:off x="6608880" y="2364120"/>
                <a:ext cx="528480" cy="530280"/>
              </a:xfrm>
              <a:custGeom>
                <a:avLst/>
                <a:gdLst>
                  <a:gd name="textAreaLeft" fmla="*/ 360 w 528480"/>
                  <a:gd name="textAreaRight" fmla="*/ 529200 w 52848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172"/>
              <p:cNvSpPr/>
              <p:nvPr/>
            </p:nvSpPr>
            <p:spPr>
              <a:xfrm flipH="1" rot="10800000">
                <a:off x="6658560" y="2412360"/>
                <a:ext cx="430920" cy="432360"/>
              </a:xfrm>
              <a:custGeom>
                <a:avLst/>
                <a:gdLst>
                  <a:gd name="textAreaLeft" fmla="*/ -360 w 430920"/>
                  <a:gd name="textAreaRight" fmla="*/ 430920 w 43092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饼形 173"/>
              <p:cNvSpPr/>
              <p:nvPr/>
            </p:nvSpPr>
            <p:spPr>
              <a:xfrm flipH="1" rot="10800000">
                <a:off x="6705360" y="2457720"/>
                <a:ext cx="337680" cy="338760"/>
              </a:xfrm>
              <a:custGeom>
                <a:avLst/>
                <a:gdLst>
                  <a:gd name="textAreaLeft" fmla="*/ 360 w 337680"/>
                  <a:gd name="textAreaRight" fmla="*/ 338400 w 33768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饼形 174"/>
              <p:cNvSpPr/>
              <p:nvPr/>
            </p:nvSpPr>
            <p:spPr>
              <a:xfrm flipH="1" rot="10800000">
                <a:off x="6734880" y="2489760"/>
                <a:ext cx="278280" cy="279360"/>
              </a:xfrm>
              <a:custGeom>
                <a:avLst/>
                <a:gdLst>
                  <a:gd name="textAreaLeft" fmla="*/ -360 w 278280"/>
                  <a:gd name="textAreaRight" fmla="*/ 278280 w 278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394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166"/>
              <p:cNvSpPr/>
              <p:nvPr/>
            </p:nvSpPr>
            <p:spPr>
              <a:xfrm rot="10800000">
                <a:off x="6608880" y="2363760"/>
                <a:ext cx="528480" cy="53028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167"/>
              <p:cNvSpPr/>
              <p:nvPr/>
            </p:nvSpPr>
            <p:spPr>
              <a:xfrm rot="10800000">
                <a:off x="6657480" y="2412000"/>
                <a:ext cx="430920" cy="43236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饼形 168"/>
              <p:cNvSpPr/>
              <p:nvPr/>
            </p:nvSpPr>
            <p:spPr>
              <a:xfrm rot="10800000">
                <a:off x="6703200" y="2457360"/>
                <a:ext cx="337680" cy="33876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饼形 169"/>
              <p:cNvSpPr/>
              <p:nvPr/>
            </p:nvSpPr>
            <p:spPr>
              <a:xfrm rot="10800000">
                <a:off x="6733800" y="2489400"/>
                <a:ext cx="278280" cy="27936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400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61"/>
              <p:cNvSpPr/>
              <p:nvPr/>
            </p:nvSpPr>
            <p:spPr>
              <a:xfrm flipH="1" flipV="1" rot="10800000">
                <a:off x="6609600" y="2366280"/>
                <a:ext cx="528480" cy="530280"/>
              </a:xfrm>
              <a:custGeom>
                <a:avLst/>
                <a:gdLst>
                  <a:gd name="textAreaLeft" fmla="*/ 360 w 528480"/>
                  <a:gd name="textAreaRight" fmla="*/ 529200 w 528480"/>
                  <a:gd name="textAreaTop" fmla="*/ -360 h 530280"/>
                  <a:gd name="textAreaBottom" fmla="*/ 53028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62"/>
              <p:cNvSpPr/>
              <p:nvPr/>
            </p:nvSpPr>
            <p:spPr>
              <a:xfrm flipH="1" flipV="1" rot="10800000">
                <a:off x="6659280" y="2415960"/>
                <a:ext cx="430920" cy="432360"/>
              </a:xfrm>
              <a:custGeom>
                <a:avLst/>
                <a:gdLst>
                  <a:gd name="textAreaLeft" fmla="*/ -360 w 430920"/>
                  <a:gd name="textAreaRight" fmla="*/ 430920 w 430920"/>
                  <a:gd name="textAreaTop" fmla="*/ -360 h 432360"/>
                  <a:gd name="textAreaBottom" fmla="*/ 43236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63"/>
              <p:cNvSpPr/>
              <p:nvPr/>
            </p:nvSpPr>
            <p:spPr>
              <a:xfrm flipH="1" flipV="1" rot="10800000">
                <a:off x="6706080" y="2464560"/>
                <a:ext cx="337680" cy="338760"/>
              </a:xfrm>
              <a:custGeom>
                <a:avLst/>
                <a:gdLst>
                  <a:gd name="textAreaLeft" fmla="*/ 360 w 337680"/>
                  <a:gd name="textAreaRight" fmla="*/ 338400 w 337680"/>
                  <a:gd name="textAreaTop" fmla="*/ -360 h 338760"/>
                  <a:gd name="textAreaBottom" fmla="*/ 33876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饼形 164"/>
              <p:cNvSpPr/>
              <p:nvPr/>
            </p:nvSpPr>
            <p:spPr>
              <a:xfrm flipH="1" flipV="1" rot="10800000">
                <a:off x="6735600" y="2493360"/>
                <a:ext cx="278280" cy="279360"/>
              </a:xfrm>
              <a:custGeom>
                <a:avLst/>
                <a:gdLst>
                  <a:gd name="textAreaLeft" fmla="*/ -360 w 278280"/>
                  <a:gd name="textAreaRight" fmla="*/ 278280 w 278280"/>
                  <a:gd name="textAreaTop" fmla="*/ 360 h 279360"/>
                  <a:gd name="textAreaBottom" fmla="*/ 28008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406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360 h 671760"/>
                  <a:gd name="textAreaBottom" fmla="*/ 67248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饼形 156"/>
              <p:cNvSpPr/>
              <p:nvPr/>
            </p:nvSpPr>
            <p:spPr>
              <a:xfrm flipV="1" rot="16200000">
                <a:off x="6607800" y="2366640"/>
                <a:ext cx="530280" cy="5284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360 h 528480"/>
                  <a:gd name="textAreaBottom" fmla="*/ 52920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157"/>
              <p:cNvSpPr/>
              <p:nvPr/>
            </p:nvSpPr>
            <p:spPr>
              <a:xfrm flipV="1" rot="16200000">
                <a:off x="6656760" y="2414880"/>
                <a:ext cx="432360" cy="43092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-360 h 430920"/>
                  <a:gd name="textAreaBottom" fmla="*/ 43092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158"/>
              <p:cNvSpPr/>
              <p:nvPr/>
            </p:nvSpPr>
            <p:spPr>
              <a:xfrm flipV="1" rot="16200000">
                <a:off x="6701040" y="2460960"/>
                <a:ext cx="338760" cy="33768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360 h 337680"/>
                  <a:gd name="textAreaBottom" fmla="*/ 33840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饼形 159"/>
              <p:cNvSpPr/>
              <p:nvPr/>
            </p:nvSpPr>
            <p:spPr>
              <a:xfrm flipV="1" rot="16200000">
                <a:off x="6733800" y="2490480"/>
                <a:ext cx="279360" cy="27828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-360 h 278280"/>
                  <a:gd name="textAreaBottom" fmla="*/ 27828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412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0 h 671760"/>
                  <a:gd name="textAreaBottom" fmla="*/ 67212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饼形 151"/>
              <p:cNvSpPr/>
              <p:nvPr/>
            </p:nvSpPr>
            <p:spPr>
              <a:xfrm flipH="1" rot="16200000">
                <a:off x="6609960" y="2366640"/>
                <a:ext cx="530280" cy="52848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152"/>
              <p:cNvSpPr/>
              <p:nvPr/>
            </p:nvSpPr>
            <p:spPr>
              <a:xfrm flipH="1" rot="16200000">
                <a:off x="6660000" y="2416320"/>
                <a:ext cx="432360" cy="43092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153"/>
              <p:cNvSpPr/>
              <p:nvPr/>
            </p:nvSpPr>
            <p:spPr>
              <a:xfrm flipH="1" rot="16200000">
                <a:off x="6708240" y="2463120"/>
                <a:ext cx="338760" cy="33768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饼形 154"/>
              <p:cNvSpPr/>
              <p:nvPr/>
            </p:nvSpPr>
            <p:spPr>
              <a:xfrm flipH="1" rot="16200000">
                <a:off x="6735960" y="2492640"/>
                <a:ext cx="279360" cy="27828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418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360 h 671760"/>
                  <a:gd name="textAreaBottom" fmla="*/ 67248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饼形 146"/>
              <p:cNvSpPr/>
              <p:nvPr/>
            </p:nvSpPr>
            <p:spPr>
              <a:xfrm flipH="1" flipV="1" rot="5400000">
                <a:off x="6609960" y="2364480"/>
                <a:ext cx="530280" cy="52848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360 h 528480"/>
                  <a:gd name="textAreaBottom" fmla="*/ 52920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47"/>
              <p:cNvSpPr/>
              <p:nvPr/>
            </p:nvSpPr>
            <p:spPr>
              <a:xfrm flipH="1" flipV="1" rot="5400000">
                <a:off x="6660000" y="2412360"/>
                <a:ext cx="432360" cy="43092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-360 h 430920"/>
                  <a:gd name="textAreaBottom" fmla="*/ 43092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48"/>
              <p:cNvSpPr/>
              <p:nvPr/>
            </p:nvSpPr>
            <p:spPr>
              <a:xfrm flipH="1" flipV="1" rot="5400000">
                <a:off x="6708240" y="2458440"/>
                <a:ext cx="338760" cy="33768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360 h 337680"/>
                  <a:gd name="textAreaBottom" fmla="*/ 33840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饼形 149"/>
              <p:cNvSpPr/>
              <p:nvPr/>
            </p:nvSpPr>
            <p:spPr>
              <a:xfrm flipH="1" flipV="1" rot="5400000">
                <a:off x="6735960" y="2489400"/>
                <a:ext cx="279360" cy="27828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-360 h 278280"/>
                  <a:gd name="textAreaBottom" fmla="*/ 27828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42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43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饼形 19"/>
            <p:cNvSpPr/>
            <p:nvPr/>
          </p:nvSpPr>
          <p:spPr>
            <a:xfrm flipH="1" rot="10800000">
              <a:off x="1114560" y="156960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43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饼形 28"/>
            <p:cNvSpPr/>
            <p:nvPr/>
          </p:nvSpPr>
          <p:spPr>
            <a:xfrm flipV="1" rot="10800000">
              <a:off x="1098000" y="2112840"/>
              <a:ext cx="1459080" cy="145872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44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360 h 3522960"/>
                <a:gd name="textAreaBottom" fmla="*/ 352368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360 h 2770560"/>
                <a:gd name="textAreaBottom" fmla="*/ 277128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360 h 2259360"/>
                <a:gd name="textAreaBottom" fmla="*/ 226008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饼形 34"/>
            <p:cNvSpPr/>
            <p:nvPr/>
          </p:nvSpPr>
          <p:spPr>
            <a:xfrm flipH="1" flipV="1" rot="10800000">
              <a:off x="1109880" y="1609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-360 h 1459080"/>
                <a:gd name="textAreaBottom" fmla="*/ 145908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23200" y="714240"/>
            <a:ext cx="3522600" cy="3522960"/>
            <a:chOff x="223200" y="714240"/>
            <a:chExt cx="3522600" cy="3522960"/>
          </a:xfrm>
        </p:grpSpPr>
        <p:sp>
          <p:nvSpPr>
            <p:cNvPr id="449" name="饼形 38"/>
            <p:cNvSpPr/>
            <p:nvPr/>
          </p:nvSpPr>
          <p:spPr>
            <a:xfrm flipH="1" flipV="1" rot="5400000">
              <a:off x="222480" y="714240"/>
              <a:ext cx="3522960" cy="3522600"/>
            </a:xfrm>
            <a:custGeom>
              <a:avLst/>
              <a:gdLst>
                <a:gd name="textAreaLeft" fmla="*/ 360 w 3522960"/>
                <a:gd name="textAreaRight" fmla="*/ 352368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饼形 39"/>
            <p:cNvSpPr/>
            <p:nvPr/>
          </p:nvSpPr>
          <p:spPr>
            <a:xfrm flipH="1" flipV="1" rot="5400000">
              <a:off x="606600" y="1090440"/>
              <a:ext cx="2770560" cy="2770200"/>
            </a:xfrm>
            <a:custGeom>
              <a:avLst/>
              <a:gdLst>
                <a:gd name="textAreaLeft" fmla="*/ 360 w 2770560"/>
                <a:gd name="textAreaRight" fmla="*/ 277128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饼形 40"/>
            <p:cNvSpPr/>
            <p:nvPr/>
          </p:nvSpPr>
          <p:spPr>
            <a:xfrm flipH="1" flipV="1" rot="5400000">
              <a:off x="866880" y="1341360"/>
              <a:ext cx="2259360" cy="2259000"/>
            </a:xfrm>
            <a:custGeom>
              <a:avLst/>
              <a:gdLst>
                <a:gd name="textAreaLeft" fmla="*/ 360 w 2259360"/>
                <a:gd name="textAreaRight" fmla="*/ 226008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饼形 41"/>
            <p:cNvSpPr/>
            <p:nvPr/>
          </p:nvSpPr>
          <p:spPr>
            <a:xfrm flipH="1" flipV="1" rot="5400000">
              <a:off x="1119600" y="15847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饼形 42"/>
            <p:cNvSpPr/>
            <p:nvPr/>
          </p:nvSpPr>
          <p:spPr>
            <a:xfrm flipH="1" flipV="1" rot="5400000">
              <a:off x="1264680" y="1741680"/>
              <a:ext cx="1459080" cy="1458720"/>
            </a:xfrm>
            <a:custGeom>
              <a:avLst/>
              <a:gdLst>
                <a:gd name="textAreaLeft" fmla="*/ -360 w 1459080"/>
                <a:gd name="textAreaRight" fmla="*/ 145908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45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46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饼形 55"/>
            <p:cNvSpPr/>
            <p:nvPr/>
          </p:nvSpPr>
          <p:spPr>
            <a:xfrm flipH="1" rot="16200000">
              <a:off x="1467360" y="17395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饼形 56"/>
            <p:cNvSpPr/>
            <p:nvPr/>
          </p:nvSpPr>
          <p:spPr>
            <a:xfrm flipH="1" rot="16200000">
              <a:off x="161280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46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2DF-B7A3-4981-B1F9-187106045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08:22Z</dcterms:created>
  <dc:creator>Administrator</dc:creator>
  <dc:description/>
  <dc:language>en-US</dc:language>
  <cp:lastModifiedBy>BJ-CH-William.wu</cp:lastModifiedBy>
  <dcterms:modified xsi:type="dcterms:W3CDTF">2015-06-13T07:46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