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2908-94C9-47B6-B78B-64AE04E5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419C-63CC-46BF-8C83-C4C9FB7A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907E-C1F6-45BB-9010-3AD6B4953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3AE8-33D8-4D3E-AAAA-4E8CD26F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1EF0-D168-4C16-8092-F82CE7B31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A331-02DC-4F0E-BAAF-7E5001DB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FE8D-33C0-4222-810A-8B368664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D854-00D8-4336-A9B7-80D2104A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C9F9-7A70-4249-A5C0-2DCE12AC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74C5-0103-426B-9BE8-4791E1C4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18FC-B407-42BD-9B07-B37715E2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8E58-E6AA-481F-A74C-93EB04E6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06DE-8B99-4F22-A1D4-A2E802F0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114C-E1D3-4BE4-947F-BB1A2151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C4BE-0656-4FB2-A7F6-04032EC9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D28B-B67B-4905-8A49-052888FF6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34F6-6D24-4029-A74A-218490DCF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B0B6-26B8-4D63-893F-19C626E6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F26C-800F-4D87-A9FB-5385B7FB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73AE-8E58-4E98-9E17-80AB62C6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CE22-3F72-4798-A38B-4B21A9A8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E521-EBDD-48C6-B59E-EF6337A5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19EB-8EE4-47B4-A632-5D0CDF66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0A6A-7216-4D06-80B2-D4386E27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D5A0-8BD1-437B-B5DA-87F48D483DA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C41C-E954-4F39-8E95-72C3E9A216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5054-5351-4D10-B5B5-2C9C239E9F0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5DA9-6A29-4E66-9066-3CCA89A9F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3"/>
          <p:cNvSpPr/>
          <p:nvPr/>
        </p:nvSpPr>
        <p:spPr>
          <a:xfrm>
            <a:off x="388800" y="23652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递进关系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系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组合 3347"/>
          <p:cNvGrpSpPr/>
          <p:nvPr/>
        </p:nvGrpSpPr>
        <p:grpSpPr>
          <a:xfrm>
            <a:off x="7093080" y="2421000"/>
            <a:ext cx="1110960" cy="1430280"/>
            <a:chOff x="7093080" y="2421000"/>
            <a:chExt cx="1110960" cy="1430280"/>
          </a:xfrm>
        </p:grpSpPr>
        <p:grpSp>
          <p:nvGrpSpPr>
            <p:cNvPr id="84" name="组合 127"/>
            <p:cNvGrpSpPr/>
            <p:nvPr/>
          </p:nvGrpSpPr>
          <p:grpSpPr>
            <a:xfrm>
              <a:off x="7093080" y="2421000"/>
              <a:ext cx="1110960" cy="1430280"/>
              <a:chOff x="7093080" y="2421000"/>
              <a:chExt cx="1110960" cy="1430280"/>
            </a:xfrm>
          </p:grpSpPr>
          <p:grpSp>
            <p:nvGrpSpPr>
              <p:cNvPr id="85" name="Group 23"/>
              <p:cNvGrpSpPr/>
              <p:nvPr/>
            </p:nvGrpSpPr>
            <p:grpSpPr>
              <a:xfrm>
                <a:off x="7093080" y="2421000"/>
                <a:ext cx="1110960" cy="1156320"/>
                <a:chOff x="7093080" y="2421000"/>
                <a:chExt cx="1110960" cy="1156320"/>
              </a:xfrm>
            </p:grpSpPr>
            <p:sp>
              <p:nvSpPr>
                <p:cNvPr id="86" name="Oval 25"/>
                <p:cNvSpPr/>
                <p:nvPr/>
              </p:nvSpPr>
              <p:spPr>
                <a:xfrm>
                  <a:off x="7093080" y="2421000"/>
                  <a:ext cx="1110960" cy="115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7" name="Picture 26" descr="circuler_1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133400" y="2462400"/>
                  <a:ext cx="1037160" cy="10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" name="Oval 27"/>
                <p:cNvSpPr/>
                <p:nvPr/>
              </p:nvSpPr>
              <p:spPr>
                <a:xfrm>
                  <a:off x="7133400" y="2462400"/>
                  <a:ext cx="1029960" cy="1067040"/>
                </a:xfrm>
                <a:prstGeom prst="ellipse">
                  <a:avLst/>
                </a:prstGeom>
                <a:solidFill>
                  <a:srgbClr val="0070c0"/>
                </a:solidFill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9" name="Group 29"/>
                <p:cNvGrpSpPr/>
                <p:nvPr/>
              </p:nvGrpSpPr>
              <p:grpSpPr>
                <a:xfrm>
                  <a:off x="7196760" y="3207960"/>
                  <a:ext cx="920520" cy="364320"/>
                  <a:chOff x="7196760" y="3207960"/>
                  <a:chExt cx="920520" cy="364320"/>
                </a:xfrm>
              </p:grpSpPr>
              <p:grpSp>
                <p:nvGrpSpPr>
                  <p:cNvPr id="90" name="Group 30"/>
                  <p:cNvGrpSpPr/>
                  <p:nvPr/>
                </p:nvGrpSpPr>
                <p:grpSpPr>
                  <a:xfrm>
                    <a:off x="7362360" y="3212640"/>
                    <a:ext cx="754920" cy="348480"/>
                    <a:chOff x="7362360" y="3212640"/>
                    <a:chExt cx="754920" cy="348480"/>
                  </a:xfrm>
                </p:grpSpPr>
                <p:sp>
                  <p:nvSpPr>
                    <p:cNvPr id="91" name="AutoShape 31"/>
                    <p:cNvSpPr/>
                    <p:nvPr/>
                  </p:nvSpPr>
                  <p:spPr>
                    <a:xfrm flipH="1" flipV="1" rot="3964800">
                      <a:off x="7769880" y="3113280"/>
                      <a:ext cx="138240" cy="54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AutoShape 32"/>
                    <p:cNvSpPr/>
                    <p:nvPr/>
                  </p:nvSpPr>
                  <p:spPr>
                    <a:xfrm flipH="1" flipV="1" rot="4780200">
                      <a:off x="7685640" y="3147120"/>
                      <a:ext cx="138240" cy="54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" name="AutoShape 33"/>
                    <p:cNvSpPr/>
                    <p:nvPr/>
                  </p:nvSpPr>
                  <p:spPr>
                    <a:xfrm flipH="1" flipV="1" rot="5076000">
                      <a:off x="7633080" y="3153240"/>
                      <a:ext cx="138240" cy="54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" name="AutoShape 34"/>
                    <p:cNvSpPr/>
                    <p:nvPr/>
                  </p:nvSpPr>
                  <p:spPr>
                    <a:xfrm flipH="1" flipV="1" rot="5608200">
                      <a:off x="7569720" y="3157920"/>
                      <a:ext cx="138240" cy="54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" name="Group 35"/>
                  <p:cNvGrpSpPr/>
                  <p:nvPr/>
                </p:nvGrpSpPr>
                <p:grpSpPr>
                  <a:xfrm>
                    <a:off x="7196760" y="3207960"/>
                    <a:ext cx="782280" cy="364320"/>
                    <a:chOff x="7196760" y="3207960"/>
                    <a:chExt cx="782280" cy="364320"/>
                  </a:xfrm>
                </p:grpSpPr>
                <p:sp>
                  <p:nvSpPr>
                    <p:cNvPr id="96" name="AutoShape 36"/>
                    <p:cNvSpPr/>
                    <p:nvPr/>
                  </p:nvSpPr>
                  <p:spPr>
                    <a:xfrm flipH="1" flipV="1" rot="5317800">
                      <a:off x="7635960" y="3156480"/>
                      <a:ext cx="138960" cy="54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" name="AutoShape 37"/>
                    <p:cNvSpPr/>
                    <p:nvPr/>
                  </p:nvSpPr>
                  <p:spPr>
                    <a:xfrm flipH="1" flipV="1" rot="6133800">
                      <a:off x="7513920" y="3151080"/>
                      <a:ext cx="13968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" name="AutoShape 38"/>
                    <p:cNvSpPr/>
                    <p:nvPr/>
                  </p:nvSpPr>
                  <p:spPr>
                    <a:xfrm flipH="1" flipV="1" rot="6429000">
                      <a:off x="7464600" y="3140640"/>
                      <a:ext cx="13896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AutoShape 39"/>
                    <p:cNvSpPr/>
                    <p:nvPr/>
                  </p:nvSpPr>
                  <p:spPr>
                    <a:xfrm flipH="1" flipV="1" rot="6961200">
                      <a:off x="7401960" y="3117600"/>
                      <a:ext cx="139680" cy="54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00" name="空心弧 3352"/>
              <p:cNvSpPr/>
              <p:nvPr/>
            </p:nvSpPr>
            <p:spPr>
              <a:xfrm>
                <a:off x="7109640" y="2500200"/>
                <a:ext cx="1072080" cy="1351080"/>
              </a:xfrm>
              <a:prstGeom prst="blockArc">
                <a:avLst>
                  <a:gd name="adj1" fmla="val 13436803"/>
                  <a:gd name="adj2" fmla="val 8163197"/>
                  <a:gd name="adj3" fmla="val 1995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椭圆 3349"/>
            <p:cNvSpPr/>
            <p:nvPr/>
          </p:nvSpPr>
          <p:spPr>
            <a:xfrm>
              <a:off x="7388640" y="2710440"/>
              <a:ext cx="524520" cy="524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Box 3350"/>
            <p:cNvSpPr/>
            <p:nvPr/>
          </p:nvSpPr>
          <p:spPr>
            <a:xfrm>
              <a:off x="7242840" y="2628360"/>
              <a:ext cx="840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组合 3367"/>
          <p:cNvGrpSpPr/>
          <p:nvPr/>
        </p:nvGrpSpPr>
        <p:grpSpPr>
          <a:xfrm>
            <a:off x="5796000" y="2565360"/>
            <a:ext cx="1346040" cy="1730520"/>
            <a:chOff x="5796000" y="2565360"/>
            <a:chExt cx="1346040" cy="1730520"/>
          </a:xfrm>
        </p:grpSpPr>
        <p:grpSp>
          <p:nvGrpSpPr>
            <p:cNvPr id="104" name="组合 107"/>
            <p:cNvGrpSpPr/>
            <p:nvPr/>
          </p:nvGrpSpPr>
          <p:grpSpPr>
            <a:xfrm>
              <a:off x="5796000" y="2565360"/>
              <a:ext cx="1346040" cy="1730520"/>
              <a:chOff x="5796000" y="2565360"/>
              <a:chExt cx="1346040" cy="1730520"/>
            </a:xfrm>
          </p:grpSpPr>
          <p:grpSp>
            <p:nvGrpSpPr>
              <p:cNvPr id="105" name="Group 23"/>
              <p:cNvGrpSpPr/>
              <p:nvPr/>
            </p:nvGrpSpPr>
            <p:grpSpPr>
              <a:xfrm>
                <a:off x="5796000" y="2565360"/>
                <a:ext cx="1346040" cy="1398960"/>
                <a:chOff x="5796000" y="2565360"/>
                <a:chExt cx="1346040" cy="1398960"/>
              </a:xfrm>
            </p:grpSpPr>
            <p:sp>
              <p:nvSpPr>
                <p:cNvPr id="106" name="Oval 25"/>
                <p:cNvSpPr/>
                <p:nvPr/>
              </p:nvSpPr>
              <p:spPr>
                <a:xfrm>
                  <a:off x="5796000" y="2565360"/>
                  <a:ext cx="1346040" cy="1398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7" name="Picture 26" descr="circuler_1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844960" y="2615400"/>
                  <a:ext cx="1256760" cy="1287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" name="Oval 27"/>
                <p:cNvSpPr/>
                <p:nvPr/>
              </p:nvSpPr>
              <p:spPr>
                <a:xfrm>
                  <a:off x="5844960" y="2615400"/>
                  <a:ext cx="1248120" cy="1290960"/>
                </a:xfrm>
                <a:prstGeom prst="ellipse">
                  <a:avLst/>
                </a:prstGeom>
                <a:solidFill>
                  <a:srgbClr val="ffc000"/>
                </a:solidFill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Group 29"/>
                <p:cNvGrpSpPr/>
                <p:nvPr/>
              </p:nvGrpSpPr>
              <p:grpSpPr>
                <a:xfrm>
                  <a:off x="5920920" y="3516120"/>
                  <a:ext cx="1116000" cy="441000"/>
                  <a:chOff x="5920920" y="3516120"/>
                  <a:chExt cx="1116000" cy="441000"/>
                </a:xfrm>
              </p:grpSpPr>
              <p:grpSp>
                <p:nvGrpSpPr>
                  <p:cNvPr id="110" name="Group 30"/>
                  <p:cNvGrpSpPr/>
                  <p:nvPr/>
                </p:nvGrpSpPr>
                <p:grpSpPr>
                  <a:xfrm>
                    <a:off x="6121800" y="3523320"/>
                    <a:ext cx="915120" cy="421200"/>
                    <a:chOff x="6121800" y="3523320"/>
                    <a:chExt cx="915120" cy="421200"/>
                  </a:xfrm>
                </p:grpSpPr>
                <p:sp>
                  <p:nvSpPr>
                    <p:cNvPr id="111" name="AutoShape 31"/>
                    <p:cNvSpPr/>
                    <p:nvPr/>
                  </p:nvSpPr>
                  <p:spPr>
                    <a:xfrm flipH="1" flipV="1" rot="3964800">
                      <a:off x="6616440" y="3402360"/>
                      <a:ext cx="167040" cy="66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AutoShape 32"/>
                    <p:cNvSpPr/>
                    <p:nvPr/>
                  </p:nvSpPr>
                  <p:spPr>
                    <a:xfrm flipH="1" flipV="1" rot="4780200">
                      <a:off x="6513480" y="3442680"/>
                      <a:ext cx="166680" cy="66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AutoShape 33"/>
                    <p:cNvSpPr/>
                    <p:nvPr/>
                  </p:nvSpPr>
                  <p:spPr>
                    <a:xfrm flipH="1" flipV="1" rot="5076000">
                      <a:off x="6450840" y="3451320"/>
                      <a:ext cx="167040" cy="66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AutoShape 34"/>
                    <p:cNvSpPr/>
                    <p:nvPr/>
                  </p:nvSpPr>
                  <p:spPr>
                    <a:xfrm flipH="1" flipV="1" rot="5608200">
                      <a:off x="6373440" y="3456000"/>
                      <a:ext cx="167040" cy="66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" name="Group 35"/>
                  <p:cNvGrpSpPr/>
                  <p:nvPr/>
                </p:nvGrpSpPr>
                <p:grpSpPr>
                  <a:xfrm>
                    <a:off x="5920920" y="3516120"/>
                    <a:ext cx="948600" cy="441000"/>
                    <a:chOff x="5920920" y="3516120"/>
                    <a:chExt cx="948600" cy="441000"/>
                  </a:xfrm>
                </p:grpSpPr>
                <p:sp>
                  <p:nvSpPr>
                    <p:cNvPr id="116" name="AutoShape 36"/>
                    <p:cNvSpPr/>
                    <p:nvPr/>
                  </p:nvSpPr>
                  <p:spPr>
                    <a:xfrm flipH="1" flipV="1" rot="5317800">
                      <a:off x="6453720" y="3454200"/>
                      <a:ext cx="168120" cy="65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AutoShape 37"/>
                    <p:cNvSpPr/>
                    <p:nvPr/>
                  </p:nvSpPr>
                  <p:spPr>
                    <a:xfrm flipH="1" flipV="1" rot="6133800">
                      <a:off x="6305400" y="3447720"/>
                      <a:ext cx="168840" cy="65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AutoShape 38"/>
                    <p:cNvSpPr/>
                    <p:nvPr/>
                  </p:nvSpPr>
                  <p:spPr>
                    <a:xfrm flipH="1" flipV="1" rot="6429000">
                      <a:off x="6245280" y="3434760"/>
                      <a:ext cx="168120" cy="659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AutoShape 39"/>
                    <p:cNvSpPr/>
                    <p:nvPr/>
                  </p:nvSpPr>
                  <p:spPr>
                    <a:xfrm flipH="1" flipV="1" rot="6961200">
                      <a:off x="6169680" y="3407400"/>
                      <a:ext cx="169200" cy="659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20" name="空心弧 3372"/>
              <p:cNvSpPr/>
              <p:nvPr/>
            </p:nvSpPr>
            <p:spPr>
              <a:xfrm>
                <a:off x="5816160" y="2661120"/>
                <a:ext cx="1298880" cy="1634760"/>
              </a:xfrm>
              <a:prstGeom prst="blockArc">
                <a:avLst>
                  <a:gd name="adj1" fmla="val 13436803"/>
                  <a:gd name="adj2" fmla="val 8163197"/>
                  <a:gd name="adj3" fmla="val 1995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椭圆 3369"/>
            <p:cNvSpPr/>
            <p:nvPr/>
          </p:nvSpPr>
          <p:spPr>
            <a:xfrm>
              <a:off x="6154200" y="2915640"/>
              <a:ext cx="635400" cy="6350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d6a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3370"/>
            <p:cNvSpPr/>
            <p:nvPr/>
          </p:nvSpPr>
          <p:spPr>
            <a:xfrm>
              <a:off x="5982480" y="2858040"/>
              <a:ext cx="1018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1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3387"/>
          <p:cNvGrpSpPr/>
          <p:nvPr/>
        </p:nvGrpSpPr>
        <p:grpSpPr>
          <a:xfrm>
            <a:off x="4316400" y="2708280"/>
            <a:ext cx="1592280" cy="2046240"/>
            <a:chOff x="4316400" y="2708280"/>
            <a:chExt cx="1592280" cy="2046240"/>
          </a:xfrm>
        </p:grpSpPr>
        <p:grpSp>
          <p:nvGrpSpPr>
            <p:cNvPr id="124" name="组合 87"/>
            <p:cNvGrpSpPr/>
            <p:nvPr/>
          </p:nvGrpSpPr>
          <p:grpSpPr>
            <a:xfrm>
              <a:off x="4316400" y="2708280"/>
              <a:ext cx="1592280" cy="2046240"/>
              <a:chOff x="4316400" y="2708280"/>
              <a:chExt cx="1592280" cy="2046240"/>
            </a:xfrm>
          </p:grpSpPr>
          <p:grpSp>
            <p:nvGrpSpPr>
              <p:cNvPr id="125" name="Group 23"/>
              <p:cNvGrpSpPr/>
              <p:nvPr/>
            </p:nvGrpSpPr>
            <p:grpSpPr>
              <a:xfrm>
                <a:off x="4316400" y="2708280"/>
                <a:ext cx="1592280" cy="1654200"/>
                <a:chOff x="4316400" y="2708280"/>
                <a:chExt cx="1592280" cy="1654200"/>
              </a:xfrm>
            </p:grpSpPr>
            <p:sp>
              <p:nvSpPr>
                <p:cNvPr id="126" name="Oval 25"/>
                <p:cNvSpPr/>
                <p:nvPr/>
              </p:nvSpPr>
              <p:spPr>
                <a:xfrm>
                  <a:off x="4316400" y="2708280"/>
                  <a:ext cx="1592280" cy="165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27" name="Picture 26" descr="circuler_1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374000" y="2767680"/>
                  <a:ext cx="1486440" cy="1522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" name="Oval 27"/>
                <p:cNvSpPr/>
                <p:nvPr/>
              </p:nvSpPr>
              <p:spPr>
                <a:xfrm>
                  <a:off x="4374000" y="2767680"/>
                  <a:ext cx="1476360" cy="1526400"/>
                </a:xfrm>
                <a:prstGeom prst="ellipse">
                  <a:avLst/>
                </a:prstGeom>
                <a:solidFill>
                  <a:srgbClr val="7030a0"/>
                </a:solidFill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9" name="Group 29"/>
                <p:cNvGrpSpPr/>
                <p:nvPr/>
              </p:nvGrpSpPr>
              <p:grpSpPr>
                <a:xfrm>
                  <a:off x="4465080" y="3832920"/>
                  <a:ext cx="1319040" cy="521280"/>
                  <a:chOff x="4465080" y="3832920"/>
                  <a:chExt cx="1319040" cy="521280"/>
                </a:xfrm>
              </p:grpSpPr>
              <p:grpSp>
                <p:nvGrpSpPr>
                  <p:cNvPr id="130" name="Group 30"/>
                  <p:cNvGrpSpPr/>
                  <p:nvPr/>
                </p:nvGrpSpPr>
                <p:grpSpPr>
                  <a:xfrm>
                    <a:off x="4702680" y="3841200"/>
                    <a:ext cx="1081440" cy="497880"/>
                    <a:chOff x="4702680" y="3841200"/>
                    <a:chExt cx="1081440" cy="497880"/>
                  </a:xfrm>
                </p:grpSpPr>
                <p:sp>
                  <p:nvSpPr>
                    <p:cNvPr id="131" name="AutoShape 31"/>
                    <p:cNvSpPr/>
                    <p:nvPr/>
                  </p:nvSpPr>
                  <p:spPr>
                    <a:xfrm flipH="1" flipV="1" rot="3964800">
                      <a:off x="5286960" y="3697920"/>
                      <a:ext cx="197280" cy="78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AutoShape 32"/>
                    <p:cNvSpPr/>
                    <p:nvPr/>
                  </p:nvSpPr>
                  <p:spPr>
                    <a:xfrm flipH="1" flipV="1" rot="4780200">
                      <a:off x="5165640" y="3746880"/>
                      <a:ext cx="197280" cy="78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AutoShape 33"/>
                    <p:cNvSpPr/>
                    <p:nvPr/>
                  </p:nvSpPr>
                  <p:spPr>
                    <a:xfrm flipH="1" flipV="1" rot="5076000">
                      <a:off x="5091120" y="3755160"/>
                      <a:ext cx="197280" cy="78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AutoShape 34"/>
                    <p:cNvSpPr/>
                    <p:nvPr/>
                  </p:nvSpPr>
                  <p:spPr>
                    <a:xfrm flipH="1" flipV="1" rot="5608200">
                      <a:off x="5000400" y="3762000"/>
                      <a:ext cx="197280" cy="78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" name="Group 35"/>
                  <p:cNvGrpSpPr/>
                  <p:nvPr/>
                </p:nvGrpSpPr>
                <p:grpSpPr>
                  <a:xfrm>
                    <a:off x="4465080" y="3832920"/>
                    <a:ext cx="1121760" cy="521280"/>
                    <a:chOff x="4465080" y="3832920"/>
                    <a:chExt cx="1121760" cy="521280"/>
                  </a:xfrm>
                </p:grpSpPr>
                <p:sp>
                  <p:nvSpPr>
                    <p:cNvPr id="136" name="AutoShape 36"/>
                    <p:cNvSpPr/>
                    <p:nvPr/>
                  </p:nvSpPr>
                  <p:spPr>
                    <a:xfrm flipH="1" flipV="1" rot="5317800">
                      <a:off x="5094360" y="3759120"/>
                      <a:ext cx="199080" cy="78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AutoShape 37"/>
                    <p:cNvSpPr/>
                    <p:nvPr/>
                  </p:nvSpPr>
                  <p:spPr>
                    <a:xfrm flipH="1" flipV="1" rot="6133800">
                      <a:off x="4918680" y="3751920"/>
                      <a:ext cx="199800" cy="77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AutoShape 38"/>
                    <p:cNvSpPr/>
                    <p:nvPr/>
                  </p:nvSpPr>
                  <p:spPr>
                    <a:xfrm flipH="1" flipV="1" rot="6429000">
                      <a:off x="4848480" y="3735720"/>
                      <a:ext cx="199080" cy="78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AutoShape 39"/>
                    <p:cNvSpPr/>
                    <p:nvPr/>
                  </p:nvSpPr>
                  <p:spPr>
                    <a:xfrm flipH="1" flipV="1" rot="6961200">
                      <a:off x="4759560" y="3702960"/>
                      <a:ext cx="199800" cy="78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40" name="空心弧 3392"/>
              <p:cNvSpPr/>
              <p:nvPr/>
            </p:nvSpPr>
            <p:spPr>
              <a:xfrm>
                <a:off x="4340520" y="2821680"/>
                <a:ext cx="1536480" cy="1932840"/>
              </a:xfrm>
              <a:prstGeom prst="blockArc">
                <a:avLst>
                  <a:gd name="adj1" fmla="val 13436803"/>
                  <a:gd name="adj2" fmla="val 8163197"/>
                  <a:gd name="adj3" fmla="val 1995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椭圆 3389"/>
            <p:cNvSpPr/>
            <p:nvPr/>
          </p:nvSpPr>
          <p:spPr>
            <a:xfrm>
              <a:off x="4740120" y="3122640"/>
              <a:ext cx="751680" cy="750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Box 3390"/>
            <p:cNvSpPr/>
            <p:nvPr/>
          </p:nvSpPr>
          <p:spPr>
            <a:xfrm>
              <a:off x="4527000" y="3041280"/>
              <a:ext cx="120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1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组合 3407"/>
          <p:cNvGrpSpPr/>
          <p:nvPr/>
        </p:nvGrpSpPr>
        <p:grpSpPr>
          <a:xfrm>
            <a:off x="2532240" y="2781360"/>
            <a:ext cx="1999800" cy="2571840"/>
            <a:chOff x="2532240" y="2781360"/>
            <a:chExt cx="1999800" cy="2571840"/>
          </a:xfrm>
        </p:grpSpPr>
        <p:grpSp>
          <p:nvGrpSpPr>
            <p:cNvPr id="144" name="组合 67"/>
            <p:cNvGrpSpPr/>
            <p:nvPr/>
          </p:nvGrpSpPr>
          <p:grpSpPr>
            <a:xfrm>
              <a:off x="2532240" y="2781360"/>
              <a:ext cx="1999800" cy="2571840"/>
              <a:chOff x="2532240" y="2781360"/>
              <a:chExt cx="1999800" cy="2571840"/>
            </a:xfrm>
          </p:grpSpPr>
          <p:grpSp>
            <p:nvGrpSpPr>
              <p:cNvPr id="145" name="Group 23"/>
              <p:cNvGrpSpPr/>
              <p:nvPr/>
            </p:nvGrpSpPr>
            <p:grpSpPr>
              <a:xfrm>
                <a:off x="2532240" y="2781360"/>
                <a:ext cx="1999800" cy="2079000"/>
                <a:chOff x="2532240" y="2781360"/>
                <a:chExt cx="1999800" cy="2079000"/>
              </a:xfrm>
            </p:grpSpPr>
            <p:sp>
              <p:nvSpPr>
                <p:cNvPr id="146" name="Oval 25"/>
                <p:cNvSpPr/>
                <p:nvPr/>
              </p:nvSpPr>
              <p:spPr>
                <a:xfrm>
                  <a:off x="2532240" y="2781360"/>
                  <a:ext cx="1999800" cy="2079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47" name="Picture 26" descr="circuler_1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604960" y="2855880"/>
                  <a:ext cx="1867320" cy="191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" name="Oval 27"/>
                <p:cNvSpPr/>
                <p:nvPr/>
              </p:nvSpPr>
              <p:spPr>
                <a:xfrm>
                  <a:off x="2604960" y="2855880"/>
                  <a:ext cx="1854360" cy="1918800"/>
                </a:xfrm>
                <a:prstGeom prst="ellipse">
                  <a:avLst/>
                </a:prstGeom>
                <a:solidFill>
                  <a:srgbClr val="006600"/>
                </a:solidFill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9" name="Group 29"/>
                <p:cNvGrpSpPr/>
                <p:nvPr/>
              </p:nvGrpSpPr>
              <p:grpSpPr>
                <a:xfrm>
                  <a:off x="2718000" y="4195440"/>
                  <a:ext cx="1658880" cy="655560"/>
                  <a:chOff x="2718000" y="4195440"/>
                  <a:chExt cx="1658880" cy="655560"/>
                </a:xfrm>
              </p:grpSpPr>
              <p:grpSp>
                <p:nvGrpSpPr>
                  <p:cNvPr id="150" name="Group 30"/>
                  <p:cNvGrpSpPr/>
                  <p:nvPr/>
                </p:nvGrpSpPr>
                <p:grpSpPr>
                  <a:xfrm>
                    <a:off x="3017880" y="4204800"/>
                    <a:ext cx="1359000" cy="626400"/>
                    <a:chOff x="3017880" y="4204800"/>
                    <a:chExt cx="1359000" cy="626400"/>
                  </a:xfrm>
                </p:grpSpPr>
                <p:sp>
                  <p:nvSpPr>
                    <p:cNvPr id="151" name="AutoShape 31"/>
                    <p:cNvSpPr/>
                    <p:nvPr/>
                  </p:nvSpPr>
                  <p:spPr>
                    <a:xfrm flipH="1" flipV="1" rot="3964800">
                      <a:off x="3751920" y="4025520"/>
                      <a:ext cx="248400" cy="98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AutoShape 32"/>
                    <p:cNvSpPr/>
                    <p:nvPr/>
                  </p:nvSpPr>
                  <p:spPr>
                    <a:xfrm flipH="1" flipV="1" rot="4780200">
                      <a:off x="3598920" y="4086360"/>
                      <a:ext cx="248400" cy="9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AutoShape 33"/>
                    <p:cNvSpPr/>
                    <p:nvPr/>
                  </p:nvSpPr>
                  <p:spPr>
                    <a:xfrm flipH="1" flipV="1" rot="5076000">
                      <a:off x="3506040" y="4098240"/>
                      <a:ext cx="248400" cy="9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AutoShape 34"/>
                    <p:cNvSpPr/>
                    <p:nvPr/>
                  </p:nvSpPr>
                  <p:spPr>
                    <a:xfrm flipH="1" flipV="1" rot="5608200">
                      <a:off x="3392280" y="4105800"/>
                      <a:ext cx="248400" cy="9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5" name="Group 35"/>
                  <p:cNvGrpSpPr/>
                  <p:nvPr/>
                </p:nvGrpSpPr>
                <p:grpSpPr>
                  <a:xfrm>
                    <a:off x="2718000" y="4195440"/>
                    <a:ext cx="1410120" cy="655560"/>
                    <a:chOff x="2718000" y="4195440"/>
                    <a:chExt cx="1410120" cy="655560"/>
                  </a:xfrm>
                </p:grpSpPr>
                <p:sp>
                  <p:nvSpPr>
                    <p:cNvPr id="156" name="AutoShape 36"/>
                    <p:cNvSpPr/>
                    <p:nvPr/>
                  </p:nvSpPr>
                  <p:spPr>
                    <a:xfrm flipH="1" flipV="1" rot="5317800">
                      <a:off x="3509280" y="4102200"/>
                      <a:ext cx="250200" cy="98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" name="AutoShape 37"/>
                    <p:cNvSpPr/>
                    <p:nvPr/>
                  </p:nvSpPr>
                  <p:spPr>
                    <a:xfrm flipH="1" flipV="1" rot="6133800">
                      <a:off x="3288240" y="4093560"/>
                      <a:ext cx="251280" cy="97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AutoShape 38"/>
                    <p:cNvSpPr/>
                    <p:nvPr/>
                  </p:nvSpPr>
                  <p:spPr>
                    <a:xfrm flipH="1" flipV="1" rot="6429000">
                      <a:off x="3200760" y="4073760"/>
                      <a:ext cx="250200" cy="97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AutoShape 39"/>
                    <p:cNvSpPr/>
                    <p:nvPr/>
                  </p:nvSpPr>
                  <p:spPr>
                    <a:xfrm flipH="1" flipV="1" rot="6961200">
                      <a:off x="3087360" y="4032720"/>
                      <a:ext cx="251280" cy="97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60" name="空心弧 3412"/>
              <p:cNvSpPr/>
              <p:nvPr/>
            </p:nvSpPr>
            <p:spPr>
              <a:xfrm>
                <a:off x="2562480" y="2923920"/>
                <a:ext cx="1929960" cy="2429280"/>
              </a:xfrm>
              <a:prstGeom prst="blockArc">
                <a:avLst>
                  <a:gd name="adj1" fmla="val 13436803"/>
                  <a:gd name="adj2" fmla="val 8163197"/>
                  <a:gd name="adj3" fmla="val 1995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椭圆 3409"/>
            <p:cNvSpPr/>
            <p:nvPr/>
          </p:nvSpPr>
          <p:spPr>
            <a:xfrm>
              <a:off x="3064320" y="3302280"/>
              <a:ext cx="944280" cy="943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Box 3410"/>
            <p:cNvSpPr/>
            <p:nvPr/>
          </p:nvSpPr>
          <p:spPr>
            <a:xfrm>
              <a:off x="2781720" y="3146040"/>
              <a:ext cx="15138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6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组合 3427"/>
          <p:cNvGrpSpPr/>
          <p:nvPr/>
        </p:nvGrpSpPr>
        <p:grpSpPr>
          <a:xfrm>
            <a:off x="466560" y="2781360"/>
            <a:ext cx="2616120" cy="3362400"/>
            <a:chOff x="466560" y="2781360"/>
            <a:chExt cx="2616120" cy="3362400"/>
          </a:xfrm>
        </p:grpSpPr>
        <p:grpSp>
          <p:nvGrpSpPr>
            <p:cNvPr id="164" name="组合 4"/>
            <p:cNvGrpSpPr/>
            <p:nvPr/>
          </p:nvGrpSpPr>
          <p:grpSpPr>
            <a:xfrm>
              <a:off x="466560" y="2781360"/>
              <a:ext cx="2616120" cy="3362400"/>
              <a:chOff x="466560" y="2781360"/>
              <a:chExt cx="2616120" cy="3362400"/>
            </a:xfrm>
          </p:grpSpPr>
          <p:grpSp>
            <p:nvGrpSpPr>
              <p:cNvPr id="165" name="Group 23"/>
              <p:cNvGrpSpPr/>
              <p:nvPr/>
            </p:nvGrpSpPr>
            <p:grpSpPr>
              <a:xfrm>
                <a:off x="466560" y="2781360"/>
                <a:ext cx="2616120" cy="2718000"/>
                <a:chOff x="466560" y="2781360"/>
                <a:chExt cx="2616120" cy="2718000"/>
              </a:xfrm>
            </p:grpSpPr>
            <p:sp>
              <p:nvSpPr>
                <p:cNvPr id="166" name="Oval 25"/>
                <p:cNvSpPr/>
                <p:nvPr/>
              </p:nvSpPr>
              <p:spPr>
                <a:xfrm>
                  <a:off x="466560" y="2781360"/>
                  <a:ext cx="2616120" cy="271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7" name="Picture 26" descr="circuler_1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61600" y="2878920"/>
                  <a:ext cx="2442600" cy="2501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8" name="Oval 27"/>
                <p:cNvSpPr/>
                <p:nvPr/>
              </p:nvSpPr>
              <p:spPr>
                <a:xfrm>
                  <a:off x="561600" y="2878920"/>
                  <a:ext cx="2425680" cy="2508120"/>
                </a:xfrm>
                <a:prstGeom prst="ellipse">
                  <a:avLst/>
                </a:prstGeom>
                <a:solidFill>
                  <a:srgbClr val="c00000"/>
                </a:solidFill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Group 29"/>
                <p:cNvGrpSpPr/>
                <p:nvPr/>
              </p:nvGrpSpPr>
              <p:grpSpPr>
                <a:xfrm>
                  <a:off x="710280" y="4629240"/>
                  <a:ext cx="2168640" cy="857160"/>
                  <a:chOff x="710280" y="4629240"/>
                  <a:chExt cx="2168640" cy="857160"/>
                </a:xfrm>
              </p:grpSpPr>
              <p:grpSp>
                <p:nvGrpSpPr>
                  <p:cNvPr id="170" name="Group 30"/>
                  <p:cNvGrpSpPr/>
                  <p:nvPr/>
                </p:nvGrpSpPr>
                <p:grpSpPr>
                  <a:xfrm>
                    <a:off x="1101600" y="4643280"/>
                    <a:ext cx="1777320" cy="817560"/>
                    <a:chOff x="1101600" y="4643280"/>
                    <a:chExt cx="1777320" cy="817560"/>
                  </a:xfrm>
                </p:grpSpPr>
                <p:sp>
                  <p:nvSpPr>
                    <p:cNvPr id="171" name="AutoShape 31"/>
                    <p:cNvSpPr/>
                    <p:nvPr/>
                  </p:nvSpPr>
                  <p:spPr>
                    <a:xfrm flipH="1" flipV="1" rot="3964800">
                      <a:off x="2062440" y="4408200"/>
                      <a:ext cx="324360" cy="128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AutoShape 32"/>
                    <p:cNvSpPr/>
                    <p:nvPr/>
                  </p:nvSpPr>
                  <p:spPr>
                    <a:xfrm flipH="1" flipV="1" rot="4780200">
                      <a:off x="1863000" y="4486680"/>
                      <a:ext cx="324360" cy="128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AutoShape 33"/>
                    <p:cNvSpPr/>
                    <p:nvPr/>
                  </p:nvSpPr>
                  <p:spPr>
                    <a:xfrm flipH="1" flipV="1" rot="5076000">
                      <a:off x="1739520" y="4502160"/>
                      <a:ext cx="324360" cy="128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" name="AutoShape 34"/>
                    <p:cNvSpPr/>
                    <p:nvPr/>
                  </p:nvSpPr>
                  <p:spPr>
                    <a:xfrm flipH="1" flipV="1" rot="5608200">
                      <a:off x="1591200" y="4512960"/>
                      <a:ext cx="324360" cy="128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5" name="Group 35"/>
                  <p:cNvGrpSpPr/>
                  <p:nvPr/>
                </p:nvGrpSpPr>
                <p:grpSpPr>
                  <a:xfrm>
                    <a:off x="710280" y="4629240"/>
                    <a:ext cx="1843920" cy="857160"/>
                    <a:chOff x="710280" y="4629240"/>
                    <a:chExt cx="1843920" cy="857160"/>
                  </a:xfrm>
                </p:grpSpPr>
                <p:sp>
                  <p:nvSpPr>
                    <p:cNvPr id="176" name="AutoShape 36"/>
                    <p:cNvSpPr/>
                    <p:nvPr/>
                  </p:nvSpPr>
                  <p:spPr>
                    <a:xfrm flipH="1" flipV="1" rot="5317800">
                      <a:off x="1746000" y="4508280"/>
                      <a:ext cx="326520" cy="128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AutoShape 37"/>
                    <p:cNvSpPr/>
                    <p:nvPr/>
                  </p:nvSpPr>
                  <p:spPr>
                    <a:xfrm flipH="1" flipV="1" rot="6133800">
                      <a:off x="1456560" y="4496400"/>
                      <a:ext cx="327960" cy="128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AutoShape 38"/>
                    <p:cNvSpPr/>
                    <p:nvPr/>
                  </p:nvSpPr>
                  <p:spPr>
                    <a:xfrm flipH="1" flipV="1" rot="6429000">
                      <a:off x="1341720" y="4469760"/>
                      <a:ext cx="326520" cy="128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AutoShape 39"/>
                    <p:cNvSpPr/>
                    <p:nvPr/>
                  </p:nvSpPr>
                  <p:spPr>
                    <a:xfrm flipH="1" flipV="1" rot="6961200">
                      <a:off x="1194120" y="4416480"/>
                      <a:ext cx="328320" cy="128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80" name="空心弧 3432"/>
              <p:cNvSpPr/>
              <p:nvPr/>
            </p:nvSpPr>
            <p:spPr>
              <a:xfrm>
                <a:off x="506160" y="2967480"/>
                <a:ext cx="2524680" cy="3176280"/>
              </a:xfrm>
              <a:prstGeom prst="blockArc">
                <a:avLst>
                  <a:gd name="adj1" fmla="val 13436803"/>
                  <a:gd name="adj2" fmla="val 8163197"/>
                  <a:gd name="adj3" fmla="val 1995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椭圆 5"/>
            <p:cNvSpPr/>
            <p:nvPr/>
          </p:nvSpPr>
          <p:spPr>
            <a:xfrm>
              <a:off x="1162800" y="3462120"/>
              <a:ext cx="1235160" cy="1234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3430"/>
            <p:cNvSpPr/>
            <p:nvPr/>
          </p:nvSpPr>
          <p:spPr>
            <a:xfrm>
              <a:off x="816120" y="3247200"/>
              <a:ext cx="1980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3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组合 3447"/>
          <p:cNvGrpSpPr/>
          <p:nvPr/>
        </p:nvGrpSpPr>
        <p:grpSpPr>
          <a:xfrm>
            <a:off x="8228160" y="2421000"/>
            <a:ext cx="664920" cy="853920"/>
            <a:chOff x="8228160" y="2421000"/>
            <a:chExt cx="664920" cy="853920"/>
          </a:xfrm>
        </p:grpSpPr>
        <p:grpSp>
          <p:nvGrpSpPr>
            <p:cNvPr id="184" name="组合 147"/>
            <p:cNvGrpSpPr/>
            <p:nvPr/>
          </p:nvGrpSpPr>
          <p:grpSpPr>
            <a:xfrm>
              <a:off x="8228160" y="2421000"/>
              <a:ext cx="664920" cy="853920"/>
              <a:chOff x="8228160" y="2421000"/>
              <a:chExt cx="664920" cy="853920"/>
            </a:xfrm>
          </p:grpSpPr>
          <p:grpSp>
            <p:nvGrpSpPr>
              <p:cNvPr id="185" name="Group 23"/>
              <p:cNvGrpSpPr/>
              <p:nvPr/>
            </p:nvGrpSpPr>
            <p:grpSpPr>
              <a:xfrm>
                <a:off x="8228160" y="2421000"/>
                <a:ext cx="664920" cy="690480"/>
                <a:chOff x="8228160" y="2421000"/>
                <a:chExt cx="664920" cy="690480"/>
              </a:xfrm>
            </p:grpSpPr>
            <p:sp>
              <p:nvSpPr>
                <p:cNvPr id="186" name="Oval 25"/>
                <p:cNvSpPr/>
                <p:nvPr/>
              </p:nvSpPr>
              <p:spPr>
                <a:xfrm>
                  <a:off x="8228160" y="2421000"/>
                  <a:ext cx="664920" cy="69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87" name="Picture 26" descr="circuler_1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252280" y="2445840"/>
                  <a:ext cx="621000" cy="635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8" name="Oval 27"/>
                <p:cNvSpPr/>
                <p:nvPr/>
              </p:nvSpPr>
              <p:spPr>
                <a:xfrm>
                  <a:off x="8252280" y="2445840"/>
                  <a:ext cx="616680" cy="637200"/>
                </a:xfrm>
                <a:prstGeom prst="ellipse">
                  <a:avLst/>
                </a:prstGeom>
                <a:solidFill>
                  <a:srgbClr val="996600"/>
                </a:solidFill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9" name="Group 29"/>
                <p:cNvGrpSpPr/>
                <p:nvPr/>
              </p:nvGrpSpPr>
              <p:grpSpPr>
                <a:xfrm>
                  <a:off x="8290080" y="2890440"/>
                  <a:ext cx="551520" cy="218160"/>
                  <a:chOff x="8290080" y="2890440"/>
                  <a:chExt cx="551520" cy="218160"/>
                </a:xfrm>
              </p:grpSpPr>
              <p:grpSp>
                <p:nvGrpSpPr>
                  <p:cNvPr id="190" name="Group 30"/>
                  <p:cNvGrpSpPr/>
                  <p:nvPr/>
                </p:nvGrpSpPr>
                <p:grpSpPr>
                  <a:xfrm>
                    <a:off x="8389800" y="2893680"/>
                    <a:ext cx="451800" cy="208080"/>
                    <a:chOff x="8389800" y="2893680"/>
                    <a:chExt cx="451800" cy="208080"/>
                  </a:xfrm>
                </p:grpSpPr>
                <p:sp>
                  <p:nvSpPr>
                    <p:cNvPr id="191" name="AutoShape 31"/>
                    <p:cNvSpPr/>
                    <p:nvPr/>
                  </p:nvSpPr>
                  <p:spPr>
                    <a:xfrm flipH="1" flipV="1" rot="3964800">
                      <a:off x="8633880" y="2833920"/>
                      <a:ext cx="82800" cy="32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AutoShape 32"/>
                    <p:cNvSpPr/>
                    <p:nvPr/>
                  </p:nvSpPr>
                  <p:spPr>
                    <a:xfrm flipH="1" flipV="1" rot="4780200">
                      <a:off x="8582400" y="2853720"/>
                      <a:ext cx="82800" cy="32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AutoShape 33"/>
                    <p:cNvSpPr/>
                    <p:nvPr/>
                  </p:nvSpPr>
                  <p:spPr>
                    <a:xfrm flipH="1" flipV="1" rot="5076000">
                      <a:off x="8551440" y="2857680"/>
                      <a:ext cx="82800" cy="32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AutoShape 34"/>
                    <p:cNvSpPr/>
                    <p:nvPr/>
                  </p:nvSpPr>
                  <p:spPr>
                    <a:xfrm flipH="1" flipV="1" rot="5608200">
                      <a:off x="8513640" y="2860560"/>
                      <a:ext cx="82800" cy="32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Group 35"/>
                  <p:cNvGrpSpPr/>
                  <p:nvPr/>
                </p:nvGrpSpPr>
                <p:grpSpPr>
                  <a:xfrm>
                    <a:off x="8290080" y="2890440"/>
                    <a:ext cx="469080" cy="218160"/>
                    <a:chOff x="8290080" y="2890440"/>
                    <a:chExt cx="469080" cy="218160"/>
                  </a:xfrm>
                </p:grpSpPr>
                <p:sp>
                  <p:nvSpPr>
                    <p:cNvPr id="196" name="AutoShape 36"/>
                    <p:cNvSpPr/>
                    <p:nvPr/>
                  </p:nvSpPr>
                  <p:spPr>
                    <a:xfrm flipH="1" flipV="1" rot="5317800">
                      <a:off x="8553240" y="2859120"/>
                      <a:ext cx="83160" cy="32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AutoShape 37"/>
                    <p:cNvSpPr/>
                    <p:nvPr/>
                  </p:nvSpPr>
                  <p:spPr>
                    <a:xfrm flipH="1" flipV="1" rot="6133800">
                      <a:off x="8479440" y="2855880"/>
                      <a:ext cx="83520" cy="32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AutoShape 38"/>
                    <p:cNvSpPr/>
                    <p:nvPr/>
                  </p:nvSpPr>
                  <p:spPr>
                    <a:xfrm flipH="1" flipV="1" rot="6429000">
                      <a:off x="8450280" y="2850120"/>
                      <a:ext cx="83160" cy="32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3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AutoShape 39"/>
                    <p:cNvSpPr/>
                    <p:nvPr/>
                  </p:nvSpPr>
                  <p:spPr>
                    <a:xfrm flipH="1" flipV="1" rot="6961200">
                      <a:off x="8412480" y="2836440"/>
                      <a:ext cx="83520" cy="32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5" y="1929"/>
                            <a:pt x="10750" y="5080"/>
                            <a:pt x="10750" y="10800"/>
                          </a:cubicBezTo>
                          <a:cubicBezTo>
                            <a:pt x="10750" y="16520"/>
                            <a:pt x="16175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10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00" name="空心弧 3452"/>
              <p:cNvSpPr/>
              <p:nvPr/>
            </p:nvSpPr>
            <p:spPr>
              <a:xfrm>
                <a:off x="8238240" y="2468160"/>
                <a:ext cx="641880" cy="806760"/>
              </a:xfrm>
              <a:prstGeom prst="blockArc">
                <a:avLst>
                  <a:gd name="adj1" fmla="val 13436803"/>
                  <a:gd name="adj2" fmla="val 8163197"/>
                  <a:gd name="adj3" fmla="val 19954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椭圆 3449"/>
            <p:cNvSpPr/>
            <p:nvPr/>
          </p:nvSpPr>
          <p:spPr>
            <a:xfrm>
              <a:off x="8404920" y="2593800"/>
              <a:ext cx="313920" cy="313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Box 3450"/>
            <p:cNvSpPr/>
            <p:nvPr/>
          </p:nvSpPr>
          <p:spPr>
            <a:xfrm>
              <a:off x="8326440" y="2589840"/>
              <a:ext cx="50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Rectangle 39"/>
          <p:cNvSpPr/>
          <p:nvPr/>
        </p:nvSpPr>
        <p:spPr>
          <a:xfrm>
            <a:off x="6432480" y="4375080"/>
            <a:ext cx="2086200" cy="525600"/>
          </a:xfrm>
          <a:prstGeom prst="rect">
            <a:avLst/>
          </a:prstGeom>
          <a:solidFill>
            <a:srgbClr val="595959"/>
          </a:soli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9"/>
          <p:cNvSpPr/>
          <p:nvPr/>
        </p:nvSpPr>
        <p:spPr>
          <a:xfrm>
            <a:off x="6300720" y="5045040"/>
            <a:ext cx="2144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文字点击添加内容文字点击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9"/>
          <p:cNvSpPr/>
          <p:nvPr/>
        </p:nvSpPr>
        <p:spPr>
          <a:xfrm>
            <a:off x="893880" y="2330280"/>
            <a:ext cx="1708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9"/>
          <p:cNvSpPr/>
          <p:nvPr/>
        </p:nvSpPr>
        <p:spPr>
          <a:xfrm>
            <a:off x="2647800" y="2320920"/>
            <a:ext cx="17082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9"/>
          <p:cNvSpPr/>
          <p:nvPr/>
        </p:nvSpPr>
        <p:spPr>
          <a:xfrm>
            <a:off x="4282920" y="2276640"/>
            <a:ext cx="17082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9"/>
          <p:cNvSpPr/>
          <p:nvPr/>
        </p:nvSpPr>
        <p:spPr>
          <a:xfrm>
            <a:off x="5580000" y="2133720"/>
            <a:ext cx="17082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9"/>
          <p:cNvSpPr/>
          <p:nvPr/>
        </p:nvSpPr>
        <p:spPr>
          <a:xfrm>
            <a:off x="6896160" y="2060640"/>
            <a:ext cx="17082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6:05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