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299B-E29C-4B3E-93A4-A2D1E033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D2C-F3B4-4335-8A5E-D87AE44B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1D5B-54AB-434D-9E42-CF050757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F3A-DA18-4658-8106-CFEB249D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B056-5147-42B0-9DA6-6F8FE20B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2D66-2B83-4839-9929-9A3C375D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0838-183A-4831-9822-F7B56112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A709-F6DB-446E-BE33-1E28561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304D-6805-44F7-81C4-6E372B60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6560" y="19512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6015-E93F-4D1B-BD73-AB1A3FD2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46B9-F460-433E-B490-706C799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C62-0F12-424F-BE1E-45C27C52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ACC7-0C21-4974-B299-ECD75C0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9B29-9411-4F93-8EBD-C02E3D80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8F00-647C-4968-9C44-A8606720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FD6D-4D7C-4B03-AB0D-AD3ABBFD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5E1E-FFD0-4FD2-9FA4-6CC0911E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AD3-89AB-43C0-B050-1EA74B43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1DF3-2A85-4921-AABB-92751C8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4D25-CCAA-481E-9C14-20F05DD3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19512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F5B-6E7D-4DD2-BC3D-49470C94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8E2-C5F6-4677-9958-41DCEE0A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968-5527-4B64-BF82-EDACE9DE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102-C3CE-4E7C-B273-95A4EA3A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CE79-E242-45D0-B390-BE3B2E0F6C1C}" type="slidenum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0920" y="3147480"/>
            <a:ext cx="5327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8489-BA8F-47CA-9652-4F3783459CA5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7392960" y="3751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专用模板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7211880" y="3457440"/>
            <a:ext cx="1461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5">
                                  <p:stCondLst>
                                    <p:cond delay="1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0" dur="300" fill="hold"/>
                                        <p:tgtEl>
                                          <p:spTgt spid="84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94"/>
          <p:cNvSpPr/>
          <p:nvPr/>
        </p:nvSpPr>
        <p:spPr>
          <a:xfrm>
            <a:off x="720720" y="804960"/>
            <a:ext cx="35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757080" y="1941480"/>
            <a:ext cx="7848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把新世纪的祝福和希望，悄悄地放在将融的雪被下，让它们，沿着春天的秧苗生长，送给你满年的丰硕与芬芳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接连接符 5"/>
          <p:cNvSpPr/>
          <p:nvPr/>
        </p:nvSpPr>
        <p:spPr>
          <a:xfrm>
            <a:off x="841320" y="15541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7229520" y="2782800"/>
            <a:ext cx="151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快乐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E:\工作夹\PPT模版\s1030元旦\原图片\元旦.png"/>
          <p:cNvPicPr/>
          <p:nvPr/>
        </p:nvPicPr>
        <p:blipFill>
          <a:blip r:embed="rId3"/>
          <a:stretch/>
        </p:blipFill>
        <p:spPr>
          <a:xfrm>
            <a:off x="7124760" y="3751200"/>
            <a:ext cx="1824120" cy="1422360"/>
          </a:xfrm>
          <a:prstGeom prst="rect">
            <a:avLst/>
          </a:prstGeom>
          <a:ln w="0">
            <a:noFill/>
          </a:ln>
        </p:spPr>
      </p:pic>
      <p:sp>
        <p:nvSpPr>
          <p:cNvPr id="91" name="直接连接符 9"/>
          <p:cNvSpPr/>
          <p:nvPr/>
        </p:nvSpPr>
        <p:spPr>
          <a:xfrm>
            <a:off x="841320" y="236052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841320" y="271620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11"/>
          <p:cNvSpPr/>
          <p:nvPr/>
        </p:nvSpPr>
        <p:spPr>
          <a:xfrm>
            <a:off x="841320" y="2004840"/>
            <a:ext cx="7764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367600" y="3597120"/>
            <a:ext cx="30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7254720" y="4414680"/>
            <a:ext cx="10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3.3349990844727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A3E-73BD-49B7-A56F-0200A63109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05:44:41Z</dcterms:created>
  <dc:creator>锐普PPT</dc:creator>
  <dc:description>本素材由上海锐普广告有限公司原创，版权受国家法律保护。鼓励您使用和传播，但为了您个人和锐普的利益，请勿用于销售，勿更改版权信息进行传播，否则将承担法律责任。</dc:description>
  <dc:language>en-US</dc:language>
  <cp:lastModifiedBy>锐普PPT</cp:lastModifiedBy>
  <dcterms:modified xsi:type="dcterms:W3CDTF">2015-06-12T14:59:29Z</dcterms:modified>
  <cp:revision>2</cp:revision>
  <dc:subject/>
  <dc:title>2012年锐普元旦PPT模板——心愿小盒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