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DB4-A5F2-45E2-A2A8-990C7917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B46C-87E7-4A7C-B74F-BA063D33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03A-46B1-49F1-B59E-44FC2B37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B81-D0F3-45DF-A62B-9D0927D3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6D73-9D2D-4950-BC5A-CCD1DA82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F50D-1576-427A-8245-8F12AA9C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7F70-83B9-4054-A38F-09F0EC20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106C-1625-4D75-8E86-865C5BB8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6FB5-DF5E-4C60-9C6D-9B4AD58A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0C59-B4E8-4985-8ED3-8CAFFD05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500A-E32E-43C9-A80F-DBA655D9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56E0-CDFF-4F8B-A16B-210C4672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5402-3B51-4888-A5AC-48AB5DA7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D5D8-75DF-4B7C-8528-D2F1C837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6488-4396-442D-9A0D-12BEFA72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5769-B0D6-43C9-9080-3DB670A3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54BB-1ACF-48B2-AE48-0298ABA5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0BC8-C4CC-448E-B7CE-9F68B1BC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47B-C732-4198-981F-A3BBD73E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BFE-1A94-4C06-9BE9-7E1AC4D0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789-6C56-4DF6-8AEE-46CF9EC8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DF6-6274-42F3-BDAA-271B22BD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8F1-B594-4B1A-82AE-450FCE4D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B8B-FE9B-427E-9D45-4C714CED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9320-8AFE-46B0-B02D-481BD70E5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4920" y="4428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EA0F-2EAE-4724-8C0F-4B67F01B2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131920"/>
            <a:ext cx="77040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防震手册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09880" y="64501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消除恐惧心理，相信自己有坚定的生存毅力，相信一定可以脱离险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54080" y="1225440"/>
            <a:ext cx="703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art 3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互相救助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统计显示，大地震后半小时内救出的被埋人员生存率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请支持救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听被困人员的呼喊、呻吟、敲击声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54080" y="1268280"/>
            <a:ext cx="703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房屋结构，确定被困人员的位置，再行抢救，以防止意外伤亡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054080" y="1225440"/>
            <a:ext cx="7035840" cy="4724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409880" y="64501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抢救建筑物边沿瓦砾中的幸存者，及时抢救那些容易获救的幸存者，以扩大互救队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054080" y="1225440"/>
            <a:ext cx="703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援抢救队伍应当首先抢救那些容易获救的是医院、学校、旅社、招待所等人员密集的地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703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救援需讲究方法。首先应使头部暴露。迅速清除口鼻内尘土，防止窒息，再行抢救，不可用利器刨挖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16000" y="1225440"/>
            <a:ext cx="703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埋压废虚中时间较长的幸存者，首先应输送饮料，然后边挖边支撑，注意保护幸存者的眼睛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54080" y="1268280"/>
            <a:ext cx="703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颈椎和腰椎受伤的人，施救时切忌生拉硬抬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54080" y="1297080"/>
            <a:ext cx="7035840" cy="4724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409880" y="64501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那些一息尚存的危重伤员，应尽可能在现场进行救治，然后迅速送往医院和医疗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054080" y="1197000"/>
            <a:ext cx="7035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让我们携起手来</a:t>
            </a: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共同抵御地震！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60360" y="631044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art 1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个人避震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震来临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楼房中：迅速远离外墙及其门窗，可选择厨房、浴室、厕所、楼梯间等开间小而不易塌落的空间避震，千万不要外逃或从楼上跳下，也不能使用电梯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5240" y="1268280"/>
            <a:ext cx="7035840" cy="472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E2A-8D66-41F6-8CED-240E5FB0BF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户外：要避开高大建筑物，要远离高压线及石化、化学、煤气等有毒的工厂或设施。在过桥时应紧紧抓住桥栏杆，待主震发生后即向桥头移动，正在行驶的车辆应紧急刹车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7035840" cy="472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工作间：应迅速关掉电源闸、门开关、然后就近选择机器、设备、办公家俱或事先建立的“安全岛”内避震，并防止次生灾害的发生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035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公共场所：如车站、剧院、教室、商店、候车室、地铁等场所的人员、切忌乱逃，要保持冷静，就地择物（排椅、柜架等物）躲避，伏而待定，然后听从指挥，有序撤离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54080" y="1225440"/>
            <a:ext cx="703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5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有毒气的化工厂区域内要朝污染源的上风处跑，以免中毒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54080" y="1066680"/>
            <a:ext cx="7035840" cy="4724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409880" y="64501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art 2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如何自救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困住了怎么办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困时，保持头脑清醒，设法将手脚挣脱出来，消除压在身上的物体，尽快捂住口鼻，防止烟尘窒息，等待求援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42920" y="1297080"/>
            <a:ext cx="7035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想方设法支撑可能坠落的重物，若无力自救脱险时，应尽量减少体力消耗，等待救援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54080" y="1152360"/>
            <a:ext cx="703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避免大声呼救，用石块或铁具等敲击物体来外界联系，保存体力，延长生命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054080" y="1225440"/>
            <a:ext cx="703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9:31:42Z</dcterms:created>
  <dc:creator/>
  <dc:description/>
  <dc:language>en-US</dc:language>
  <cp:lastModifiedBy>z</cp:lastModifiedBy>
  <dcterms:modified xsi:type="dcterms:W3CDTF">2015-06-13T08:36:42Z</dcterms:modified>
  <cp:revision>1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