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945-DAF7-41AA-84F7-FE7741AA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72B-3D99-462F-A217-22B3DD26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096-68EA-4B41-AB4D-256CD853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DDB-D336-404C-ADBA-74C4C04F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F35-47FA-4773-96D4-D411D2D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686-4269-4041-82E3-54ED514A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CA7-A9EB-4567-B928-5BD555CF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571-E859-4B63-A370-3415C52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B07-CAC8-4C0B-8E2E-C1D1421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5C0-CB14-4F4B-82A0-79D4518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677-3685-469B-BE7C-B26EC88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97E-42AD-4D7C-A2E6-E9CE521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C952-A746-41C0-B158-5D5BC32B3A2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848-C7CB-490F-8B6D-800A45AB4677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SLIDEtoME\TP模板\新建文件夹 (2)\新建文件夹\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45584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非常大气的精美商务</a:t>
            </a: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模板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2478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68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:\SLIDEtoME\TP模板\新建文件夹 (2)\新建文件夹\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7A1-37BD-43A3-BCB2-A4C221333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28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C87-CE08-4E1F-A9F1-C6AB7A32A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9"/>
          <p:cNvSpPr/>
          <p:nvPr/>
        </p:nvSpPr>
        <p:spPr>
          <a:xfrm>
            <a:off x="1285920" y="325908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1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6432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84B-84DE-44CE-B326-2968C5B45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57" name=""/>
            <p:cNvSpPr/>
            <p:nvPr/>
          </p:nvSpPr>
          <p:spPr>
            <a:xfrm rot="5400000">
              <a:off x="5239440" y="-15055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0920" y="14421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133992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8480" y="137592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5239440" y="-7308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0920" y="22168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21142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8480" y="21502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5239440" y="4356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20920" y="299160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288900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8480" y="292500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239440" y="8179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0920" y="37659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66336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8480" y="369936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5239440" y="159264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0920" y="45406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80" y="44380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8480" y="44740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5239440" y="23670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0920" y="531504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280" y="521244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8480" y="524844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BA4-368F-4486-9684-F4D733C3B1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83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38360" y="6292800"/>
            <a:ext cx="625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381-220B-475A-A5C3-3896CABBB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80D-CF81-42FF-8CBA-9D5995961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05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CDF-5114-4918-81F6-779DC2121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8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84E-5952-4CD1-AFB1-203C55358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12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2628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465-AE84-455A-A1E9-BB2A1A590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16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7AA-7498-4D0E-AD44-6193267D7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5:28:00Z</dcterms:created>
  <dc:creator>lenovo</dc:creator>
  <dc:description>我爱PPT中文网</dc:description>
  <cp:keywords>XS-普屏 4：3;SC-深灰色;BG-浅色;DH-静态;XJ-二级</cp:keywords>
  <dc:language>en-US</dc:language>
  <cp:lastModifiedBy>lenovo</cp:lastModifiedBy>
  <dcterms:modified xsi:type="dcterms:W3CDTF">2015-06-13T11:56:29Z</dcterms:modified>
  <cp:revision>4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