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DD5-4E01-470B-93D1-6327C807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593-40A5-4BF1-9502-F74391D2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D37-9C29-42DC-A3FB-D081E5B2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C1F-A2B2-48B1-A106-39BF1C25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E36-4EF7-4A69-B9F9-849E6CE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AE5-93DA-4C66-8605-162945F4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637-DF25-41C5-A7A7-76BD5ABC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6D0-9B1F-49A1-9350-B8B3EDD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D94-64DA-4036-8C6D-D1F134D0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4B2-9F5E-4AFB-A0FD-130B767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B25-52A0-466C-B8B2-46B17F6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552-B8B8-4AD9-975C-0D78FE5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456-68F7-48F7-85E2-F34A2C5D7F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7B36-C4D7-4FD4-87EC-504230261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 flipH="1" rot="2712600">
            <a:off x="4520520" y="188424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99"/>
              </a:gs>
              <a:gs pos="100000">
                <a:srgbClr val="f1c986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459240" y="28940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 rot="18887400">
            <a:off x="2252520" y="187272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7c6e5"/>
              </a:gs>
              <a:gs pos="100000">
                <a:srgbClr val="a2d4d4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471840" y="2889360"/>
            <a:ext cx="2028960" cy="202860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flipH="1" flipV="1" rot="18887400">
            <a:off x="4505040" y="414576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d4d4"/>
              </a:gs>
              <a:gs pos="100000">
                <a:srgbClr val="a7c6e5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694040" y="4765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703600" y="2641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694040" y="2641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flipV="1" rot="2712600">
            <a:off x="2251440" y="413856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99"/>
              </a:gs>
              <a:gs pos="100000">
                <a:srgbClr val="f1c986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703600" y="47656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33520" y="2128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477120" y="4791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7c6e5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77720" y="48718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477120" y="2124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173"/>
          <p:cNvPicPr/>
          <p:nvPr/>
        </p:nvPicPr>
        <p:blipFill>
          <a:blip r:embed="rId1"/>
          <a:stretch/>
        </p:blipFill>
        <p:spPr>
          <a:xfrm>
            <a:off x="3505320" y="29718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59" name="Freeform 4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3380400" y="2438280"/>
              <a:ext cx="3619800" cy="1786680"/>
            </a:xfrm>
            <a:custGeom>
              <a:avLst/>
              <a:gdLst>
                <a:gd name="textAreaLeft" fmla="*/ 0 w 3619800"/>
                <a:gd name="textAreaRight" fmla="*/ 3620160 w 3619800"/>
                <a:gd name="textAreaTop" fmla="*/ 0 h 1786680"/>
                <a:gd name="textAreaBottom" fmla="*/ 1787040 h 178668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1752480" y="28346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63" name="Freeform 8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1368360"/>
                <a:gd name="textAreaBottom" fmla="*/ 1368360 h 136836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a7c6e5"/>
                </a:gs>
                <a:gs pos="100000">
                  <a:srgbClr val="2c53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327840" y="2362320"/>
              <a:ext cx="3672000" cy="1739520"/>
            </a:xfrm>
            <a:custGeom>
              <a:avLst/>
              <a:gdLst>
                <a:gd name="textAreaLeft" fmla="*/ 0 w 3672000"/>
                <a:gd name="textAreaRight" fmla="*/ 3672360 w 367200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1676520" y="2748240"/>
              <a:ext cx="2006280" cy="1959840"/>
            </a:xfrm>
            <a:custGeom>
              <a:avLst/>
              <a:gdLst>
                <a:gd name="textAreaLeft" fmla="*/ 0 w 2006280"/>
                <a:gd name="textAreaRight" fmla="*/ 2006640 w 200628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6b1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1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a7c6e5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irculer_1"/>
          <p:cNvPicPr/>
          <p:nvPr/>
        </p:nvPicPr>
        <p:blipFill>
          <a:blip r:embed="rId2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76" name="Oval 9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a7c6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circuler_1"/>
          <p:cNvPicPr/>
          <p:nvPr/>
        </p:nvPicPr>
        <p:blipFill>
          <a:blip r:embed="rId3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78" name="Oval 11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circuler_1"/>
          <p:cNvPicPr/>
          <p:nvPr/>
        </p:nvPicPr>
        <p:blipFill>
          <a:blip r:embed="rId4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80" name="Oval 13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a7c6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circuler_1"/>
          <p:cNvPicPr/>
          <p:nvPr/>
        </p:nvPicPr>
        <p:blipFill>
          <a:blip r:embed="rId5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82" name="Oval 15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85" name="Oval 18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rot="5400000">
              <a:off x="3033000" y="2318400"/>
              <a:ext cx="46800" cy="2685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V="1" rot="16200000">
              <a:off x="3036600" y="2112120"/>
              <a:ext cx="46800" cy="2685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360 h 268560"/>
                <a:gd name="textAreaBottom" fmla="*/ 269280 h 26856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93" name="Freeform 26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9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0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103" name="AutoShape 36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7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8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9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0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1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2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11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112" name="Freeform 45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00">
                  <a:alpha val="60000"/>
                </a:srgbClr>
              </a:solidFill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6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7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Freeform 48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49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2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98920" y="1785600"/>
            <a:ext cx="4013640" cy="4250880"/>
            <a:chOff x="2698920" y="1785600"/>
            <a:chExt cx="4013640" cy="4250880"/>
          </a:xfrm>
        </p:grpSpPr>
        <p:sp>
          <p:nvSpPr>
            <p:cNvPr id="122" name="Freeform 4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3344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 rot="7200000">
              <a:off x="4393440" y="2039040"/>
              <a:ext cx="1365120" cy="207180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a7c6e5"/>
                </a:gs>
                <a:gs pos="100000">
                  <a:srgbClr val="2c5353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125" name="AutoShape 7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9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a7c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10"/>
            <p:cNvSpPr/>
            <p:nvPr/>
          </p:nvSpPr>
          <p:spPr>
            <a:xfrm rot="14400000">
              <a:off x="4507560" y="3891600"/>
              <a:ext cx="1365120" cy="207144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440"/>
                <a:gd name="textAreaBottom" fmla="*/ 2071800 h 2071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6a4509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130" name="AutoShape 12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 rot="14400000">
                <a:off x="4982400" y="3575160"/>
                <a:ext cx="1504800" cy="8046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804600"/>
                  <a:gd name="textAreaBottom" fmla="*/ 804960 h 8046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134" name="Freeform 16"/>
              <p:cNvSpPr/>
              <p:nvPr/>
            </p:nvSpPr>
            <p:spPr>
              <a:xfrm>
                <a:off x="2698920" y="4327560"/>
                <a:ext cx="582120" cy="110232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1102320"/>
                  <a:gd name="textAreaBottom" fmla="*/ 1102680 h 110232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 rot="5400000">
                <a:off x="4177800" y="4707720"/>
                <a:ext cx="1388520" cy="64080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8"/>
              <p:cNvSpPr/>
              <p:nvPr/>
            </p:nvSpPr>
            <p:spPr>
              <a:xfrm>
                <a:off x="3223440" y="4650840"/>
                <a:ext cx="1598400" cy="779040"/>
              </a:xfrm>
              <a:custGeom>
                <a:avLst/>
                <a:gdLst>
                  <a:gd name="textAreaLeft" fmla="*/ 0 w 1598400"/>
                  <a:gd name="textAreaRight" fmla="*/ 1598760 w 159840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E42-834F-48D4-A871-0D5485533F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47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