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659-E874-44C2-A890-9730D42F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1D5-0557-4271-8009-1BE67FEB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C54-29D8-4800-A3D1-2CF1640B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E95-CC2E-468B-99B4-321D9E7B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8A6-AAE0-436C-8A84-065D27AD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4C6-1905-4374-86A5-31A07F05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6B5-C6D5-472B-8A56-395209DB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38D-C381-4EB2-806B-F975F237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93B-3337-47C4-9580-BD29383D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FA5-B388-465C-B238-A71538C2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CF0-90B2-4ECE-9641-CC3B19FE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29E-2738-4EC0-9BD9-20059C0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AC1-FC38-4229-91E7-BB424E89C8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3B9D-63DC-42A4-AD0F-3A0D9A1CA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关联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2298240"/>
            <a:ext cx="5457600" cy="3699000"/>
            <a:chOff x="1727280" y="2298240"/>
            <a:chExt cx="5457600" cy="3699000"/>
          </a:xfrm>
        </p:grpSpPr>
        <p:sp>
          <p:nvSpPr>
            <p:cNvPr id="43" name="椭圆 5"/>
            <p:cNvSpPr/>
            <p:nvPr/>
          </p:nvSpPr>
          <p:spPr>
            <a:xfrm>
              <a:off x="1727280" y="3355200"/>
              <a:ext cx="5457600" cy="1761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6"/>
            <p:cNvSpPr/>
            <p:nvPr/>
          </p:nvSpPr>
          <p:spPr>
            <a:xfrm rot="16200000">
              <a:off x="2635560" y="3267360"/>
              <a:ext cx="3699000" cy="1760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椭圆 7"/>
          <p:cNvSpPr/>
          <p:nvPr/>
        </p:nvSpPr>
        <p:spPr>
          <a:xfrm>
            <a:off x="3143160" y="2928960"/>
            <a:ext cx="105732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4786200" y="2857680"/>
            <a:ext cx="1057320" cy="105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3214800" y="4500720"/>
            <a:ext cx="1055520" cy="105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4786200" y="4500720"/>
            <a:ext cx="1057320" cy="105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6643800" y="3643200"/>
            <a:ext cx="1057320" cy="105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3929040" y="1643040"/>
            <a:ext cx="105588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1214280" y="3714840"/>
            <a:ext cx="1055880" cy="105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4000680" y="5572080"/>
            <a:ext cx="1056960" cy="105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剪去单角的矩形 15"/>
          <p:cNvSpPr/>
          <p:nvPr/>
        </p:nvSpPr>
        <p:spPr>
          <a:xfrm>
            <a:off x="500040" y="1857240"/>
            <a:ext cx="1928880" cy="121464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直接箭头连接符 16"/>
          <p:cNvCxnSpPr>
            <a:stCxn id="45" idx="1"/>
            <a:endCxn id="53" idx="0"/>
          </p:cNvCxnSpPr>
          <p:nvPr/>
        </p:nvCxnSpPr>
        <p:spPr>
          <a:xfrm flipH="1" flipV="1">
            <a:off x="500040" y="1857240"/>
            <a:ext cx="2798280" cy="122652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  <p:sp>
        <p:nvSpPr>
          <p:cNvPr id="55" name="剪去单角的矩形 17"/>
          <p:cNvSpPr/>
          <p:nvPr/>
        </p:nvSpPr>
        <p:spPr>
          <a:xfrm>
            <a:off x="6572160" y="1857240"/>
            <a:ext cx="1928880" cy="121464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8"/>
          <p:cNvCxnSpPr>
            <a:stCxn id="46" idx="7"/>
            <a:endCxn id="55" idx="0"/>
          </p:cNvCxnSpPr>
          <p:nvPr/>
        </p:nvCxnSpPr>
        <p:spPr>
          <a:xfrm flipV="1">
            <a:off x="5688720" y="2059200"/>
            <a:ext cx="2812680" cy="95364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  <p:sp>
        <p:nvSpPr>
          <p:cNvPr id="57" name="剪去单角的矩形 19"/>
          <p:cNvSpPr/>
          <p:nvPr/>
        </p:nvSpPr>
        <p:spPr>
          <a:xfrm>
            <a:off x="6572160" y="5357880"/>
            <a:ext cx="19288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直接箭头连接符 20"/>
          <p:cNvCxnSpPr>
            <a:stCxn id="48" idx="5"/>
            <a:endCxn id="57" idx="0"/>
          </p:cNvCxnSpPr>
          <p:nvPr/>
        </p:nvCxnSpPr>
        <p:spPr>
          <a:xfrm>
            <a:off x="5688720" y="5402880"/>
            <a:ext cx="2812680" cy="15696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  <p:sp>
        <p:nvSpPr>
          <p:cNvPr id="59" name="剪去单角的矩形 21"/>
          <p:cNvSpPr/>
          <p:nvPr/>
        </p:nvSpPr>
        <p:spPr>
          <a:xfrm>
            <a:off x="500040" y="5357880"/>
            <a:ext cx="1928880" cy="1214280"/>
          </a:xfrm>
          <a:prstGeom prst="pie">
            <a:avLst/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双击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箭头连接符 22"/>
          <p:cNvCxnSpPr>
            <a:stCxn id="47" idx="3"/>
            <a:endCxn id="59" idx="0"/>
          </p:cNvCxnSpPr>
          <p:nvPr/>
        </p:nvCxnSpPr>
        <p:spPr>
          <a:xfrm flipH="1" flipV="1">
            <a:off x="500040" y="5357880"/>
            <a:ext cx="2869560" cy="45360"/>
          </a:xfrm>
          <a:prstGeom prst="straightConnector1">
            <a:avLst/>
          </a:prstGeom>
          <a:ln w="38160">
            <a:solidFill>
              <a:srgbClr val="a7c6e5"/>
            </a:solidFill>
            <a:miter/>
            <a:tailEnd len="med" type="arrow" w="med"/>
          </a:ln>
        </p:spPr>
      </p:cxn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2E1-3109-45BE-9482-770E529987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5:3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