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B4E6-B435-4556-9F5A-1C825DDB1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F5D1-4F7C-445E-AECF-5B2F80C18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D0ED-2CA3-4B0A-BAC0-C5B68B8F8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4143-B9C6-4E29-AC66-17B29EA5C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FAB9F-072F-449A-8813-234090AE5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8A7CF-2002-41E8-A87E-BA161A42E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E6E01-DFE2-4684-A747-D2671BD19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57F04-0D28-4163-B7A1-D0E553A6B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16C05-3248-40E0-AC0D-0C93198D9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0D450-A417-4DB2-8150-F1D138857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5BF9C-8852-409C-AF6F-106D57C3B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68F2-4AC9-4BE9-8D4B-54534C957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CCAB8-3467-40FB-8C3B-542B9E867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4C339-382C-4BEF-9FE8-F46268B7A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779BB-7EA8-432D-A72F-AA909D275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6224B-E54E-4344-8F55-B10E50A81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CF702-49F4-45AA-AD98-840D1B793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F6FB-4917-40C2-B871-D8FD0C280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0042-ADC3-4B5C-A0B7-995EFE832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C16D-1E50-4BDE-9B7A-6B098BD38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2A35-56B5-4E76-9762-58B2E90A9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D46C-6FA9-464C-9A30-910CFAD2C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969C-E7BE-4BCB-9146-781F380D7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3D82-1E4D-4D05-9255-665F41E36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40CD8-9709-48FB-AC97-58A851271131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C7E79-D3E8-452C-BA94-716F8CB68EB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D7CE7-6983-48CA-9DD2-1816DB7F997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39DEE-76F3-4702-B13E-C634C4FD2A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1" descr="88b1OOOPICd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n</dc:creator>
  <dc:description/>
  <dc:language>en-US</dc:language>
  <cp:lastModifiedBy>bianxiaoxiang</cp:lastModifiedBy>
  <dcterms:modified xsi:type="dcterms:W3CDTF">2015-06-13T11:27:23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