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355-623A-4EB7-888A-4EBFE57E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6EA-3FE1-4116-B6F7-1CCC987D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060-5420-4B6F-8C68-B62DC30F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AAC-9340-49A7-82D5-81C0F704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727-095B-4559-80FE-0D9C2677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A14-138A-426A-9281-C3A4A7D2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CBB-4090-41E0-88A7-AC632CDE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C55-373F-4900-A627-1F2B547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D58-2F8E-4387-B982-7614686F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877-DF29-426D-915F-8804BF30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162-B6F8-4551-9F2A-6BAB1B2B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153-E7FA-4E02-B153-F5082174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8487-C351-4DDC-9138-9BB8B7CBB0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5C5-40E1-48D3-8C23-AAF2BCBF33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3"/>
          <p:cNvSpPr/>
          <p:nvPr/>
        </p:nvSpPr>
        <p:spPr>
          <a:xfrm>
            <a:off x="3786120" y="4071960"/>
            <a:ext cx="4714920" cy="200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交叉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5"/>
          <p:cNvSpPr/>
          <p:nvPr/>
        </p:nvSpPr>
        <p:spPr>
          <a:xfrm>
            <a:off x="714240" y="4071960"/>
            <a:ext cx="4714920" cy="200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"/>
          <p:cNvSpPr/>
          <p:nvPr/>
        </p:nvSpPr>
        <p:spPr>
          <a:xfrm>
            <a:off x="714240" y="4071960"/>
            <a:ext cx="4714920" cy="2000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3786120" y="4071960"/>
            <a:ext cx="4714920" cy="2000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3786120" y="4286160"/>
            <a:ext cx="1643040" cy="157176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9"/>
          <p:cNvSpPr/>
          <p:nvPr/>
        </p:nvSpPr>
        <p:spPr>
          <a:xfrm>
            <a:off x="3500280" y="1928880"/>
            <a:ext cx="214344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箭头连接符 10"/>
          <p:cNvCxnSpPr/>
          <p:nvPr/>
        </p:nvCxnSpPr>
        <p:spPr>
          <a:xfrm flipH="1">
            <a:off x="4570200" y="3071880"/>
            <a:ext cx="2160" cy="16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圆角矩形 11"/>
          <p:cNvSpPr/>
          <p:nvPr/>
        </p:nvSpPr>
        <p:spPr>
          <a:xfrm>
            <a:off x="1071720" y="228600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2"/>
          <p:cNvSpPr/>
          <p:nvPr/>
        </p:nvSpPr>
        <p:spPr>
          <a:xfrm>
            <a:off x="5929200" y="235728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直接箭头连接符 13"/>
          <p:cNvCxnSpPr/>
          <p:nvPr/>
        </p:nvCxnSpPr>
        <p:spPr>
          <a:xfrm>
            <a:off x="2142000" y="3428640"/>
            <a:ext cx="50076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直接箭头连接符 14"/>
          <p:cNvCxnSpPr/>
          <p:nvPr/>
        </p:nvCxnSpPr>
        <p:spPr>
          <a:xfrm flipH="1">
            <a:off x="6286320" y="3498840"/>
            <a:ext cx="714960" cy="121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BB8-338A-489C-B43D-42031AD180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7:2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