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CF6-9347-4DF6-9D39-601DEFE0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A3B-3416-450A-872B-66EF44C1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D32-0607-49E4-A4BE-99EAC462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0EF-0B6D-4B9F-8507-3846FE2B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9CD6-9B09-4166-B380-747DC87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393-CDB1-40CC-BA52-2DDE23B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1AF3-5BB4-4D8A-97A6-C6BB0E1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907-F191-449F-A641-0A6344D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3C12-DC17-4D79-9F51-53BF940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E1FB-53F2-41E5-8432-7B657088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CE6F-3F7D-4EBB-8B64-5870E81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C11-8911-4B9A-A71B-3063BC3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A81-F2D0-4B4E-BF2E-36CEDD1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CAE-55E3-41F0-8F24-C7F3004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088D-631F-47F7-BE63-4A42BD59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3410-0B8D-49DC-A2C0-25650EA5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C2BF-E1F3-482C-A511-091D3FEB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D13-07A5-48AC-B4A3-AA4EE108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EB5-8522-4802-8C79-069EF9B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CE2-6707-4D0B-B8F9-1ED6E43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CF9-3E44-4EC9-A9FA-468EEAF5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AD0-BA7A-4A50-B50C-FA37E34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FEB-A736-476C-8A4E-205BBBA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54F-762A-4D07-A053-744A561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7EB-51E4-47BA-9008-6059B3D650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DA2F-CBB6-4D98-8987-00F67946F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F0E-C52A-4B90-8FB8-8ED0F09049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8A2-B183-4128-9942-073A3FE5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apidpp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41280" y="4516560"/>
            <a:ext cx="8540640" cy="1420560"/>
            <a:chOff x="341280" y="4516560"/>
            <a:chExt cx="8540640" cy="142056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341280" y="4516560"/>
              <a:ext cx="85406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70040" y="4800240"/>
              <a:ext cx="58039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组合 4" descr=""/>
          <p:cNvPicPr/>
          <p:nvPr/>
        </p:nvPicPr>
        <p:blipFill>
          <a:blip r:embed="rId2"/>
          <a:stretch/>
        </p:blipFill>
        <p:spPr>
          <a:xfrm>
            <a:off x="3097080" y="2243160"/>
            <a:ext cx="2949840" cy="5853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1"/>
          <p:cNvSpPr/>
          <p:nvPr/>
        </p:nvSpPr>
        <p:spPr>
          <a:xfrm flipH="1">
            <a:off x="3843360" y="34369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15920" y="2666880"/>
            <a:ext cx="2184480" cy="459000"/>
            <a:chOff x="1015920" y="2666880"/>
            <a:chExt cx="2184480" cy="459000"/>
          </a:xfrm>
        </p:grpSpPr>
        <p:sp>
          <p:nvSpPr>
            <p:cNvPr id="88" name="TextBox 11"/>
            <p:cNvSpPr/>
            <p:nvPr/>
          </p:nvSpPr>
          <p:spPr>
            <a:xfrm flipH="1">
              <a:off x="1015920" y="26668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1"/>
            <p:cNvSpPr/>
            <p:nvPr/>
          </p:nvSpPr>
          <p:spPr>
            <a:xfrm flipH="1">
              <a:off x="2054160" y="26668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11"/>
          <p:cNvSpPr/>
          <p:nvPr/>
        </p:nvSpPr>
        <p:spPr>
          <a:xfrm flipH="1">
            <a:off x="1038240" y="2249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00840" y="2116080"/>
            <a:ext cx="2184480" cy="459000"/>
            <a:chOff x="6000840" y="2116080"/>
            <a:chExt cx="2184480" cy="459000"/>
          </a:xfrm>
        </p:grpSpPr>
        <p:sp>
          <p:nvSpPr>
            <p:cNvPr id="92" name="TextBox 11"/>
            <p:cNvSpPr/>
            <p:nvPr/>
          </p:nvSpPr>
          <p:spPr>
            <a:xfrm flipH="1">
              <a:off x="6000840" y="21160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1"/>
            <p:cNvSpPr/>
            <p:nvPr/>
          </p:nvSpPr>
          <p:spPr>
            <a:xfrm flipH="1">
              <a:off x="7039080" y="21160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1"/>
          <p:cNvSpPr/>
          <p:nvPr/>
        </p:nvSpPr>
        <p:spPr>
          <a:xfrm flipH="1">
            <a:off x="6022800" y="17002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26120" y="3887640"/>
            <a:ext cx="2184480" cy="459000"/>
            <a:chOff x="6126120" y="3887640"/>
            <a:chExt cx="2184480" cy="459000"/>
          </a:xfrm>
        </p:grpSpPr>
        <p:sp>
          <p:nvSpPr>
            <p:cNvPr id="96" name="TextBox 11"/>
            <p:cNvSpPr/>
            <p:nvPr/>
          </p:nvSpPr>
          <p:spPr>
            <a:xfrm flipH="1">
              <a:off x="6126120" y="38876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 flipH="1">
              <a:off x="7164360" y="38876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1"/>
          <p:cNvSpPr/>
          <p:nvPr/>
        </p:nvSpPr>
        <p:spPr>
          <a:xfrm flipH="1">
            <a:off x="6149880" y="347184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2160" y="4317840"/>
            <a:ext cx="2184480" cy="459000"/>
            <a:chOff x="992160" y="4317840"/>
            <a:chExt cx="2184480" cy="459000"/>
          </a:xfrm>
        </p:grpSpPr>
        <p:sp>
          <p:nvSpPr>
            <p:cNvPr id="100" name="TextBox 11"/>
            <p:cNvSpPr/>
            <p:nvPr/>
          </p:nvSpPr>
          <p:spPr>
            <a:xfrm flipH="1">
              <a:off x="992160" y="4317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1"/>
            <p:cNvSpPr/>
            <p:nvPr/>
          </p:nvSpPr>
          <p:spPr>
            <a:xfrm flipH="1">
              <a:off x="2030400" y="4317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1"/>
          <p:cNvSpPr/>
          <p:nvPr/>
        </p:nvSpPr>
        <p:spPr>
          <a:xfrm flipH="1">
            <a:off x="1014480" y="39006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6"/>
          <p:cNvSpPr/>
          <p:nvPr/>
        </p:nvSpPr>
        <p:spPr>
          <a:xfrm flipH="1">
            <a:off x="1037880" y="3130560"/>
            <a:ext cx="2268360" cy="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27"/>
          <p:cNvSpPr/>
          <p:nvPr/>
        </p:nvSpPr>
        <p:spPr>
          <a:xfrm flipH="1">
            <a:off x="1037880" y="4781520"/>
            <a:ext cx="2646360" cy="0"/>
          </a:xfrm>
          <a:prstGeom prst="line">
            <a:avLst/>
          </a:prstGeom>
          <a:ln w="1260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8"/>
          <p:cNvSpPr/>
          <p:nvPr/>
        </p:nvSpPr>
        <p:spPr>
          <a:xfrm flipH="1">
            <a:off x="5435280" y="2579760"/>
            <a:ext cx="284148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9"/>
          <p:cNvSpPr/>
          <p:nvPr/>
        </p:nvSpPr>
        <p:spPr>
          <a:xfrm flipH="1">
            <a:off x="5810040" y="4359240"/>
            <a:ext cx="2460600" cy="0"/>
          </a:xfrm>
          <a:prstGeom prst="line">
            <a:avLst/>
          </a:prstGeom>
          <a:ln w="1260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交替循环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1">
            <a:hlinkClick r:id="rId3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1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