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9D7-A3E4-4824-9DF5-B35A2E1A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5B7-9DD8-4B27-A262-8D02228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F1-C144-4989-AFD4-0ABB988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525-592B-4009-8202-4AAFE9C4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B16-057B-40D9-9086-47277CCF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22B-3F96-4967-9A7A-B282306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203-4D8C-411A-8702-306DA2A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720-9AFE-42E8-8A61-2921E152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260-4BD7-4B09-BEE4-ABF8B52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0C2-4283-420E-98B4-06E290D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E8B-C1BE-4D9A-AF00-5E4D823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1B8-9471-4FBD-88B8-4249295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437-A6DD-4C85-A6D6-136AAF7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FDA0-09BD-4241-9211-4FA7459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F90F-5FDF-43F6-9B5F-55CB1F95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497-2A5B-4844-82C5-055CA004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D5E9-B10C-4272-B870-3F802976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27F-AF8A-41A4-BB8A-206E8A0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874-BE05-450A-94B7-FDD9A00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DE1-EEC2-476B-B2BE-CEC4F11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D7E-6194-4939-81F3-2AB5486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D4D-2BD8-4F59-99B0-E61151D1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1C4-2A7B-43A9-B652-15AC2A6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4FA-7EB2-4DD9-A55B-9E8017E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95A-876A-4DD9-84C2-518005207E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908B-617D-419F-9A71-C5314F2EF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AD3-91BB-4F5E-9233-2FE807372E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44E-C7F1-41A1-B9E0-EA0DA104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005280" y="4383000"/>
            <a:ext cx="3962160" cy="1554120"/>
            <a:chOff x="3005280" y="4383000"/>
            <a:chExt cx="3962160" cy="15541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3005280" y="4383000"/>
              <a:ext cx="39621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662280" y="4687920"/>
              <a:ext cx="2565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4"/>
          <p:cNvSpPr/>
          <p:nvPr/>
        </p:nvSpPr>
        <p:spPr>
          <a:xfrm>
            <a:off x="2987640" y="4695840"/>
            <a:ext cx="3916440" cy="1000080"/>
          </a:xfrm>
          <a:prstGeom prst="ellipse">
            <a:avLst/>
          </a:prstGeom>
          <a:noFill/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62200" y="1239840"/>
            <a:ext cx="4101840" cy="4484520"/>
            <a:chOff x="1762200" y="1239840"/>
            <a:chExt cx="4101840" cy="4484520"/>
          </a:xfrm>
        </p:grpSpPr>
        <p:sp>
          <p:nvSpPr>
            <p:cNvPr id="87" name="任意多边形 6"/>
            <p:cNvSpPr/>
            <p:nvPr/>
          </p:nvSpPr>
          <p:spPr>
            <a:xfrm>
              <a:off x="1762200" y="2143800"/>
              <a:ext cx="1140480" cy="266760"/>
            </a:xfrm>
            <a:custGeom>
              <a:avLst/>
              <a:gdLst/>
              <a:ahLst/>
              <a:rect l="l" t="t" r="r" b="b"/>
              <a:pathLst>
                <a:path w="1140977" h="267037">
                  <a:moveTo>
                    <a:pt x="469338" y="0"/>
                  </a:moveTo>
                  <a:cubicBezTo>
                    <a:pt x="312892" y="24276"/>
                    <a:pt x="204998" y="56644"/>
                    <a:pt x="0" y="267037"/>
                  </a:cubicBezTo>
                  <a:lnTo>
                    <a:pt x="695915" y="267037"/>
                  </a:lnTo>
                  <a:cubicBezTo>
                    <a:pt x="787625" y="137565"/>
                    <a:pt x="919794" y="64735"/>
                    <a:pt x="1140977" y="0"/>
                  </a:cubicBezTo>
                  <a:lnTo>
                    <a:pt x="4693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下箭头 3"/>
            <p:cNvSpPr/>
            <p:nvPr/>
          </p:nvSpPr>
          <p:spPr>
            <a:xfrm rot="20239200">
              <a:off x="2836080" y="1547640"/>
              <a:ext cx="2372040" cy="3868920"/>
            </a:xfrm>
            <a:custGeom>
              <a:avLst/>
              <a:gdLst/>
              <a:ahLst/>
              <a:rect l="l" t="t" r="r" b="b"/>
              <a:pathLst>
                <a:path w="2372736" h="3869531">
                  <a:moveTo>
                    <a:pt x="123164" y="45026"/>
                  </a:moveTo>
                  <a:lnTo>
                    <a:pt x="199212" y="77997"/>
                  </a:lnTo>
                  <a:lnTo>
                    <a:pt x="0" y="0"/>
                  </a:lnTo>
                  <a:cubicBezTo>
                    <a:pt x="42656" y="14265"/>
                    <a:pt x="83690" y="29286"/>
                    <a:pt x="123164" y="45026"/>
                  </a:cubicBezTo>
                  <a:close/>
                  <a:moveTo>
                    <a:pt x="735051" y="313125"/>
                  </a:moveTo>
                  <a:cubicBezTo>
                    <a:pt x="1855964" y="872993"/>
                    <a:pt x="1771001" y="1742820"/>
                    <a:pt x="1771051" y="2517415"/>
                  </a:cubicBezTo>
                  <a:lnTo>
                    <a:pt x="2079117" y="2352624"/>
                  </a:lnTo>
                  <a:lnTo>
                    <a:pt x="2066222" y="2364821"/>
                  </a:lnTo>
                  <a:lnTo>
                    <a:pt x="2074032" y="2361759"/>
                  </a:lnTo>
                  <a:lnTo>
                    <a:pt x="2086502" y="2359144"/>
                  </a:lnTo>
                  <a:lnTo>
                    <a:pt x="2372736" y="2334828"/>
                  </a:lnTo>
                  <a:lnTo>
                    <a:pt x="1599453" y="3869531"/>
                  </a:lnTo>
                  <a:lnTo>
                    <a:pt x="1392399" y="3843092"/>
                  </a:lnTo>
                  <a:cubicBezTo>
                    <a:pt x="1217792" y="3597241"/>
                    <a:pt x="695615" y="2641066"/>
                    <a:pt x="551811" y="2394422"/>
                  </a:cubicBezTo>
                  <a:lnTo>
                    <a:pt x="529574" y="2363226"/>
                  </a:lnTo>
                  <a:lnTo>
                    <a:pt x="754116" y="2250654"/>
                  </a:lnTo>
                  <a:lnTo>
                    <a:pt x="805440" y="2348027"/>
                  </a:lnTo>
                  <a:lnTo>
                    <a:pt x="1067227" y="2469139"/>
                  </a:lnTo>
                  <a:cubicBezTo>
                    <a:pt x="1070191" y="1727575"/>
                    <a:pt x="1335153" y="583112"/>
                    <a:pt x="199212" y="77997"/>
                  </a:cubicBezTo>
                  <a:cubicBezTo>
                    <a:pt x="366837" y="143627"/>
                    <a:pt x="567426" y="247495"/>
                    <a:pt x="735051" y="313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6762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下箭头 3"/>
            <p:cNvSpPr/>
            <p:nvPr/>
          </p:nvSpPr>
          <p:spPr>
            <a:xfrm rot="20239200">
              <a:off x="2979360" y="1567800"/>
              <a:ext cx="2236680" cy="3807360"/>
            </a:xfrm>
            <a:custGeom>
              <a:avLst/>
              <a:gdLst/>
              <a:ahLst/>
              <a:rect l="l" t="t" r="r" b="b"/>
              <a:pathLst>
                <a:path w="2237358" h="3807876">
                  <a:moveTo>
                    <a:pt x="598302" y="2189266"/>
                  </a:moveTo>
                  <a:lnTo>
                    <a:pt x="1139288" y="2439545"/>
                  </a:lnTo>
                  <a:cubicBezTo>
                    <a:pt x="1142414" y="1657349"/>
                    <a:pt x="1364975" y="456487"/>
                    <a:pt x="0" y="0"/>
                  </a:cubicBezTo>
                  <a:lnTo>
                    <a:pt x="728337" y="297791"/>
                  </a:lnTo>
                  <a:cubicBezTo>
                    <a:pt x="1849250" y="857659"/>
                    <a:pt x="1843062" y="1713226"/>
                    <a:pt x="1843112" y="2487821"/>
                  </a:cubicBezTo>
                  <a:lnTo>
                    <a:pt x="2237358" y="2275211"/>
                  </a:lnTo>
                  <a:lnTo>
                    <a:pt x="1459944" y="3807876"/>
                  </a:lnTo>
                  <a:lnTo>
                    <a:pt x="598302" y="2189266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6762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9"/>
          <p:cNvSpPr/>
          <p:nvPr/>
        </p:nvSpPr>
        <p:spPr>
          <a:xfrm flipH="1">
            <a:off x="1809000" y="2352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 flipH="1">
            <a:off x="5610600" y="4915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flipH="1">
            <a:off x="3420720" y="2241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 flipH="1">
            <a:off x="3868560" y="2711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 flipH="1">
            <a:off x="4129920" y="3181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 flipH="1">
            <a:off x="4376520" y="365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5"/>
          <p:cNvSpPr/>
          <p:nvPr/>
        </p:nvSpPr>
        <p:spPr>
          <a:xfrm>
            <a:off x="4110120" y="2411280"/>
            <a:ext cx="427824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"/>
          <p:cNvSpPr/>
          <p:nvPr/>
        </p:nvSpPr>
        <p:spPr>
          <a:xfrm>
            <a:off x="4572000" y="2876400"/>
            <a:ext cx="381636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7"/>
          <p:cNvSpPr/>
          <p:nvPr/>
        </p:nvSpPr>
        <p:spPr>
          <a:xfrm>
            <a:off x="4859280" y="3343320"/>
            <a:ext cx="352908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8"/>
          <p:cNvSpPr/>
          <p:nvPr/>
        </p:nvSpPr>
        <p:spPr>
          <a:xfrm>
            <a:off x="5292720" y="3809880"/>
            <a:ext cx="309564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7135200" y="24098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7135200" y="28828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7135200" y="3333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135200" y="38052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6541920" y="25560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箭头型时间轴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