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F04-E6B7-4ABC-8429-85C0C344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CF5-34C6-4908-83FB-1F937E58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FEC-21F1-4F2C-B4DB-4E86DB3F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FB9-1DAB-4268-99E6-941E71E7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C2D-14B2-4C66-B963-1D78F4C9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FCB-5AF8-4750-B132-BC20D80D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A28-AB23-4BC4-8FBF-FD69EE8B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79B-E217-4E43-BE80-D61D9FA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19B-E44E-4CB6-AC1B-915C44C1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390-1EA9-4D93-8402-218FFC9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B5E-81C3-46B0-AE94-09AE63E0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7CA-12CE-40E6-BA36-9754A807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220C-152A-4ACF-9EF2-741E5B7CD8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052F-5977-4EDE-8A78-9ADEDB769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hyperlink" Target="http://www.rapidppt.com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94000" y="3681360"/>
            <a:ext cx="3547800" cy="1176480"/>
            <a:chOff x="1494000" y="3681360"/>
            <a:chExt cx="3547800" cy="1176480"/>
          </a:xfrm>
        </p:grpSpPr>
        <p:pic>
          <p:nvPicPr>
            <p:cNvPr id="42" name="椭圆 10" descr=""/>
            <p:cNvPicPr/>
            <p:nvPr/>
          </p:nvPicPr>
          <p:blipFill>
            <a:blip r:embed="rId1"/>
            <a:stretch/>
          </p:blipFill>
          <p:spPr>
            <a:xfrm>
              <a:off x="1494000" y="36813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2090160" y="393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895480" y="4048200"/>
            <a:ext cx="3548160" cy="1182600"/>
            <a:chOff x="2895480" y="4048200"/>
            <a:chExt cx="3548160" cy="1182600"/>
          </a:xfrm>
        </p:grpSpPr>
        <p:pic>
          <p:nvPicPr>
            <p:cNvPr id="45" name="椭圆 10" descr=""/>
            <p:cNvPicPr/>
            <p:nvPr/>
          </p:nvPicPr>
          <p:blipFill>
            <a:blip r:embed="rId2"/>
            <a:stretch/>
          </p:blipFill>
          <p:spPr>
            <a:xfrm>
              <a:off x="2895480" y="4048200"/>
              <a:ext cx="3548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3493800" y="4302000"/>
              <a:ext cx="2270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224240" y="3681360"/>
            <a:ext cx="3548160" cy="1176480"/>
            <a:chOff x="4224240" y="3681360"/>
            <a:chExt cx="3548160" cy="1176480"/>
          </a:xfrm>
        </p:grpSpPr>
        <p:pic>
          <p:nvPicPr>
            <p:cNvPr id="48" name="椭圆 10" descr=""/>
            <p:cNvPicPr/>
            <p:nvPr/>
          </p:nvPicPr>
          <p:blipFill>
            <a:blip r:embed="rId3"/>
            <a:stretch/>
          </p:blipFill>
          <p:spPr>
            <a:xfrm>
              <a:off x="4224240" y="3681360"/>
              <a:ext cx="35481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4824360" y="3930480"/>
              <a:ext cx="2271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559480" y="4048200"/>
            <a:ext cx="3548160" cy="1182600"/>
            <a:chOff x="5559480" y="4048200"/>
            <a:chExt cx="3548160" cy="1182600"/>
          </a:xfrm>
        </p:grpSpPr>
        <p:pic>
          <p:nvPicPr>
            <p:cNvPr id="51" name="椭圆 10" descr=""/>
            <p:cNvPicPr/>
            <p:nvPr/>
          </p:nvPicPr>
          <p:blipFill>
            <a:blip r:embed="rId4"/>
            <a:stretch/>
          </p:blipFill>
          <p:spPr>
            <a:xfrm>
              <a:off x="5559480" y="4048200"/>
              <a:ext cx="3548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6159600" y="4302000"/>
              <a:ext cx="2270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22400" y="3949560"/>
            <a:ext cx="3547800" cy="1176480"/>
            <a:chOff x="122400" y="3949560"/>
            <a:chExt cx="3547800" cy="1176480"/>
          </a:xfrm>
        </p:grpSpPr>
        <p:pic>
          <p:nvPicPr>
            <p:cNvPr id="54" name="椭圆 10" descr=""/>
            <p:cNvPicPr/>
            <p:nvPr/>
          </p:nvPicPr>
          <p:blipFill>
            <a:blip r:embed="rId5"/>
            <a:stretch/>
          </p:blipFill>
          <p:spPr>
            <a:xfrm>
              <a:off x="122400" y="39495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721800" y="420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739960" y="2708280"/>
            <a:ext cx="996840" cy="1784520"/>
            <a:chOff x="2739960" y="2708280"/>
            <a:chExt cx="996840" cy="1784520"/>
          </a:xfrm>
        </p:grpSpPr>
        <p:pic>
          <p:nvPicPr>
            <p:cNvPr id="57" name="圆角矩形 9" descr=""/>
            <p:cNvPicPr/>
            <p:nvPr/>
          </p:nvPicPr>
          <p:blipFill>
            <a:blip r:embed="rId6"/>
            <a:stretch/>
          </p:blipFill>
          <p:spPr>
            <a:xfrm>
              <a:off x="2739960" y="3836520"/>
              <a:ext cx="99684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圆角矩形 10" descr=""/>
            <p:cNvPicPr/>
            <p:nvPr/>
          </p:nvPicPr>
          <p:blipFill>
            <a:blip r:embed="rId7"/>
            <a:stretch/>
          </p:blipFill>
          <p:spPr>
            <a:xfrm>
              <a:off x="2744280" y="3830040"/>
              <a:ext cx="99252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椭圆 10"/>
            <p:cNvSpPr/>
            <p:nvPr/>
          </p:nvSpPr>
          <p:spPr>
            <a:xfrm>
              <a:off x="2912760" y="2708280"/>
              <a:ext cx="662760" cy="153576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d74e05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10"/>
            <p:cNvSpPr/>
            <p:nvPr/>
          </p:nvSpPr>
          <p:spPr>
            <a:xfrm>
              <a:off x="3062160" y="3054960"/>
              <a:ext cx="363960" cy="30096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0"/>
            <p:cNvSpPr/>
            <p:nvPr/>
          </p:nvSpPr>
          <p:spPr>
            <a:xfrm>
              <a:off x="2961000" y="3573720"/>
              <a:ext cx="567720" cy="29376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75240" y="2708280"/>
            <a:ext cx="996840" cy="1784520"/>
            <a:chOff x="5475240" y="2708280"/>
            <a:chExt cx="996840" cy="1784520"/>
          </a:xfrm>
        </p:grpSpPr>
        <p:pic>
          <p:nvPicPr>
            <p:cNvPr id="63" name="圆角矩形 15" descr=""/>
            <p:cNvPicPr/>
            <p:nvPr/>
          </p:nvPicPr>
          <p:blipFill>
            <a:blip r:embed="rId8"/>
            <a:stretch/>
          </p:blipFill>
          <p:spPr>
            <a:xfrm>
              <a:off x="5475240" y="3836520"/>
              <a:ext cx="99684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5475240" y="3830040"/>
              <a:ext cx="99684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椭圆 10"/>
            <p:cNvSpPr/>
            <p:nvPr/>
          </p:nvSpPr>
          <p:spPr>
            <a:xfrm>
              <a:off x="5647320" y="2708280"/>
              <a:ext cx="662760" cy="153576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d74e05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0"/>
            <p:cNvSpPr/>
            <p:nvPr/>
          </p:nvSpPr>
          <p:spPr>
            <a:xfrm>
              <a:off x="5797080" y="3054960"/>
              <a:ext cx="363960" cy="30096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0"/>
            <p:cNvSpPr/>
            <p:nvPr/>
          </p:nvSpPr>
          <p:spPr>
            <a:xfrm>
              <a:off x="5695920" y="3573720"/>
              <a:ext cx="567720" cy="29376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20"/>
          <p:cNvSpPr/>
          <p:nvPr/>
        </p:nvSpPr>
        <p:spPr>
          <a:xfrm>
            <a:off x="641520" y="3807000"/>
            <a:ext cx="7613640" cy="682560"/>
          </a:xfrm>
          <a:custGeom>
            <a:avLst/>
            <a:gdLst/>
            <a:ahLst/>
            <a:rect l="l" t="t" r="r" b="b"/>
            <a:pathLst>
              <a:path w="7613650" h="682824">
                <a:moveTo>
                  <a:pt x="0" y="341738"/>
                </a:moveTo>
                <a:cubicBezTo>
                  <a:pt x="157692" y="222146"/>
                  <a:pt x="601133" y="-29888"/>
                  <a:pt x="1225550" y="2920"/>
                </a:cubicBezTo>
                <a:cubicBezTo>
                  <a:pt x="1823508" y="35728"/>
                  <a:pt x="2069042" y="611462"/>
                  <a:pt x="2543175" y="653795"/>
                </a:cubicBezTo>
                <a:cubicBezTo>
                  <a:pt x="3104092" y="649562"/>
                  <a:pt x="3469065" y="229857"/>
                  <a:pt x="3963307" y="235149"/>
                </a:cubicBezTo>
                <a:cubicBezTo>
                  <a:pt x="4616299" y="231974"/>
                  <a:pt x="4687359" y="672392"/>
                  <a:pt x="5393872" y="682824"/>
                </a:cubicBezTo>
                <a:cubicBezTo>
                  <a:pt x="6008461" y="610102"/>
                  <a:pt x="6205764" y="130524"/>
                  <a:pt x="6742339" y="53266"/>
                </a:cubicBezTo>
                <a:cubicBezTo>
                  <a:pt x="7158415" y="32099"/>
                  <a:pt x="7483777" y="273098"/>
                  <a:pt x="7613650" y="454677"/>
                </a:cubicBezTo>
              </a:path>
            </a:pathLst>
          </a:custGeom>
          <a:noFill/>
          <a:ln w="9360">
            <a:solidFill>
              <a:srgbClr val="262626"/>
            </a:solidFill>
            <a:prstDash val="sys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71600" y="3098880"/>
            <a:ext cx="968400" cy="1733400"/>
            <a:chOff x="1371600" y="3098880"/>
            <a:chExt cx="968400" cy="1733400"/>
          </a:xfrm>
        </p:grpSpPr>
        <p:pic>
          <p:nvPicPr>
            <p:cNvPr id="70" name="圆角矩形 22" descr=""/>
            <p:cNvPicPr/>
            <p:nvPr/>
          </p:nvPicPr>
          <p:blipFill>
            <a:blip r:embed="rId10"/>
            <a:stretch/>
          </p:blipFill>
          <p:spPr>
            <a:xfrm>
              <a:off x="13716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23" descr=""/>
            <p:cNvPicPr/>
            <p:nvPr/>
          </p:nvPicPr>
          <p:blipFill>
            <a:blip r:embed="rId11"/>
            <a:stretch/>
          </p:blipFill>
          <p:spPr>
            <a:xfrm>
              <a:off x="13759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椭圆 10"/>
            <p:cNvSpPr/>
            <p:nvPr/>
          </p:nvSpPr>
          <p:spPr>
            <a:xfrm>
              <a:off x="1541160" y="3098880"/>
              <a:ext cx="642960" cy="149220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0"/>
            <p:cNvSpPr/>
            <p:nvPr/>
          </p:nvSpPr>
          <p:spPr>
            <a:xfrm>
              <a:off x="1685880" y="3435840"/>
              <a:ext cx="352800" cy="292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0"/>
            <p:cNvSpPr/>
            <p:nvPr/>
          </p:nvSpPr>
          <p:spPr>
            <a:xfrm>
              <a:off x="1587960" y="3939840"/>
              <a:ext cx="550440" cy="2854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179960" y="3098880"/>
            <a:ext cx="968400" cy="1733400"/>
            <a:chOff x="4179960" y="3098880"/>
            <a:chExt cx="968400" cy="1733400"/>
          </a:xfrm>
        </p:grpSpPr>
        <p:pic>
          <p:nvPicPr>
            <p:cNvPr id="76" name="圆角矩形 28" descr=""/>
            <p:cNvPicPr/>
            <p:nvPr/>
          </p:nvPicPr>
          <p:blipFill>
            <a:blip r:embed="rId12"/>
            <a:stretch/>
          </p:blipFill>
          <p:spPr>
            <a:xfrm>
              <a:off x="417996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圆角矩形 29" descr=""/>
            <p:cNvPicPr/>
            <p:nvPr/>
          </p:nvPicPr>
          <p:blipFill>
            <a:blip r:embed="rId13"/>
            <a:stretch/>
          </p:blipFill>
          <p:spPr>
            <a:xfrm>
              <a:off x="418428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椭圆 10"/>
            <p:cNvSpPr/>
            <p:nvPr/>
          </p:nvSpPr>
          <p:spPr>
            <a:xfrm>
              <a:off x="4348080" y="3098880"/>
              <a:ext cx="642960" cy="149220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10"/>
            <p:cNvSpPr/>
            <p:nvPr/>
          </p:nvSpPr>
          <p:spPr>
            <a:xfrm>
              <a:off x="4492800" y="3435840"/>
              <a:ext cx="352800" cy="292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0"/>
            <p:cNvSpPr/>
            <p:nvPr/>
          </p:nvSpPr>
          <p:spPr>
            <a:xfrm>
              <a:off x="4394880" y="3939840"/>
              <a:ext cx="550440" cy="2854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843600" y="3098880"/>
            <a:ext cx="968400" cy="1733400"/>
            <a:chOff x="6843600" y="3098880"/>
            <a:chExt cx="968400" cy="1733400"/>
          </a:xfrm>
        </p:grpSpPr>
        <p:pic>
          <p:nvPicPr>
            <p:cNvPr id="82" name="圆角矩形 34" descr=""/>
            <p:cNvPicPr/>
            <p:nvPr/>
          </p:nvPicPr>
          <p:blipFill>
            <a:blip r:embed="rId14"/>
            <a:stretch/>
          </p:blipFill>
          <p:spPr>
            <a:xfrm>
              <a:off x="68436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圆角矩形 35" descr=""/>
            <p:cNvPicPr/>
            <p:nvPr/>
          </p:nvPicPr>
          <p:blipFill>
            <a:blip r:embed="rId15"/>
            <a:stretch/>
          </p:blipFill>
          <p:spPr>
            <a:xfrm>
              <a:off x="68479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椭圆 10"/>
            <p:cNvSpPr/>
            <p:nvPr/>
          </p:nvSpPr>
          <p:spPr>
            <a:xfrm>
              <a:off x="7012080" y="3098880"/>
              <a:ext cx="642960" cy="149220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0"/>
            <p:cNvSpPr/>
            <p:nvPr/>
          </p:nvSpPr>
          <p:spPr>
            <a:xfrm>
              <a:off x="7156800" y="3435840"/>
              <a:ext cx="352800" cy="292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0"/>
            <p:cNvSpPr/>
            <p:nvPr/>
          </p:nvSpPr>
          <p:spPr>
            <a:xfrm>
              <a:off x="7058880" y="3939840"/>
              <a:ext cx="550440" cy="2854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39"/>
          <p:cNvSpPr/>
          <p:nvPr/>
        </p:nvSpPr>
        <p:spPr>
          <a:xfrm>
            <a:off x="3240000" y="2036880"/>
            <a:ext cx="0" cy="66816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40"/>
          <p:cNvSpPr/>
          <p:nvPr/>
        </p:nvSpPr>
        <p:spPr>
          <a:xfrm>
            <a:off x="1862280" y="2535120"/>
            <a:ext cx="0" cy="57312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41"/>
          <p:cNvSpPr/>
          <p:nvPr/>
        </p:nvSpPr>
        <p:spPr>
          <a:xfrm>
            <a:off x="4667400" y="2492280"/>
            <a:ext cx="0" cy="5968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2"/>
          <p:cNvSpPr/>
          <p:nvPr/>
        </p:nvSpPr>
        <p:spPr>
          <a:xfrm>
            <a:off x="5972040" y="1974960"/>
            <a:ext cx="0" cy="7300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43"/>
          <p:cNvSpPr/>
          <p:nvPr/>
        </p:nvSpPr>
        <p:spPr>
          <a:xfrm>
            <a:off x="7337520" y="2514600"/>
            <a:ext cx="0" cy="5842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 flipH="1">
            <a:off x="120960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 flipH="1">
            <a:off x="2562120" y="151272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 flipH="1">
            <a:off x="401796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 flipH="1">
            <a:off x="5344560" y="1512720"/>
            <a:ext cx="130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 flipH="1">
            <a:off x="6681960" y="203688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9"/>
          <p:cNvSpPr/>
          <p:nvPr/>
        </p:nvSpPr>
        <p:spPr>
          <a:xfrm>
            <a:off x="5554800" y="26028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交通障碍警示具象场景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0">
            <a:hlinkClick r:id="rId16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EBB-A2CC-4BE3-AF91-252F1A62BF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4:0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