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0201D-58F5-498E-8A41-544FB95C99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47592-B96B-42AC-8F87-C8DB06F08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93B7F-5419-41DA-83FB-9A6B26E5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FBDAA-71EA-4F9A-91E2-F2244B8519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34B4F-C2AA-468A-970C-1BC4910864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2F2B-8478-4981-B6B2-8D9637977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8A86A6-F992-45E9-B395-E0C758DA4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80B9FC-36B8-44EE-932A-F5D8582DEF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4C2A1-50C6-4B9E-BE97-84CB39134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AEE1FE-7FDE-42BF-A27D-948E33858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C57502-42FA-4EFB-A4CA-AA391DC97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C9AC7-A0D5-461C-AE89-A8B7046C14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5FA16B-98C4-4ACC-85E8-30659CED7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59AE5-11D6-4380-832A-EC74EDDF8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7A84DF-E4CE-4248-B867-10F8E192E6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F8FAB-226E-47EC-B0A4-5E92146742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531206-F070-4AEB-853A-5A6CDEF54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BD4F9-4C81-401C-BCAF-07581BAD38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D40DC-D426-4698-8B71-24122692B1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96787-7B82-4288-918C-A322C12114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40AD1-5AC4-43FB-BBC0-F765EF9CB7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1103A-082B-4285-BD55-3D0F750D5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B26B37-2B6E-4A12-A8E3-98FD2DF46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F4314-A244-4527-B2B0-A75E5CA5C2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7C30AC-E0EF-4497-845D-5AED35BD7BFA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23FA61-4224-49C9-9581-61FBDD990DA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FEB5CA-5E6A-4259-A4BA-C96CB893EE62}" type="datetime">
              <a:rPr b="0" lang="en-US" sz="14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9629-EC74-48C5-8A6D-4F8CE72ECAA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图片 1" descr="20110403122344642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25T01:44:32Z</dcterms:created>
  <dc:creator>An</dc:creator>
  <dc:description/>
  <dc:language>en-US</dc:language>
  <cp:lastModifiedBy>bianxiaoxiang</cp:lastModifiedBy>
  <dcterms:modified xsi:type="dcterms:W3CDTF">2015-06-13T11:28:19Z</dcterms:modified>
  <cp:revision>4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00</vt:lpwstr>
  </property>
</Properties>
</file>