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923C-2344-48F8-BE9E-C13ED002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DF9-A797-46F8-9CDE-1948AD77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0D97-BF7A-4BB4-BFB2-99EE1A61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AE9-DEE7-4BF3-AB6C-F7335FB4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E54-166E-4747-BF0A-1B4C8362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AB3-5391-4EB0-8BBE-94900CEB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4FEC-A492-43A7-9799-23E778AD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7D6-1EC1-4B84-898A-DFA93651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E9E-704E-4BD5-B3DB-AC599443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F7E9-269C-4566-9A30-F59B76A9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E8FC-E6D3-423E-9171-C6487A24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AC08-8B37-4325-A151-F6A9A978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C797-C0CB-4BC1-B91D-D18075825A9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10F9-66BB-4F96-B576-8AE31FAF3B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rcRect l="0" t="0" r="11111" b="6666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4120"/>
            <a:ext cx="15228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5181480"/>
            <a:ext cx="1522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5181480"/>
            <a:ext cx="1522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57913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[Presented b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E5D-3C0F-4C75-9A58-812734ECAB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57:3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