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BC5-C112-41CE-8102-65908CF7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0EE-57D1-4596-82D5-9722D049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7FF-F6E8-4E34-81F0-B0B881CF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B45-535F-4FF2-9EE6-2376EAEE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F782-E093-4C5B-B216-F4D7C180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9848-54C8-4B5C-92BB-EC3D81A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E45C-07FB-4439-BDE1-B319C9FD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6402-7ECA-4EE0-81D0-E5A9893E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DDA6-AEFB-4EB4-A9AD-32F6E2A9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E3E1-689E-4C64-887D-B7ECB111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DF6A-202D-469B-8542-E97B3900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4BC-C63C-42C1-AFB3-BAF16D1D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983B-D8BD-4F27-863E-80B9BB15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6695-C990-452D-A7B1-B0B3F968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B2A7-8ABD-4C27-A239-CFFB6E6C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67B3-9443-45F5-A9D5-79623A2D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238F-F4A2-4874-BFCF-4AA6C401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78F-D153-4E45-8AA2-34F3C7E0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C48-92C8-4872-8F3D-00F914E2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2B6-45EA-40D6-BD85-59837AE2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7F9-B114-4CF4-9D4A-FCAEDEE2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B5C-5BD3-4C3D-9476-33DA0347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D34-7513-491F-8BBA-50DE1E4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23A-92CD-4CDC-94D3-68F8E18F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6AB-C1F1-4021-8B57-71F72F243C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3790-1D09-4CBC-89BF-50DC45BC2F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17B4-A44A-4A90-96C2-F3BA42C019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7960"/>
            <a:ext cx="2895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5925-A1CC-4FBC-BF8F-6C9DFFF6F7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267859-1303130G15020.jpg"/>
          <p:cNvPicPr/>
          <p:nvPr/>
        </p:nvPicPr>
        <p:blipFill>
          <a:blip r:embed="rId1"/>
          <a:stretch/>
        </p:blipFill>
        <p:spPr>
          <a:xfrm>
            <a:off x="622440" y="0"/>
            <a:ext cx="6151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267859-1303130G92373.jpg"/>
          <p:cNvPicPr/>
          <p:nvPr/>
        </p:nvPicPr>
        <p:blipFill>
          <a:blip r:embed="rId1"/>
          <a:stretch/>
        </p:blipFill>
        <p:spPr>
          <a:xfrm>
            <a:off x="3424320" y="0"/>
            <a:ext cx="57020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318765-130Q10H14272.jpg"/>
          <p:cNvPicPr/>
          <p:nvPr/>
        </p:nvPicPr>
        <p:blipFill>
          <a:blip r:embed="rId1"/>
          <a:stretch/>
        </p:blipFill>
        <p:spPr>
          <a:xfrm>
            <a:off x="0" y="847800"/>
            <a:ext cx="6200640" cy="5722920"/>
          </a:xfrm>
          <a:prstGeom prst="rect">
            <a:avLst/>
          </a:prstGeom>
          <a:ln w="0">
            <a:noFill/>
          </a:ln>
        </p:spPr>
      </p:pic>
      <p:sp>
        <p:nvSpPr>
          <p:cNvPr id="91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318765-130Q10J50264.jpg"/>
          <p:cNvPicPr/>
          <p:nvPr/>
        </p:nvPicPr>
        <p:blipFill>
          <a:blip r:embed="rId1"/>
          <a:stretch/>
        </p:blipFill>
        <p:spPr>
          <a:xfrm>
            <a:off x="1523880" y="-1440"/>
            <a:ext cx="762012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2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