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429-FB4F-446A-95D5-5FFD5D2A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962-C03D-4C9E-BE2F-DDCE6CBB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545-FC83-4F2A-81AA-D656ECE4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D6E-4EF7-4D5C-BF1D-F8F21ED5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CFB-D33E-44F6-916D-32FBBEC8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989-1558-43A3-BE95-054639F6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70B-E6BE-4CA0-A9E5-FEC4D3D6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8B3-AC62-444C-928B-0AD8EDD8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4AD-638C-4F41-8D7F-25BE72DC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012-B640-4698-87E2-C5B384D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401-73C3-4AEC-A190-97A9F004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4BF-FE85-4420-89F7-1CC755F2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327A-2703-460F-943F-895B2DE01F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44DC-5E7C-4D0C-8FE9-14FAB4A97A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35712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扩散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83320" y="2342160"/>
            <a:ext cx="3485160" cy="3475440"/>
            <a:chOff x="2983320" y="2342160"/>
            <a:chExt cx="3485160" cy="3475440"/>
          </a:xfrm>
        </p:grpSpPr>
        <p:sp>
          <p:nvSpPr>
            <p:cNvPr id="43" name="等腰三角形 5"/>
            <p:cNvSpPr/>
            <p:nvPr/>
          </p:nvSpPr>
          <p:spPr>
            <a:xfrm rot="19422600">
              <a:off x="3345480" y="2572200"/>
              <a:ext cx="1084320" cy="93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5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正五边形 6"/>
            <p:cNvSpPr/>
            <p:nvPr/>
          </p:nvSpPr>
          <p:spPr>
            <a:xfrm>
              <a:off x="3745080" y="3127680"/>
              <a:ext cx="1799640" cy="1713960"/>
            </a:xfrm>
            <a:prstGeom prst="pentag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等腰三角形 7"/>
            <p:cNvSpPr/>
            <p:nvPr/>
          </p:nvSpPr>
          <p:spPr>
            <a:xfrm rot="2160000">
              <a:off x="4844880" y="2571840"/>
              <a:ext cx="1084320" cy="93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2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等腰三角形 8"/>
            <p:cNvSpPr/>
            <p:nvPr/>
          </p:nvSpPr>
          <p:spPr>
            <a:xfrm rot="754200">
              <a:off x="3071880" y="3805920"/>
              <a:ext cx="1084320" cy="93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6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等腰三角形 9"/>
            <p:cNvSpPr/>
            <p:nvPr/>
          </p:nvSpPr>
          <p:spPr>
            <a:xfrm rot="6478800">
              <a:off x="5313960" y="3999600"/>
              <a:ext cx="1084680" cy="93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05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等腰三角形 10"/>
            <p:cNvSpPr/>
            <p:nvPr/>
          </p:nvSpPr>
          <p:spPr>
            <a:xfrm rot="3633000">
              <a:off x="4243320" y="4647600"/>
              <a:ext cx="1084680" cy="93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线形标注 1 11"/>
          <p:cNvSpPr/>
          <p:nvPr/>
        </p:nvSpPr>
        <p:spPr>
          <a:xfrm>
            <a:off x="6858000" y="1928880"/>
            <a:ext cx="1500120" cy="642960"/>
          </a:xfrm>
          <a:prstGeom prst="borderCallout1">
            <a:avLst>
              <a:gd name="adj1" fmla="val 18750"/>
              <a:gd name="adj2" fmla="val -8333"/>
              <a:gd name="adj3" fmla="val 114231"/>
              <a:gd name="adj4" fmla="val -79958"/>
            </a:avLst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线形标注 1 12"/>
          <p:cNvSpPr/>
          <p:nvPr/>
        </p:nvSpPr>
        <p:spPr>
          <a:xfrm>
            <a:off x="7500960" y="3857760"/>
            <a:ext cx="1500120" cy="642960"/>
          </a:xfrm>
          <a:prstGeom prst="borderCallout1">
            <a:avLst>
              <a:gd name="adj1" fmla="val 18750"/>
              <a:gd name="adj2" fmla="val -8333"/>
              <a:gd name="adj3" fmla="val 114231"/>
              <a:gd name="adj4" fmla="val -79958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线形标注 1 13"/>
          <p:cNvSpPr/>
          <p:nvPr/>
        </p:nvSpPr>
        <p:spPr>
          <a:xfrm>
            <a:off x="1071720" y="2071800"/>
            <a:ext cx="1500120" cy="642960"/>
          </a:xfrm>
          <a:prstGeom prst="borderCallout1">
            <a:avLst>
              <a:gd name="adj1" fmla="val 18750"/>
              <a:gd name="adj2" fmla="val -8333"/>
              <a:gd name="adj3" fmla="val 95152"/>
              <a:gd name="adj4" fmla="val 16979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线形标注 1 14"/>
          <p:cNvSpPr/>
          <p:nvPr/>
        </p:nvSpPr>
        <p:spPr>
          <a:xfrm>
            <a:off x="428760" y="4000680"/>
            <a:ext cx="1500120" cy="642600"/>
          </a:xfrm>
          <a:prstGeom prst="borderCallout1">
            <a:avLst>
              <a:gd name="adj1" fmla="val 18750"/>
              <a:gd name="adj2" fmla="val -8333"/>
              <a:gd name="adj3" fmla="val 95152"/>
              <a:gd name="adj4" fmla="val 16979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线形标注 1 15"/>
          <p:cNvSpPr/>
          <p:nvPr/>
        </p:nvSpPr>
        <p:spPr>
          <a:xfrm>
            <a:off x="1857240" y="5929200"/>
            <a:ext cx="1500480" cy="642960"/>
          </a:xfrm>
          <a:prstGeom prst="borderCallout1">
            <a:avLst>
              <a:gd name="adj1" fmla="val 18750"/>
              <a:gd name="adj2" fmla="val -8333"/>
              <a:gd name="adj3" fmla="val -21046"/>
              <a:gd name="adj4" fmla="val 185402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EBC-DD18-4017-B580-E3A6674E7E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8:2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